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7CE4-245E-44BD-8E94-F7E7F44117C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6E98-7505-4314-B894-F49C1088ED9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AAC7-6392-4264-B623-AB55BB1E1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7F5D-DAA5-497F-A818-ACF14F40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F68A-56AB-4F65-91C6-DBE33760B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1EDC-4C27-4ECB-B4CD-DDE207F72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7347-127F-4C7C-BB79-B0753758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4325-AA35-4EEF-B0F2-3670EF6F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7B1E-83C7-48A6-B33B-8700A87C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6DD9-93F9-4068-BCDC-CA8AE8C1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14F2-4D21-4E5A-B617-4918B9A5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80A5-4AE4-493A-ADCD-BA49E93B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307C-F21F-41E0-AA5D-9100FA3F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F3DB-6E75-47BB-BB37-3633D6F9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EF31-4F81-4D89-913A-BB783696C9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909720" y="1314360"/>
            <a:ext cx="73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2060"/>
                </a:solidFill>
                <a:latin typeface="华文隶书"/>
                <a:ea typeface="华文隶书"/>
              </a:rPr>
              <a:t>只有一个地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矩形 17"/>
          <p:cNvSpPr/>
          <p:nvPr/>
        </p:nvSpPr>
        <p:spPr>
          <a:xfrm>
            <a:off x="1415520" y="538164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My Documents\diqiu.bmp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838080" y="717480"/>
            <a:ext cx="7632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2060"/>
                </a:solidFill>
                <a:uFillTx/>
                <a:latin typeface="黑体"/>
                <a:ea typeface="黑体"/>
              </a:rPr>
              <a:t>晶莹</a:t>
            </a: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  和蔼可亲    </a:t>
            </a:r>
            <a:r>
              <a:rPr b="1" lang="zh-CN" sz="4000" spc="-1" strike="noStrike" u="sng">
                <a:solidFill>
                  <a:srgbClr val="002060"/>
                </a:solidFill>
                <a:uFillTx/>
                <a:latin typeface="黑体"/>
                <a:ea typeface="黑体"/>
              </a:rPr>
              <a:t>资源</a:t>
            </a: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 u="sng">
                <a:solidFill>
                  <a:srgbClr val="002060"/>
                </a:solidFill>
                <a:uFillTx/>
                <a:latin typeface="黑体"/>
                <a:ea typeface="黑体"/>
              </a:rPr>
              <a:t>矿物</a:t>
            </a: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 u="sng">
                <a:solidFill>
                  <a:srgbClr val="002060"/>
                </a:solidFill>
                <a:uFillTx/>
                <a:latin typeface="黑体"/>
                <a:ea typeface="黑体"/>
              </a:rPr>
              <a:t>恩赐</a:t>
            </a: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  枯竭  </a:t>
            </a:r>
            <a:r>
              <a:rPr b="1" lang="zh-CN" sz="4000" spc="-1" strike="noStrike" u="sng">
                <a:solidFill>
                  <a:srgbClr val="002060"/>
                </a:solidFill>
                <a:uFillTx/>
                <a:latin typeface="黑体"/>
                <a:ea typeface="黑体"/>
              </a:rPr>
              <a:t>滥用</a:t>
            </a: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 u="sng">
                <a:solidFill>
                  <a:srgbClr val="002060"/>
                </a:solidFill>
                <a:uFillTx/>
                <a:latin typeface="黑体"/>
                <a:ea typeface="黑体"/>
              </a:rPr>
              <a:t>威胁</a:t>
            </a: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  目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2060"/>
                </a:solidFill>
                <a:uFillTx/>
                <a:latin typeface="黑体"/>
                <a:ea typeface="黑体"/>
              </a:rPr>
              <a:t>慷慨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移民  破碎  </a:t>
            </a:r>
            <a:r>
              <a:rPr b="1" lang="zh-CN" sz="4000" spc="-1" strike="noStrike" u="sng">
                <a:solidFill>
                  <a:srgbClr val="002060"/>
                </a:solidFill>
                <a:uFillTx/>
                <a:latin typeface="黑体"/>
                <a:ea typeface="黑体"/>
              </a:rPr>
              <a:t>璀璨</a:t>
            </a: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  指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000" y="9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考一考你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31280" y="1089000"/>
            <a:ext cx="871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00"/>
                </a:solidFill>
                <a:latin typeface="Times New Roman"/>
              </a:rPr>
              <a:t>根据下列句子的意思，写出本课中相应的词语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00"/>
                </a:solidFill>
                <a:latin typeface="Times New Roman"/>
              </a:rPr>
              <a:t>1 </a:t>
            </a:r>
            <a:r>
              <a:rPr b="1" lang="zh-CN" sz="4000" spc="-1" strike="noStrike">
                <a:solidFill>
                  <a:srgbClr val="808000"/>
                </a:solidFill>
                <a:latin typeface="Times New Roman"/>
              </a:rPr>
              <a:t>态度温和容易接近。（    ）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00"/>
                </a:solidFill>
                <a:latin typeface="Times New Roman"/>
              </a:rPr>
              <a:t>2 </a:t>
            </a:r>
            <a:r>
              <a:rPr b="1" lang="zh-CN" sz="4000" spc="-1" strike="noStrike">
                <a:solidFill>
                  <a:srgbClr val="808000"/>
                </a:solidFill>
                <a:latin typeface="Times New Roman"/>
              </a:rPr>
              <a:t>用威力威逼恐吓，使人屈服（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808000"/>
                </a:solidFill>
                <a:latin typeface="Times New Roman"/>
              </a:rPr>
              <a:t>过度使用，没有节制。（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26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" descr="C:\My Documents\diqiu.bmp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4935600" y="2658240"/>
            <a:ext cx="121932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8" name="Text Box 4" descr=""/>
          <p:cNvPicPr/>
          <p:nvPr/>
        </p:nvPicPr>
        <p:blipFill>
          <a:blip r:embed="rId2"/>
          <a:stretch/>
        </p:blipFill>
        <p:spPr>
          <a:xfrm>
            <a:off x="241200" y="174600"/>
            <a:ext cx="8434440" cy="16542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601560" y="1687680"/>
            <a:ext cx="854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地球的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美丽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壮观与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渺小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673200" y="2550960"/>
            <a:ext cx="86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地球所拥有的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自然资源有限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644400" y="3429000"/>
            <a:ext cx="847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5—7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人类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无法移居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事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673200" y="4292640"/>
            <a:ext cx="86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四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8—9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号召人类应精心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保护地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808000"/>
                </a:solidFill>
                <a:latin typeface="黑体"/>
                <a:ea typeface="黑体"/>
              </a:rPr>
              <a:t>考一考你</a:t>
            </a:r>
            <a:endParaRPr b="0" lang="en-US" sz="6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0" y="17398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《只有一个地球》是一篇（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文，课文从（           ）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         ）、（               ）这三方面说明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只有一个地球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事实，最后号召人们要（           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6216480" y="1695600"/>
            <a:ext cx="19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说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2438280" y="2184480"/>
            <a:ext cx="288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地球的渺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792000" y="3519360"/>
            <a:ext cx="431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目前人类无法移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93840" y="2984400"/>
            <a:ext cx="32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自然资源有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927000" y="4373640"/>
            <a:ext cx="31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保护地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317160"/>
            <a:ext cx="848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从哪里可以看出地球太“可爱”了？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164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课文原句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01640" y="117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他们在天际遨游时遥望地球，映入眼帘的是一个晶莹透亮的球体，上面蓝色和白色的纹痕相互交错，周围裹着一层薄薄的水蓝色“纱衣”。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地球，这位人类的母亲，这个生命的摇篮，是那样的美丽壮观，和蔼可亲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7168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母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摇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说明地球是是人类及万物生存繁衍的地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课文原文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38120" y="138420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地球是无私的，它向人类慷慨地提供矿产资源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12Y01FBI0-294L"/>
          <p:cNvPicPr/>
          <p:nvPr/>
        </p:nvPicPr>
        <p:blipFill>
          <a:blip r:embed="rId1"/>
          <a:stretch/>
        </p:blipFill>
        <p:spPr>
          <a:xfrm>
            <a:off x="-3240" y="0"/>
            <a:ext cx="916956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6280" y="99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730000"/>
                </a:solidFill>
                <a:latin typeface="Times New Roman"/>
              </a:rPr>
              <a:t>美丽的自然风光</a:t>
            </a:r>
            <a:endParaRPr b="0" lang="en-US" sz="66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0" name="Picture 3" descr="2304-11032611520786"/>
          <p:cNvPicPr/>
          <p:nvPr/>
        </p:nvPicPr>
        <p:blipFill>
          <a:blip r:embed="rId1"/>
          <a:stretch/>
        </p:blipFill>
        <p:spPr>
          <a:xfrm>
            <a:off x="-272880" y="54000"/>
            <a:ext cx="9443880" cy="6796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My Documents\diqiu.bmp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15840" y="-20520"/>
            <a:ext cx="9144000" cy="68371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628560" y="998640"/>
            <a:ext cx="772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</a:rPr>
              <a:t>学习目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</a:rPr>
              <a:t>1 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</a:rPr>
              <a:t>了解有关地球的知识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</a:rPr>
              <a:t>      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</a:rPr>
              <a:t>受到保护环境的教育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</a:rPr>
              <a:t>2 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</a:rPr>
              <a:t>了解作者说明事理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</a:rPr>
              <a:t>      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</a:rPr>
              <a:t>方法；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</a:rPr>
              <a:t>3  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</a:rPr>
              <a:t>学习本课生字新词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75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2" name="Picture 3" descr="2137272"/>
          <p:cNvPicPr/>
          <p:nvPr/>
        </p:nvPicPr>
        <p:blipFill>
          <a:blip r:embed="rId1"/>
          <a:stretch/>
        </p:blipFill>
        <p:spPr>
          <a:xfrm>
            <a:off x="27000" y="54000"/>
            <a:ext cx="9090000" cy="6797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4" name="Picture 3" descr="2137275"/>
          <p:cNvPicPr/>
          <p:nvPr/>
        </p:nvPicPr>
        <p:blipFill>
          <a:blip r:embed="rId1"/>
          <a:stretch/>
        </p:blipFill>
        <p:spPr>
          <a:xfrm>
            <a:off x="-23760" y="-157320"/>
            <a:ext cx="9360000" cy="7016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6" name="Picture 3" descr="5252423_193913690528_2"/>
          <p:cNvPicPr/>
          <p:nvPr/>
        </p:nvPicPr>
        <p:blipFill>
          <a:blip r:embed="rId1"/>
          <a:stretch/>
        </p:blipFill>
        <p:spPr>
          <a:xfrm>
            <a:off x="27000" y="-260280"/>
            <a:ext cx="9424800" cy="706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8" name="Picture 3" descr="2304-11032611520786"/>
          <p:cNvPicPr/>
          <p:nvPr/>
        </p:nvPicPr>
        <p:blipFill>
          <a:blip r:embed="rId1"/>
          <a:stretch/>
        </p:blipFill>
        <p:spPr>
          <a:xfrm>
            <a:off x="0" y="-119160"/>
            <a:ext cx="9507600" cy="701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从哪里可以看出它容易破碎？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371600" y="1600200"/>
            <a:ext cx="7772400" cy="31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自然资源有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不可再生资源面临枯竭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可再生资源遭到破坏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37760" y="2895480"/>
            <a:ext cx="8178840" cy="21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本来”是“原来、先前”的意思，它准确地点明了可再生资源已遭破坏，强调了现在不可再生了，提现了说明文语言的科学性、严谨性。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628560"/>
            <a:ext cx="777240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类生活所需要的水资源、森林资源、生物资源、大气资源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本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可以不断再生，长期给人类做贡献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不可再生资源面临枯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60240" y="1562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据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日《世界能源导报》报道，我国能源资源的形势十分严峻。经探明：煤炭可开采年限为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54~8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年，石油可开采年限为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5~20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年，天然气可开采年限为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8~58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....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随着煤炭等资源开采量的逐年攀升，煤炭开采的实际年限，远远比现实严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可再生资源遭到破坏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60240" y="93960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耕地：每分钟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损失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公顷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，每年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约损失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2100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万公顷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森林：每分钟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消失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21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公顷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，每年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消失约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1100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万公顷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沙漠化：每分钟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有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11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公顷土地沙漠化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，每年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约有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600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万公顷土地沙漠化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污水：每分钟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有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85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万吨污水排入江河大海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，每年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污水排放量约为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4500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亿吨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人：每分钟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有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28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人死于环境污染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，每年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约有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1500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万人死于环境污染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97000" y="-120600"/>
            <a:ext cx="77724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毫无节制地开采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18" name="Picture 3" descr="2006522-48"/>
          <p:cNvPicPr/>
          <p:nvPr/>
        </p:nvPicPr>
        <p:blipFill>
          <a:blip r:embed="rId1"/>
          <a:stretch/>
        </p:blipFill>
        <p:spPr>
          <a:xfrm>
            <a:off x="-193680" y="684360"/>
            <a:ext cx="9388440" cy="680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7360" y="-31680"/>
            <a:ext cx="77724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乱砍滥伐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20" name="Picture 3" descr="8aec8a133c10d1e2f7039e0e"/>
          <p:cNvPicPr/>
          <p:nvPr/>
        </p:nvPicPr>
        <p:blipFill>
          <a:blip r:embed="rId1"/>
          <a:stretch/>
        </p:blipFill>
        <p:spPr>
          <a:xfrm>
            <a:off x="117360" y="1203480"/>
            <a:ext cx="8999640" cy="554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My Documents\diqiu.bmp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3704400" y="1224000"/>
            <a:ext cx="173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生字</a:t>
            </a:r>
            <a:r>
              <a:rPr b="0" lang="zh-CN" sz="6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581120" y="2619360"/>
            <a:ext cx="598176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33cc"/>
                </a:solidFill>
                <a:uFillTx/>
                <a:latin typeface="Times New Roman"/>
                <a:hlinkClick r:id="rId2" action="ppaction://hlinksldjump"/>
              </a:rPr>
              <a:t>蔼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zh-CN" sz="5400" spc="-1" strike="noStrike" u="sng">
                <a:solidFill>
                  <a:srgbClr val="0033cc"/>
                </a:solidFill>
                <a:uFillTx/>
                <a:latin typeface="Times New Roman"/>
                <a:hlinkClick r:id="rId3" action="ppaction://hlinksldjump"/>
              </a:rPr>
              <a:t>赐  竭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   滥   </a:t>
            </a:r>
            <a:r>
              <a:rPr b="0" lang="zh-CN" sz="5400" spc="-1" strike="noStrike" u="sng">
                <a:solidFill>
                  <a:srgbClr val="0033cc"/>
                </a:solidFill>
                <a:uFillTx/>
                <a:latin typeface="Times New Roman"/>
                <a:hlinkClick r:id="rId4" action="ppaction://hlinksldjump"/>
              </a:rPr>
              <a:t>裹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zh-CN" sz="5400" spc="-1" strike="noStrike" u="sng">
                <a:solidFill>
                  <a:srgbClr val="0033cc"/>
                </a:solidFill>
                <a:uFillTx/>
                <a:latin typeface="Times New Roman"/>
                <a:hlinkClick r:id="rId5" action="ppaction://hlinksldjump"/>
              </a:rPr>
              <a:t>慷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zh-CN" sz="5400" spc="-1" strike="noStrike" u="sng">
                <a:solidFill>
                  <a:srgbClr val="0033cc"/>
                </a:solidFill>
                <a:uFillTx/>
                <a:latin typeface="Times New Roman"/>
                <a:hlinkClick r:id="rId6" action="ppaction://hlinksldjump"/>
              </a:rPr>
              <a:t>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33cc"/>
                </a:solidFill>
                <a:uFillTx/>
                <a:latin typeface="Times New Roman"/>
                <a:hlinkClick r:id="rId7" action="ppaction://hlinksldjump"/>
              </a:rPr>
              <a:t>胁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zh-CN" sz="5400" spc="-1" strike="noStrike" u="sng">
                <a:solidFill>
                  <a:srgbClr val="0033cc"/>
                </a:solidFill>
                <a:uFillTx/>
                <a:latin typeface="Times New Roman"/>
                <a:hlinkClick r:id="rId8" action="ppaction://hlinksldjump"/>
              </a:rPr>
              <a:t>睹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zh-CN" sz="5400" spc="-1" strike="noStrike" u="sng">
                <a:solidFill>
                  <a:srgbClr val="0033cc"/>
                </a:solidFill>
                <a:uFillTx/>
                <a:latin typeface="Times New Roman"/>
                <a:hlinkClick r:id="rId9" action="ppaction://hlinksldjump"/>
              </a:rPr>
              <a:t>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75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25"/>
                            </p:stCondLst>
                            <p:childTnLst>
                              <p:par>
                                <p:cTn id="23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75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628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大肆捕杀，血流成河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22" name="Picture 3" descr="Img318605889"/>
          <p:cNvPicPr/>
          <p:nvPr/>
        </p:nvPicPr>
        <p:blipFill>
          <a:blip r:embed="rId1"/>
          <a:stretch/>
        </p:blipFill>
        <p:spPr>
          <a:xfrm>
            <a:off x="-58680" y="1359000"/>
            <a:ext cx="9221760" cy="5511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7360" y="9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可怕的大气污染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24" name="Picture 3" descr="10042822206b8f56e5150265a6"/>
          <p:cNvPicPr/>
          <p:nvPr/>
        </p:nvPicPr>
        <p:blipFill>
          <a:blip r:embed="rId1"/>
          <a:stretch/>
        </p:blipFill>
        <p:spPr>
          <a:xfrm>
            <a:off x="117360" y="1044720"/>
            <a:ext cx="8955360" cy="571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6280" y="-120600"/>
            <a:ext cx="77724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水污染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26" name="Picture 3" descr="20050405142508d41d8"/>
          <p:cNvPicPr/>
          <p:nvPr/>
        </p:nvPicPr>
        <p:blipFill>
          <a:blip r:embed="rId1"/>
          <a:stretch/>
        </p:blipFill>
        <p:spPr>
          <a:xfrm>
            <a:off x="73080" y="909720"/>
            <a:ext cx="9043920" cy="7716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27040" y="311796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万亿千米”直观地表面了范围之大，达到人类无法到达。“至少”，“最少”的意思，强调了目前的研究成果还只限于这个范围。“第二个”，强调了地球对于人类的重要性。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27040" y="40608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科学家已经证明，至少在以地球为中心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万亿千米的范围内，没有适合人类居住的第二个星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文本框 2"/>
          <p:cNvSpPr/>
          <p:nvPr/>
        </p:nvSpPr>
        <p:spPr>
          <a:xfrm>
            <a:off x="84240" y="511812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2700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只有一个地球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97000" y="1268280"/>
            <a:ext cx="85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只有一个地球，如果它被破坏了，我们别无去处。如果地球上的各种资源都枯竭了，我们很难从别的地方得到补充。我们要精心保护地球，保护地球的生态环境。让地球更好地造福我们的子孙后代吧！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0033cc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cc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33cc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cc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33cc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cc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33cc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cc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2EE6-8B22-484A-9D5C-07A6BD2F81F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My Documents\diqiu.bmp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1130400" y="954000"/>
            <a:ext cx="68166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800" spc="-1" strike="noStrike">
                <a:solidFill>
                  <a:srgbClr val="ff0000"/>
                </a:solidFill>
                <a:latin typeface="Times New Roman"/>
              </a:rPr>
              <a:t>ɡuǒ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800" spc="-1" strike="noStrike">
                <a:solidFill>
                  <a:srgbClr val="ff0000"/>
                </a:solidFill>
                <a:latin typeface="Times New Roman"/>
              </a:rPr>
              <a:t>裹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800" spc="-1" strike="noStrike">
                <a:solidFill>
                  <a:srgbClr val="ff0000"/>
                </a:solidFill>
                <a:latin typeface="Times New Roman"/>
              </a:rPr>
              <a:t>裹着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地球周围裹着一层薄薄的“纱 衣”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75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19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C:\My Documents\diqiu.bmp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2571120" y="998640"/>
            <a:ext cx="40014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800" spc="-1" strike="noStrike">
                <a:solidFill>
                  <a:srgbClr val="ff0000"/>
                </a:solidFill>
                <a:latin typeface="Times New Roman"/>
              </a:rPr>
              <a:t>kānɡ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800" spc="-1" strike="noStrike">
                <a:solidFill>
                  <a:srgbClr val="ff0000"/>
                </a:solidFill>
                <a:latin typeface="Times New Roman"/>
              </a:rPr>
              <a:t>慷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800" spc="-1" strike="noStrike">
                <a:solidFill>
                  <a:srgbClr val="ff0000"/>
                </a:solidFill>
                <a:latin typeface="Times New Roman"/>
              </a:rPr>
              <a:t>慷慨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地球向人类慷慨地提供矿产资源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75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My Documents\diqiu.bmp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2254320" y="1106640"/>
            <a:ext cx="1839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495520" y="909720"/>
            <a:ext cx="142884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800" spc="-1" strike="noStrike">
                <a:solidFill>
                  <a:srgbClr val="a50021"/>
                </a:solidFill>
                <a:latin typeface="Times New Roman"/>
              </a:rPr>
              <a:t>Kǎi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800" spc="-1" strike="noStrike">
                <a:solidFill>
                  <a:srgbClr val="a50021"/>
                </a:solidFill>
                <a:latin typeface="Times New Roman"/>
              </a:rPr>
              <a:t>慨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800" spc="-1" strike="noStrike">
                <a:solidFill>
                  <a:srgbClr val="a50021"/>
                </a:solidFill>
                <a:latin typeface="Times New Roman"/>
              </a:rPr>
              <a:t>慷慨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2647440" y="453240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地球向人类慷慨地提供矿产资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My Documents\diqiu.bmp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2623320" y="1449360"/>
            <a:ext cx="310680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800" spc="-1" strike="noStrike">
                <a:solidFill>
                  <a:srgbClr val="ff0000"/>
                </a:solidFill>
                <a:latin typeface="Times New Roman"/>
              </a:rPr>
              <a:t>xié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800" spc="-1" strike="noStrike">
                <a:solidFill>
                  <a:srgbClr val="ff0000"/>
                </a:solidFill>
                <a:latin typeface="Times New Roman"/>
              </a:rPr>
              <a:t>胁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800" spc="-1" strike="noStrike">
                <a:solidFill>
                  <a:srgbClr val="ff0000"/>
                </a:solidFill>
                <a:latin typeface="Times New Roman"/>
              </a:rPr>
              <a:t>威胁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人们随意随意损坏自然资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给人类生存带来严重威胁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My Documents\diqiu.bmp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4"/>
          <p:cNvSpPr/>
          <p:nvPr/>
        </p:nvSpPr>
        <p:spPr>
          <a:xfrm>
            <a:off x="2158920" y="1763640"/>
            <a:ext cx="3204000" cy="35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dǔ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宇航员目睹了地球的美丽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My Documents\diqiu.bmp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5"/>
          <p:cNvSpPr/>
          <p:nvPr/>
        </p:nvSpPr>
        <p:spPr>
          <a:xfrm>
            <a:off x="2169000" y="1538280"/>
            <a:ext cx="4081680" cy="37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iǎ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渺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同宇宙相比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球是渺小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4T02:14:5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3:08Z</dcterms:modified>
  <cp:revision>3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