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780-31C6-4079-9527-10AF99CAF9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2.xml"/><Relationship Id="rId24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FE29-90FA-4FE7-BE1B-6CC1F123F9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5CA-64F5-4195-9980-2C21874E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CFF-3456-42A6-9939-8A310B37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BB1-1FA0-483B-8B4D-53E8ABB7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92E-DC6B-449B-AB6D-7FF0E955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744-E7BB-4682-ABBF-25C4B0C7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859-1029-4375-BAFD-198CD0F4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AC0-6431-4DC3-8E27-BA77C0E6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32C-CC4E-432B-B926-5F8404DE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EA6-E950-4CE3-A599-B8226633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485-4472-4A9C-B7AB-0D61F8D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F8C-BF34-4D63-9A9F-BFDEC2F2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32E-3012-4090-B23D-3ABC2D32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7DB8-7DF5-4633-A616-55A2FAB96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51600" cy="13240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4" descr=""/>
          <p:cNvPicPr/>
          <p:nvPr/>
        </p:nvPicPr>
        <p:blipFill>
          <a:blip r:embed="rId2"/>
          <a:stretch/>
        </p:blipFill>
        <p:spPr>
          <a:xfrm>
            <a:off x="272880" y="5888160"/>
            <a:ext cx="65739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tianzigez"/>
          <p:cNvPicPr/>
          <p:nvPr/>
        </p:nvPicPr>
        <p:blipFill>
          <a:blip r:embed="rId1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疟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581280" y="609480"/>
            <a:ext cx="19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nü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3011400" y="16765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tianzigez"/>
          <p:cNvPicPr/>
          <p:nvPr/>
        </p:nvPicPr>
        <p:blipFill>
          <a:blip r:embed="rId1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疾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581280" y="609480"/>
            <a:ext cx="19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52280" y="77760"/>
            <a:ext cx="8991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99"/>
                </a:solidFill>
                <a:latin typeface="Arial"/>
                <a:ea typeface="楷体_GB2312"/>
              </a:rPr>
              <a:t>着急      腹泻      呕吐           泥坑   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99"/>
                </a:solidFill>
                <a:latin typeface="Arial"/>
                <a:ea typeface="楷体_GB2312"/>
              </a:rPr>
              <a:t>抵抗      疗伤      牙龈炎       面颊 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99"/>
                </a:solidFill>
                <a:latin typeface="Arial"/>
                <a:ea typeface="楷体_GB2312"/>
              </a:rPr>
              <a:t>唾液      细菌       疟疾          咀嚼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99"/>
                </a:solidFill>
                <a:latin typeface="Arial"/>
                <a:ea typeface="楷体_GB2312"/>
              </a:rPr>
              <a:t>奥秘    奎宁     金鸡纳树   沾满泥浆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57200" y="38534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然界里，动物和人一样，也会生病的。可是，没有医院，没有医生，也没有药物，怎么办呢？别着［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zhá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］急，各种动物都有自己的治病妙法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11280" y="53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课文讲了动物们得了什么疾病？分别用什么方法治愈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50760" y="1405800"/>
            <a:ext cx="901692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大熊猫患（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huàn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了肠炎，腹（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fù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泻（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xiè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不止，就去寻找一些鲜嫩的青草吃，然后不停地呕吐［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tù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］。以吐治泻，这就是熊猫对付肠胃（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wèi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病的法子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有时，野猪会在泥坑里打滚，让身上粘满泥浆，它是贪玩吗？不是，它是用泥巴把伤口“包扎”起来，使伤口与外界隔离，然后靠自身的抵抗力治疗（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liáo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伤口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　　猩（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xīnɡ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猩要是患上牙龈（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yín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炎，会像人们贴膏药一样，把烂泥糊在面颊（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jiá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上。看来这烂泥还能消炎止痛，很管用啊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04920" y="152316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老虎受伤后就不用泥巴了，它会伸出舌头去舔伤口，让唾液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y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杀死细菌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jū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。这样，伤口就不会感染发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 生长在热带丛林中的猿猴，患上了疟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nü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疾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j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，全身就会感到寒冷战栗，这时，它就去咀嚼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ju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金鸡纳树的树皮。这样，病就会慢慢好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80880" y="3352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瞧，野生动物不也是出色的医生吗？它们治病的方法，虽然看上去很简单，但是既实用，又有趣。人类还从它们那里得到启发，发现了不少医疗的奥秘。现在，用来治疗疟疾的奎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ku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宁，就是从金鸡纳树的树皮中提取的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957320" y="68580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你觉得这些动物们治病的方法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1295280"/>
            <a:ext cx="685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动物治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办法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1219320" y="160020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805040" y="144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熊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557520" y="144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腹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462640" y="1447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以吐治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600200" y="2286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野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57520" y="228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受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462640" y="2286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泥巴包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805040" y="3168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猩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405240" y="3168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牙龈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62640" y="3168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烂泥糊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1805040" y="4038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老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3557520" y="4038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受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462640" y="4038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唾液杀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805040" y="4800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猿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557520" y="4800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疟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395320" y="47912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咀嚼树皮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7543800" y="1600200"/>
            <a:ext cx="228600" cy="3733920"/>
          </a:xfrm>
          <a:custGeom>
            <a:avLst/>
            <a:gdLst>
              <a:gd name="textAreaLeft" fmla="*/ 0 w 228600"/>
              <a:gd name="textAreaRight" fmla="*/ 8244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7848720" y="1600200"/>
            <a:ext cx="68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既实用又有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DFE2-DAE8-4E1D-BFAC-0AB1A88EBF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tianzigez"/>
          <p:cNvPicPr/>
          <p:nvPr/>
        </p:nvPicPr>
        <p:blipFill>
          <a:blip r:embed="rId1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患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581280" y="609480"/>
            <a:ext cx="19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huà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681120" y="570708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tianzigez"/>
          <p:cNvPicPr/>
          <p:nvPr/>
        </p:nvPicPr>
        <p:blipFill>
          <a:blip r:embed="rId1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腹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581280" y="609480"/>
            <a:ext cx="19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f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tianzigez"/>
          <p:cNvPicPr/>
          <p:nvPr/>
        </p:nvPicPr>
        <p:blipFill>
          <a:blip r:embed="rId1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泻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581280" y="609480"/>
            <a:ext cx="19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xi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ianzigez"/>
          <p:cNvPicPr/>
          <p:nvPr/>
        </p:nvPicPr>
        <p:blipFill>
          <a:blip r:embed="rId1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胃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581280" y="609480"/>
            <a:ext cx="19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wè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ianzigez"/>
          <p:cNvPicPr/>
          <p:nvPr/>
        </p:nvPicPr>
        <p:blipFill>
          <a:blip r:embed="rId1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疗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581280" y="609480"/>
            <a:ext cx="19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liáo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tianzigez"/>
          <p:cNvPicPr/>
          <p:nvPr/>
        </p:nvPicPr>
        <p:blipFill>
          <a:blip r:embed="rId1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猩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581280" y="609480"/>
            <a:ext cx="19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xīnɡ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tianzigez"/>
          <p:cNvPicPr/>
          <p:nvPr/>
        </p:nvPicPr>
        <p:blipFill>
          <a:blip r:embed="rId1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液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581280" y="609480"/>
            <a:ext cx="19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y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ianzigez"/>
          <p:cNvPicPr/>
          <p:nvPr/>
        </p:nvPicPr>
        <p:blipFill>
          <a:blip r:embed="rId1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菌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581280" y="609480"/>
            <a:ext cx="19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ū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8:29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3:44Z</dcterms:modified>
  <cp:revision>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