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B423-5C32-4C76-BE78-3AB47AEBDC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2F87-8655-4550-B79B-A2D5DA39E9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DB7-D85E-4416-B965-DE2B96CD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886-6971-479D-926A-10DBC237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BC1-21BA-41CA-A03B-EEAC97CC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E9D-B9B1-4D29-B971-C62D531C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CE0-69DE-445F-A5A6-7246100D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026-8F97-4CC0-9774-0FAE2E4D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0B4-BF70-463C-B425-30E2B93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7A0-B437-432E-A39E-815D190B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25F-45E4-4E31-A996-98833265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5A9-CA79-443C-B843-B7F3948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460-81CA-4440-AD64-66BD97BB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B68-8B05-4448-8ACE-72583121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31FA-4F76-4616-BFDF-96F7A791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物治病办法多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2700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3957b800774d351c1c9583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大猩猩"/>
          <p:cNvPicPr/>
          <p:nvPr/>
        </p:nvPicPr>
        <p:blipFill>
          <a:blip r:embed="rId1"/>
          <a:stretch/>
        </p:blipFill>
        <p:spPr>
          <a:xfrm>
            <a:off x="1600200" y="1066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大猩猩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老虎"/>
          <p:cNvPicPr/>
          <p:nvPr/>
        </p:nvPicPr>
        <p:blipFill>
          <a:blip r:embed="rId1"/>
          <a:stretch/>
        </p:blipFill>
        <p:spPr>
          <a:xfrm>
            <a:off x="1905120" y="0"/>
            <a:ext cx="4352760" cy="65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老虎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老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白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猿猴2"/>
          <p:cNvPicPr/>
          <p:nvPr/>
        </p:nvPicPr>
        <p:blipFill>
          <a:blip r:embed="rId1"/>
          <a:stretch/>
        </p:blipFill>
        <p:spPr>
          <a:xfrm>
            <a:off x="1943280" y="533520"/>
            <a:ext cx="44193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72dd7c863668372467096ed4"/>
          <p:cNvPicPr/>
          <p:nvPr/>
        </p:nvPicPr>
        <p:blipFill>
          <a:blip r:embed="rId1"/>
          <a:stretch/>
        </p:blipFill>
        <p:spPr>
          <a:xfrm>
            <a:off x="1143000" y="8380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008714113629174"/>
          <p:cNvPicPr/>
          <p:nvPr/>
        </p:nvPicPr>
        <p:blipFill>
          <a:blip r:embed="rId1"/>
          <a:stretch/>
        </p:blipFill>
        <p:spPr>
          <a:xfrm>
            <a:off x="0" y="0"/>
            <a:ext cx="9144000" cy="699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会写课文生字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、流利有感情的地朗读课文；区分疑问句、反问句和设问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动物的治病方法，体会大自然的神奇，激发探索大自然的欲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收集有关的动物资料，观察、自读自悟，反复朗读，了解课文告诉我们的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6858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习课文，理解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物治疗疾病的方法真有意思。你们就在课文里找出描写这些动物治病的部分读一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同学们提出疑问，老师带领大家朗读课文，找出答案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你觉得大熊猫治病的办法好吗？好在哪儿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谁愿意把描写大熊猫的这一段读读呀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同学们，我们就一起去看看大熊猫是怎样治病的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你觉得野猪打滚有趣吗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野猪打滚是怎样治病的呢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请同学们看看书，听老师读第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谁愿意把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读一读呀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没有人觉得猩猩的方法好呀？好在哪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意思吧！你能读出课文的有趣吗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下面我们来一起读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吧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老虎和猿猴是怎样治病的？谁能讲讲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看来几种动物治病的方法都非常好，让我们大家有感请地把这几段连起来读一遍吧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结提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课文中的反问句、设问句、疑问句，读一读，说说它们有什么区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课外扩展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我们知道大自然的动物千千万万，动物治病的方法还有吗？那就把你收集到的说说吧！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儿知道的？对，我们不仅应在课堂学习学习、收获知识，还应该在课外通过上网、上图书馆等方式来扩展自己的知识面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>
            <a:off x="2133720" y="2819520"/>
            <a:ext cx="4343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C727-6537-44D6-A8CA-35BD1489F9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1760" y="14479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顺生字、新词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来开火车把生字、新词读一下，看看哪列火车准备好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66680" y="1980720"/>
            <a:ext cx="70106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患  腹  泻  胃  疗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猩  液  菌  虐  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3124080" y="31082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107800" y="60804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们初读课文，再来看看课文说说他们是如何治病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74"/>
          <p:cNvPicPr/>
          <p:nvPr/>
        </p:nvPicPr>
        <p:blipFill>
          <a:blip r:embed="rId1"/>
          <a:stretch/>
        </p:blipFill>
        <p:spPr>
          <a:xfrm>
            <a:off x="409680" y="1144440"/>
            <a:ext cx="419400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75"/>
          <p:cNvPicPr/>
          <p:nvPr/>
        </p:nvPicPr>
        <p:blipFill>
          <a:blip r:embed="rId2"/>
          <a:stretch/>
        </p:blipFill>
        <p:spPr>
          <a:xfrm>
            <a:off x="4575240" y="1182600"/>
            <a:ext cx="427680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440" y="2819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师这里有几幅图，谁愿意说说它们是如何治病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大熊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大熊猫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野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3:19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48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