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DB3B-900C-4300-862E-BF3530D799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02F6-37EA-4F46-B8E7-A14E4C3688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132-42D4-41B4-981E-371DC51C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DDF-1C24-45D2-B2E7-8B5A001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0DA-BB97-43E9-997C-157BF356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952-8530-4D0E-9018-B02AD02D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A7E-4ACF-42C7-B9A1-65275F9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7AC-F3AC-4E4F-ACA2-C618D44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983-1567-4FBD-8781-C236C5BD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45B-ED18-46BF-B6A8-E48C935C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5C0-0EC3-4958-B80F-96D4AC2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799-E277-413B-A75A-4B4B495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006-9F6F-43A6-8448-72AFE8C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64B-64D4-4B17-9506-5E2BFC4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FA4-61A1-4841-8295-918243F5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18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Arial"/>
                <a:ea typeface="隶书"/>
              </a:rPr>
              <a:t>负荆请罪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842840" y="5830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271600" y="2328840"/>
            <a:ext cx="4608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549000"/>
            <a:ext cx="8820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哈哈哈，廉将军，您能明白我的心思，我实在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太高兴了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！韩 勃，快叫人准备筵席，我要跟廉将军痛痛快快地饮几杯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907920"/>
            <a:ext cx="91440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这样的两个著名的历史人物，我们可以用这样一组成语来形容他们，一起读读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廉颇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知错能改，迷途知返；负荆请罪，      痛改前非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蔺相如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顾全大局，宽容大度；深明大义，       一心为国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他们的这种亲密合作的情形，可以用以下成语来形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亲密无间、志同道合、同心协力、风雨同舟、肝胆相照、生死与共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88920" y="532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上联：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廉颇知错负荆请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下联：（              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636-012C-401B-9868-078CA06F24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2280" y="1773360"/>
            <a:ext cx="4518000" cy="465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6360" y="1628640"/>
            <a:ext cx="370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读了剧本的第一幕，廉颇和蔺相如给你留下了怎样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986280" cy="410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859280" y="692280"/>
            <a:ext cx="428472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隶书"/>
              </a:rPr>
              <a:t>廉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肚鸡肠、心胸狭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傲慢无礼、自私自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争名夺利、居功自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盛气凌人、耀武扬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隶书"/>
              </a:rPr>
              <a:t>蔺相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忍辱负重、心胸宽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顾全大局、大公无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宽容大度、一心为国</a:t>
            </a:r>
            <a:r>
              <a:rPr b="0" lang="zh-CN" sz="32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大声朗读剧本的第二幕，廉颇和蔺相如又给你留下什么样的印象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78920" y="476280"/>
            <a:ext cx="9145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〔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幕启。几天以后。蔺相如在客厅踱步。一会儿，韩勃匆匆走上。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〕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韩 勃 ：（紧张地）大人！大人！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蔺相如 ：什么事？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韩 勃 ：廉将军来了！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蔺相如 ：（奇怪地）什么，廉将军来找我？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韩 勃 ：廉将军他没穿上衣，还背着一根荆条呢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蔺相如 ：快请廉将军进来！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韩 勃 ：是！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3924360" y="400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读书贵在得法，下面请大家拿出笔来，运用我们刚才所学到的方法，读读剧本第二幕剩下的内容，一边读一边动笔给没有小括号和提示语的地方添上小括号和提示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（即使有小括号和提示语的地方，你也可以写出你自己的理解、感受。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蔺大人，请您用这根荆条</a:t>
            </a:r>
            <a:r>
              <a:rPr b="0" lang="zh-CN" sz="6600" spc="-1" strike="noStrike">
                <a:solidFill>
                  <a:srgbClr val="cc00cc"/>
                </a:solidFill>
                <a:latin typeface="Arial"/>
                <a:ea typeface="隶书"/>
              </a:rPr>
              <a:t>狠狠地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抽我一顿吧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蔺大人，请你宽恕我这个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老迈昏庸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的人吧！我常常在别人面前侮辱你。现在，我知道，那完全是我的过错。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宋体"/>
              </a:rPr>
              <a:t>蔺大人，最初我还以为您是怕我哩，后来经人提醒，才明白您这样做完全是为我们赵国着想。您真是一个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  <a:ea typeface="华文宋体"/>
              </a:rPr>
              <a:t>深明大义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宋体"/>
              </a:rPr>
              <a:t>、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  <a:ea typeface="华文宋体"/>
              </a:rPr>
              <a:t>宽容大度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宋体"/>
              </a:rPr>
              <a:t>的人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49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0:3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