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F423-EC46-4897-B4FB-C55496E0F8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FC8E-6AD0-4000-B6F3-81917F1F4DA0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407-4486-42BC-A2D1-830AABB7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2A3-E7E2-40CC-84A7-CB10068A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C41-E917-473B-9442-65A23979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92C-E7F8-4BFA-BE13-3D40A43C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2540-6D6B-4683-9393-4458242E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1E37-EDCF-4279-A7C0-67FA3ADB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9B0C-BCCB-4885-B99B-D758D647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81E4-EFB2-44EA-B4E2-0C9D0016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FCB1-F3E0-4033-BE9B-6C62754E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F113-897C-4258-AF9A-E3CAA46E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025D-A49A-4200-8DA0-80538FF3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EFF-F185-4509-AD3D-0042E12E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F004-B597-42A4-AC6F-9B51A4E1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8B7F-D25C-4120-81B2-4414521D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8A92-8FA9-44FC-ABA7-A7C760FD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25A7-7A12-49F2-9C12-4109FAC6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A055-5A39-436B-9721-9C65E3FF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969-7FA5-4C86-A0BE-C4DFBE32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49D-32DC-45F3-B3DF-32483AD0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60A-E024-464B-A1BE-D93F8BD3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AF1-2B77-4B0C-8F61-DCC5A96C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CDC-A9D7-47B9-850F-CDEA3A65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1FA-87F9-4A16-B990-F02E3246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90C-27C2-4615-B970-BA73FA09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908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51FA-7E30-444E-B3E5-54F1CDD827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1E4C-ECEA-4A35-9F5E-7156B42C9B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06440" y="2852640"/>
            <a:ext cx="2673360" cy="3630600"/>
          </a:xfrm>
          <a:prstGeom prst="rect">
            <a:avLst/>
          </a:prstGeom>
          <a:ln w="0">
            <a:noFill/>
          </a:ln>
        </p:spPr>
      </p:pic>
      <p:sp>
        <p:nvSpPr>
          <p:cNvPr id="92" name="标题 1"/>
          <p:cNvSpPr/>
          <p:nvPr/>
        </p:nvSpPr>
        <p:spPr>
          <a:xfrm>
            <a:off x="2843280" y="1123920"/>
            <a:ext cx="554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7030a0"/>
                </a:solidFill>
                <a:latin typeface="微软雅黑"/>
                <a:ea typeface="微软雅黑"/>
              </a:rPr>
              <a:t>风雪重围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2935800" y="5651640"/>
            <a:ext cx="57218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1840" y="3428640"/>
            <a:ext cx="8285400" cy="27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敌人既</a:t>
            </a:r>
            <a:r>
              <a:rPr b="1" lang="zh-CN" sz="40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害怕、痛恨</a:t>
            </a:r>
            <a:r>
              <a:rPr b="1" lang="zh-CN" sz="40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，又</a:t>
            </a:r>
            <a:r>
              <a:rPr b="1" lang="zh-CN" sz="40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不得不佩服</a:t>
            </a:r>
            <a:r>
              <a:rPr b="1" lang="zh-CN" sz="40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。体现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杨靖宇崇高的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革命意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顽强不屈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战斗精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-106200" y="2565360"/>
            <a:ext cx="96818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思考：你该怎样朗读这些句子？你有什么感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内容占位符 2"/>
          <p:cNvSpPr/>
          <p:nvPr/>
        </p:nvSpPr>
        <p:spPr>
          <a:xfrm>
            <a:off x="106200" y="187200"/>
            <a:ext cx="878868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后来，日寇把杨靖宇的腹部剖开，他的肠胃里</a:t>
            </a:r>
            <a:r>
              <a:rPr b="1" lang="zh-CN" sz="40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只有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草根、树皮和棉花，</a:t>
            </a:r>
            <a:r>
              <a:rPr b="1" lang="zh-CN" sz="40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没有一粒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粮食。日军指挥官</a:t>
            </a:r>
            <a:r>
              <a:rPr b="1" lang="zh-CN" sz="40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咬牙切齿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地说：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  <a:ea typeface="方正粗圆简体"/>
              </a:rPr>
              <a:t>“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算他是中国的一条好汉！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  <a:ea typeface="方正粗圆简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432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939</a:t>
            </a:r>
            <a:r>
              <a:rPr b="1" lang="zh-CN" sz="4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年冬</a:t>
            </a:r>
            <a:r>
              <a:rPr b="1" lang="zh-CN" sz="48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，杨靖宇率领</a:t>
            </a:r>
            <a:r>
              <a:rPr b="1" lang="zh-CN" sz="4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抗联第一路军</a:t>
            </a:r>
            <a:r>
              <a:rPr b="1" lang="zh-CN" sz="48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活动在</a:t>
            </a:r>
            <a:r>
              <a:rPr b="1" lang="zh-CN" sz="4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临江一带</a:t>
            </a:r>
            <a:r>
              <a:rPr b="1" lang="zh-CN" sz="48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932360" y="1339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汉仪雁翎体简"/>
                <a:ea typeface="汉仪雁翎体简"/>
              </a:rPr>
              <a:t>交代时间，人物，地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-179640" y="187200"/>
            <a:ext cx="594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部队冒着风雪，转战了一个冬季，先后歼灭了数千日伪军，年底，退向东部山区。此时，日本帝国主义为了巩固后方，调动了数十万兵力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方正粗圆简体"/>
              </a:rPr>
              <a:t>“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讨伐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方正粗圆简体"/>
              </a:rPr>
              <a:t>”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抗日联军。在这种情况下，杨靖宇把部队化分成一支支小分队，零散潜伏在各山林地带，跟敌人进行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方正粗圆简体"/>
              </a:rPr>
              <a:t>“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麻雀战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方正粗圆简体"/>
              </a:rPr>
              <a:t>”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。日军围剿了两个多月，也没有找到杨靖宇的队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748480" y="1216080"/>
            <a:ext cx="2528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汉仪雁翎体简"/>
                <a:ea typeface="汉仪雁翎体简"/>
              </a:rPr>
              <a:t>介绍战斗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79280" y="285480"/>
            <a:ext cx="43164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1940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年</a:t>
            </a:r>
            <a:r>
              <a:rPr b="1" lang="en-US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2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月的一天，杨靖宇带着十几个人，来到漾江以东的山林。这里是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一望无际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的大森林，地上铺着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三尺多深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的积雪，周围几十里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没有人烟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。他们把仅有的一点苞米面饼子做成稀饭吃，砍了些树枝铺在雪地上就睡下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788000" y="692280"/>
            <a:ext cx="431784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汉仪雁翎体简"/>
                <a:ea typeface="汉仪雁翎体简"/>
              </a:rPr>
              <a:t>描写自然环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汉仪雁翎体简"/>
                <a:ea typeface="汉仪雁翎体简"/>
              </a:rPr>
              <a:t>森林之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汉仪雁翎体简"/>
                <a:ea typeface="汉仪雁翎体简"/>
              </a:rPr>
              <a:t>积雪之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汉仪雁翎体简"/>
                <a:ea typeface="汉仪雁翎体简"/>
              </a:rPr>
              <a:t>荒芜人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条件艰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77480" y="331920"/>
            <a:ext cx="546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杨靖宇马上命令大家转移。刚走了半里路，就发现了日本兵，他们像一群</a:t>
            </a:r>
            <a:r>
              <a:rPr b="1" lang="zh-CN" sz="44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饿狼</a:t>
            </a:r>
            <a:r>
              <a:rPr b="1" lang="zh-CN" sz="44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，在林子里</a:t>
            </a:r>
            <a:r>
              <a:rPr b="1" lang="zh-CN" sz="44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紧紧追赶</a:t>
            </a:r>
            <a:r>
              <a:rPr b="1" lang="zh-CN" sz="44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。杨靖宇带着战士边走边打，几天之后，他的身边</a:t>
            </a:r>
            <a:r>
              <a:rPr b="1" lang="zh-CN" sz="44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只剩下了几个人</a:t>
            </a:r>
            <a:r>
              <a:rPr b="1" lang="zh-CN" sz="44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508360" y="979560"/>
            <a:ext cx="546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汉仪雁翎体简"/>
                <a:ea typeface="汉仪雁翎体简"/>
              </a:rPr>
              <a:t>形势严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77480" y="547560"/>
            <a:ext cx="482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一天下午，敌人发现了他们，又追赶上来。傍晚，杨靖宇带着五个人，来到了一个靠近林中小路的地方，他们</a:t>
            </a:r>
            <a:r>
              <a:rPr b="1" lang="zh-CN" sz="40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不敢生火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，在雪地里蹲了一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221440" y="1413000"/>
            <a:ext cx="482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汉仪雁翎体简"/>
                <a:ea typeface="汉仪雁翎体简"/>
              </a:rPr>
              <a:t>环境危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-106200" y="260280"/>
            <a:ext cx="65512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第二天一早，传令兵出去探听情况，遇上一个伐木工人，他想到司令员衣服单薄，就说服这个工人，花钱买下了他的旧皮袄。杨靖宇见传令兵手里拿着一件旧皮袄，马上严肃地问：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方正粗圆简体"/>
              </a:rPr>
              <a:t>“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哪里弄来的？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是不是违犯了纪律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？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方正粗圆简体"/>
              </a:rPr>
              <a:t>”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传令兵说明是买来的之后，杨靖宇的态度才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缓和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下来，便把那件皮袄给一个伤员披上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445080" y="1628640"/>
            <a:ext cx="345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汉仪雁翎体简"/>
                <a:ea typeface="汉仪雁翎体简"/>
              </a:rPr>
              <a:t>军纪严明，关心同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4560" y="619200"/>
            <a:ext cx="54738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中午时分，敌人从四面八方包围上来，他们采取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方正粗圆简体"/>
              </a:rPr>
              <a:t>“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拉网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方正粗圆简体"/>
              </a:rPr>
              <a:t>”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战术，一棵树一棵树往前搜，情况十分危急，杨靖宇便要大家分散突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大家听说要分开，有的哭了起来，有的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坚决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地说：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方正粗圆简体"/>
              </a:rPr>
              <a:t>“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要死也要死在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一块儿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，我们要和司令员在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一起</a:t>
            </a:r>
            <a:r>
              <a:rPr b="1" lang="zh-CN" sz="36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！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方正粗圆简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724000" y="1555920"/>
            <a:ext cx="310212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汉仪雁翎体简"/>
                <a:ea typeface="汉仪雁翎体简"/>
              </a:rPr>
              <a:t>难舍难分，战斗友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21840" y="9795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  <a:ea typeface="方正粗圆简体"/>
              </a:rPr>
              <a:t>“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同志们，这样说是不对的，</a:t>
            </a:r>
            <a:r>
              <a:rPr b="1" lang="zh-CN" sz="40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我们多活一个人，就多一份革命力量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！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  <a:ea typeface="方正粗圆简体"/>
              </a:rPr>
              <a:t>”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杨靖宇坚定地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14760" y="979560"/>
            <a:ext cx="445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汉仪雁翎体简"/>
                <a:ea typeface="汉仪雁翎体简"/>
              </a:rPr>
              <a:t>作战思维清晰，不做无谓牺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-179280" y="476280"/>
            <a:ext cx="495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大家都服从了。杨靖宇和战士们分手前，又严肃地叮嘱：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  <a:ea typeface="方正粗圆简体"/>
              </a:rPr>
              <a:t>“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大家要记住。</a:t>
            </a:r>
            <a:r>
              <a:rPr b="1" lang="zh-CN" sz="40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宁死不投降敌人，不泄露党的秘密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！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  <a:ea typeface="方正粗圆简体"/>
              </a:rPr>
              <a:t>”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他和战士们约定了联络地点，然后带着两个警卫员向一片密林走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860720" y="692280"/>
            <a:ext cx="373212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汉仪雁翎体简"/>
                <a:ea typeface="汉仪雁翎体简"/>
              </a:rPr>
              <a:t>语言描写，体现对祖国，对党的热爱和忠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汉仪雁翎体简"/>
                <a:ea typeface="汉仪雁翎体简"/>
              </a:rPr>
              <a:t>民族气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87640" y="186840"/>
            <a:ext cx="439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030a0"/>
                </a:solidFill>
                <a:latin typeface="方正水柱简体"/>
                <a:ea typeface="方正水柱简体"/>
              </a:rPr>
              <a:t>风雪重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方正华隶_GBK"/>
                <a:ea typeface="方正华隶_GBK"/>
              </a:rPr>
              <a:t>在抗日战争年代，为了抗击日本帝国主义的侵略，中国人民进行了坚苦卓绝的八年抗战。八年中，中国大地上发生了无数可歌可泣的英雄事迹，涌现了千千万万民族英雄。今天，我们要学习的</a:t>
            </a:r>
            <a:r>
              <a:rPr b="1" lang="en-US" sz="4000" spc="-1" strike="noStrike">
                <a:solidFill>
                  <a:srgbClr val="cc0099"/>
                </a:solidFill>
                <a:latin typeface="方正华隶_GBK"/>
                <a:ea typeface="方正华隶_GBK"/>
              </a:rPr>
              <a:t>《</a:t>
            </a:r>
            <a:r>
              <a:rPr b="1" lang="zh-CN" sz="4000" spc="-1" strike="noStrike">
                <a:solidFill>
                  <a:srgbClr val="cc0099"/>
                </a:solidFill>
                <a:latin typeface="方正华隶_GBK"/>
                <a:ea typeface="方正华隶_GBK"/>
              </a:rPr>
              <a:t>风雪重围</a:t>
            </a:r>
            <a:r>
              <a:rPr b="1" lang="en-US" sz="4000" spc="-1" strike="noStrike">
                <a:solidFill>
                  <a:srgbClr val="cc0099"/>
                </a:solidFill>
                <a:latin typeface="方正华隶_GBK"/>
                <a:ea typeface="方正华隶_GBK"/>
              </a:rPr>
              <a:t>》</a:t>
            </a:r>
            <a:r>
              <a:rPr b="1" lang="zh-CN" sz="4000" spc="-1" strike="noStrike">
                <a:solidFill>
                  <a:srgbClr val="cc0099"/>
                </a:solidFill>
                <a:latin typeface="方正华隶_GBK"/>
                <a:ea typeface="方正华隶_GBK"/>
              </a:rPr>
              <a:t>，就是发生在抗战中一个真实的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"/>
          <p:cNvSpPr/>
          <p:nvPr/>
        </p:nvSpPr>
        <p:spPr>
          <a:xfrm>
            <a:off x="853920" y="5684760"/>
            <a:ext cx="59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-33480" y="476280"/>
            <a:ext cx="53992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杨靖宇和警卫员，在密林里跟敌人周旋了三天三夜。</a:t>
            </a:r>
            <a:r>
              <a:rPr b="1" lang="en-US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2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月</a:t>
            </a:r>
            <a:r>
              <a:rPr b="1" lang="en-US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18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日，两个警卫员在潆江城南火车站附近购买食物，遭到敌人袭击，英勇牺牲。敌人从他们身上搜出了杨靖宇的图章，断定他就在附近，于是</a:t>
            </a:r>
            <a:r>
              <a:rPr b="1" lang="zh-CN" sz="40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加紧搜索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868720" y="1339920"/>
            <a:ext cx="302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030a0"/>
                </a:solidFill>
                <a:latin typeface="汉仪雁翎体简"/>
                <a:ea typeface="汉仪雁翎体简"/>
              </a:rPr>
              <a:t>情况越来越危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5840" y="331920"/>
            <a:ext cx="51152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 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现在只剩下杨靖宇一个人了，饥饿、寒冷无情地袭击着他。</a:t>
            </a:r>
            <a:r>
              <a:rPr b="1" lang="en-US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23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日早晨，他来到保安屯附近，想找打柴的农民买些吃的，被特务发现了，大批敌人包围上来。杨靖宇倚着一棵古树，双手握着两支短枪，</a:t>
            </a:r>
            <a:r>
              <a:rPr b="1" lang="zh-CN" sz="40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英勇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地抗击敌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581440" y="1195560"/>
            <a:ext cx="356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汉仪雁翎体简"/>
                <a:ea typeface="汉仪雁翎体简"/>
              </a:rPr>
              <a:t>不畏死亡，坚强刚毅的英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4920" y="403200"/>
            <a:ext cx="459432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大雪纷飞，寒风呼啸。杨靖宇的脚下落满了弹壳。从日出打到中午，在零下</a:t>
            </a:r>
            <a:r>
              <a:rPr b="1" lang="en-US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40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摄氏度的林海雪原上，他带着重伤几次击退了敌人的进攻，最后终因寡不敌众，</a:t>
            </a:r>
            <a:r>
              <a:rPr b="1" lang="zh-CN" sz="40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壮烈殉国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932000" y="1195560"/>
            <a:ext cx="459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汉仪雁翎体简"/>
                <a:ea typeface="汉仪雁翎体简"/>
              </a:rPr>
              <a:t>遵守自己的诺言，英勇顽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6200" y="547560"/>
            <a:ext cx="445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后来，日寇把杨靖宇的腹部剖开，他的肠胃里</a:t>
            </a:r>
            <a:r>
              <a:rPr b="1" lang="zh-CN" sz="40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只有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草根、树皮和棉花，</a:t>
            </a:r>
            <a:r>
              <a:rPr b="1" lang="zh-CN" sz="40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没有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一粒粮食。日军指挥官</a:t>
            </a:r>
            <a:r>
              <a:rPr b="1" lang="zh-CN" sz="40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咬牙切齿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地说：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  <a:ea typeface="方正粗圆简体"/>
              </a:rPr>
              <a:t>“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算他是中国的一条好汉！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  <a:ea typeface="方正粗圆简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932000" y="1268280"/>
            <a:ext cx="4452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汉仪雁翎体简"/>
                <a:ea typeface="汉仪雁翎体简"/>
              </a:rPr>
              <a:t>敬佩与赞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5643720" y="255420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4920" y="547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为了纪念杨靖宇将军，人们把他最后被围的那片森林，称为</a:t>
            </a:r>
            <a:r>
              <a:rPr b="1" lang="zh-CN" sz="4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靖宇林</a:t>
            </a:r>
            <a:r>
              <a:rPr b="1" lang="zh-CN" sz="48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3" descr="u=2802798401,2422101802&amp;fm=52&amp;gp=0.jpg"/>
          <p:cNvPicPr/>
          <p:nvPr/>
        </p:nvPicPr>
        <p:blipFill>
          <a:blip r:embed="rId1"/>
          <a:stretch/>
        </p:blipFill>
        <p:spPr>
          <a:xfrm>
            <a:off x="4019400" y="763560"/>
            <a:ext cx="47689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A000-584D-4970-825F-7DF186D316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4920" y="1054080"/>
            <a:ext cx="91742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杨靖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05——19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原名马尚德，字骥生，汉族，河南省确山县人，中国共产党优秀党员，无产阶级革命家，军事家、著名抗日民族英雄，鄂豫皖苏区及其红军的创始人之一，东北抗日联军的主要创建者和领导人之一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3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受命党中央委托到东北组织抗日联军，历任抗日联军总指挥政委等职。率领我东北军民与日寇血战于白山黑水之间，他身经百战，出生入死，屡立战功，在冰天雪地，弹尽粮绝的紧急情况下，最后孤身一人与大量敌人周旋战斗几昼夜后壮烈牺牲。杨靖宇将军是中华民族的骄傲，被评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为新中国成立作出突出贡献的英雄模范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4"/>
          <p:cNvSpPr/>
          <p:nvPr/>
        </p:nvSpPr>
        <p:spPr>
          <a:xfrm>
            <a:off x="3635280" y="5013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65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36c09"/>
                </a:solidFill>
                <a:latin typeface="方正稚艺_GBK"/>
                <a:ea typeface="方正稚艺_GBK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22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方正少儿_GBK"/>
                <a:ea typeface="方正少儿_GBK"/>
              </a:rPr>
              <a:t>1.</a:t>
            </a:r>
            <a:r>
              <a:rPr b="1" lang="zh-CN" sz="4400" spc="-1" strike="noStrike">
                <a:solidFill>
                  <a:srgbClr val="0070c0"/>
                </a:solidFill>
                <a:latin typeface="方正少儿_GBK"/>
                <a:ea typeface="方正少儿_GBK"/>
              </a:rPr>
              <a:t>读通顺课文，理解课文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方正少儿_GBK"/>
                <a:ea typeface="方正少儿_GBK"/>
              </a:rPr>
              <a:t>2.</a:t>
            </a:r>
            <a:r>
              <a:rPr b="1" lang="zh-CN" sz="4400" spc="-1" strike="noStrike">
                <a:solidFill>
                  <a:srgbClr val="0070c0"/>
                </a:solidFill>
                <a:latin typeface="方正少儿_GBK"/>
                <a:ea typeface="方正少儿_GBK"/>
              </a:rPr>
              <a:t>抓住重点词句品读，感知英雄杨靖宇的精神品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方正少儿_GBK"/>
                <a:ea typeface="方正少儿_GBK"/>
              </a:rPr>
              <a:t>3.</a:t>
            </a:r>
            <a:r>
              <a:rPr b="1" lang="zh-CN" sz="4400" spc="-1" strike="noStrike">
                <a:solidFill>
                  <a:srgbClr val="0070c0"/>
                </a:solidFill>
                <a:latin typeface="方正少儿_GBK"/>
                <a:ea typeface="方正少儿_GBK"/>
              </a:rPr>
              <a:t>领悟课文写人记事的写作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640" y="77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方正水柱简体"/>
                <a:ea typeface="方正水柱简体"/>
              </a:rPr>
              <a:t>字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0560" y="2071800"/>
            <a:ext cx="403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歼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灭（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jiān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伏（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qi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围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剿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jiǎo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寡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不敌众（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guǎ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ubTitle"/>
          </p:nvPr>
        </p:nvSpPr>
        <p:spPr>
          <a:xfrm>
            <a:off x="4427640" y="2071800"/>
            <a:ext cx="461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6c09"/>
                </a:solidFill>
                <a:latin typeface="方正胖娃简体"/>
                <a:ea typeface="方正胖娃简体"/>
              </a:rPr>
              <a:t>1</a:t>
            </a:r>
            <a:r>
              <a:rPr b="1" lang="en-US" sz="4000" spc="-1" strike="noStrike">
                <a:solidFill>
                  <a:srgbClr val="e36c09"/>
                </a:solidFill>
                <a:latin typeface="Arial"/>
                <a:ea typeface="方正胖娃简体"/>
              </a:rPr>
              <a:t>·</a:t>
            </a:r>
            <a:r>
              <a:rPr b="1" lang="zh-CN" sz="4000" spc="-1" strike="noStrike">
                <a:solidFill>
                  <a:srgbClr val="e36c09"/>
                </a:solidFill>
                <a:latin typeface="方正胖娃简体"/>
                <a:ea typeface="方正胖娃简体"/>
              </a:rPr>
              <a:t>歼灭：消灭（敌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方正胖娃简体"/>
                <a:ea typeface="方正胖娃简体"/>
              </a:rPr>
              <a:t>2</a:t>
            </a:r>
            <a:r>
              <a:rPr b="1" lang="en-US" sz="4000" spc="-1" strike="noStrike">
                <a:solidFill>
                  <a:srgbClr val="00b050"/>
                </a:solidFill>
                <a:latin typeface="Arial"/>
                <a:ea typeface="方正胖娃简体"/>
              </a:rPr>
              <a:t>·</a:t>
            </a:r>
            <a:r>
              <a:rPr b="1" lang="zh-CN" sz="4000" spc="-1" strike="noStrike">
                <a:solidFill>
                  <a:srgbClr val="00b050"/>
                </a:solidFill>
                <a:latin typeface="方正胖娃简体"/>
                <a:ea typeface="方正胖娃简体"/>
              </a:rPr>
              <a:t>潜伏：隐藏，埋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6c09"/>
                </a:solidFill>
                <a:latin typeface="方正胖娃简体"/>
                <a:ea typeface="方正胖娃简体"/>
              </a:rPr>
              <a:t>3</a:t>
            </a:r>
            <a:r>
              <a:rPr b="1" lang="en-US" sz="4000" spc="-1" strike="noStrike">
                <a:solidFill>
                  <a:srgbClr val="e36c09"/>
                </a:solidFill>
                <a:latin typeface="Arial"/>
                <a:ea typeface="方正胖娃简体"/>
              </a:rPr>
              <a:t>·</a:t>
            </a:r>
            <a:r>
              <a:rPr b="1" lang="zh-CN" sz="4000" spc="-1" strike="noStrike">
                <a:solidFill>
                  <a:srgbClr val="e36c09"/>
                </a:solidFill>
                <a:latin typeface="方正胖娃简体"/>
                <a:ea typeface="方正胖娃简体"/>
              </a:rPr>
              <a:t>叮嘱：再三嘱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方正胖娃简体"/>
                <a:ea typeface="方正胖娃简体"/>
              </a:rPr>
              <a:t>4</a:t>
            </a:r>
            <a:r>
              <a:rPr b="1" lang="en-US" sz="4000" spc="-1" strike="noStrike">
                <a:solidFill>
                  <a:srgbClr val="00b050"/>
                </a:solidFill>
                <a:latin typeface="Arial"/>
                <a:ea typeface="方正胖娃简体"/>
              </a:rPr>
              <a:t>·</a:t>
            </a:r>
            <a:r>
              <a:rPr b="1" lang="zh-CN" sz="4000" spc="-1" strike="noStrike">
                <a:solidFill>
                  <a:srgbClr val="00b050"/>
                </a:solidFill>
                <a:latin typeface="方正胖娃简体"/>
                <a:ea typeface="方正胖娃简体"/>
              </a:rPr>
              <a:t>咬牙切齿：形容嫉妒仇视或愤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方正硬笔楷书繁体"/>
                <a:ea typeface="方正硬笔楷书繁体"/>
              </a:rPr>
              <a:t>课文分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38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方正水柱简体"/>
                <a:ea typeface="方正水柱简体"/>
              </a:rPr>
              <a:t>第一部分（</a:t>
            </a:r>
            <a:r>
              <a:rPr b="1" lang="en-US" sz="4400" spc="-1" strike="noStrike">
                <a:solidFill>
                  <a:srgbClr val="ff3300"/>
                </a:solidFill>
                <a:latin typeface="方正水柱简体"/>
                <a:ea typeface="方正水柱简体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方正水柱简体"/>
                <a:ea typeface="方正水柱简体"/>
              </a:rPr>
              <a:t>）：</a:t>
            </a:r>
            <a:r>
              <a:rPr b="1" lang="zh-CN" sz="44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简介</a:t>
            </a:r>
            <a:r>
              <a:rPr b="1" lang="zh-CN" sz="44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1939</a:t>
            </a:r>
            <a:r>
              <a:rPr b="1" lang="zh-CN" sz="44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年冬抗联的战斗形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水柱简体"/>
                <a:ea typeface="方正水柱简体"/>
              </a:rPr>
              <a:t>第二部分（</a:t>
            </a:r>
            <a:r>
              <a:rPr b="1" lang="zh-CN" sz="4000" spc="-1" strike="noStrike">
                <a:solidFill>
                  <a:srgbClr val="ff3300"/>
                </a:solidFill>
                <a:latin typeface="方正水柱简体"/>
                <a:ea typeface="方正水柱简体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水柱简体"/>
              </a:rPr>
              <a:t>—</a:t>
            </a:r>
            <a:r>
              <a:rPr b="1" lang="zh-CN" sz="4000" spc="-1" strike="noStrike">
                <a:solidFill>
                  <a:srgbClr val="ff3300"/>
                </a:solidFill>
                <a:latin typeface="方正水柱简体"/>
                <a:ea typeface="方正水柱简体"/>
              </a:rPr>
              <a:t>13</a:t>
            </a:r>
            <a:r>
              <a:rPr b="1" lang="zh-CN" sz="4000" spc="-1" strike="noStrike">
                <a:solidFill>
                  <a:srgbClr val="ff3300"/>
                </a:solidFill>
                <a:latin typeface="方正水柱简体"/>
                <a:ea typeface="方正水柱简体"/>
              </a:rPr>
              <a:t>）：</a:t>
            </a:r>
            <a:r>
              <a:rPr b="1" lang="zh-CN" sz="40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具体写了杨靖宇带领小分队怎样跟敌人周旋，直至壮烈牺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水柱简体"/>
                <a:ea typeface="方正水柱简体"/>
              </a:rPr>
              <a:t>第三部分（</a:t>
            </a:r>
            <a:r>
              <a:rPr b="1" lang="en-US" sz="4000" spc="-1" strike="noStrike">
                <a:solidFill>
                  <a:srgbClr val="ff3300"/>
                </a:solidFill>
                <a:latin typeface="方正水柱简体"/>
                <a:ea typeface="方正水柱简体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方正水柱简体"/>
                <a:ea typeface="方正水柱简体"/>
              </a:rPr>
              <a:t>4</a:t>
            </a:r>
            <a:r>
              <a:rPr b="1" lang="zh-CN" sz="4000" spc="-1" strike="noStrike">
                <a:solidFill>
                  <a:srgbClr val="ff3300"/>
                </a:solidFill>
                <a:latin typeface="方正水柱简体"/>
                <a:ea typeface="方正水柱简体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方正水柱简体"/>
                <a:ea typeface="方正水柱简体"/>
              </a:rPr>
              <a:t>15</a:t>
            </a:r>
            <a:r>
              <a:rPr b="1" lang="zh-CN" sz="4000" spc="-1" strike="noStrike">
                <a:solidFill>
                  <a:srgbClr val="ff3300"/>
                </a:solidFill>
                <a:latin typeface="方正水柱简体"/>
                <a:ea typeface="方正水柱简体"/>
              </a:rPr>
              <a:t>）：</a:t>
            </a:r>
            <a:r>
              <a:rPr b="1" lang="zh-CN" sz="40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杨靖宇牺牲后，日本指挥官都佩服他是条好汉，人们永远怀念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3573000"/>
            <a:ext cx="8285040" cy="27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情况十分危急，敌人采取“拉网”战术，从四面八方包围上来，同志们不愿分散突围。“坚定”表现他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对革命的胜利充满信心，尽一切努力为革命保存力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1916280"/>
            <a:ext cx="871704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思考：杨靖宇又是在什么情况下说这句话的？你又有什么感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内容占位符 2"/>
          <p:cNvSpPr/>
          <p:nvPr/>
        </p:nvSpPr>
        <p:spPr>
          <a:xfrm>
            <a:off x="177840" y="115920"/>
            <a:ext cx="878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  <a:ea typeface="方正粗圆简体"/>
              </a:rPr>
              <a:t>“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同志们，这样说是不对的，</a:t>
            </a:r>
            <a:r>
              <a:rPr b="1" lang="zh-CN" sz="40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我们多活一个人，就多一份革命力量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！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  <a:ea typeface="方正粗圆简体"/>
              </a:rPr>
              <a:t>”</a:t>
            </a:r>
            <a:r>
              <a:rPr b="1" lang="zh-CN" sz="4000" spc="-1" strike="noStrike">
                <a:solidFill>
                  <a:srgbClr val="00b050"/>
                </a:solidFill>
                <a:latin typeface="方正粗圆简体"/>
                <a:ea typeface="方正粗圆简体"/>
              </a:rPr>
              <a:t>杨靖宇坚定地说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1840" y="3573000"/>
            <a:ext cx="8285400" cy="27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气候恶劣，条件艰苦，形势危急的情况下，杨靖宇还严肃地批评传令兵，说明他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治军严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当他了解情况后，便将旧皮袄给了一个伤病员，体现了他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爱兵如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916280"/>
            <a:ext cx="871704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思考：杨靖宇是在什么情况下说这句话的？你有什么感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22200" y="260280"/>
            <a:ext cx="84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Arial"/>
              </a:rPr>
              <a:t>杨靖宇见传令兵手里拿着一件旧皮袄，马上严肃地问：“哪里弄来的？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是不是违犯了纪律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</a:rPr>
              <a:t>？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3840" y="3428640"/>
            <a:ext cx="8285040" cy="27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杨靖宇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忠于革命，为了革命，宁死不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-106200" y="2565360"/>
            <a:ext cx="96818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思考：杨靖宇为什么又要叮嘱大家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22200" y="187200"/>
            <a:ext cx="85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50"/>
                </a:solidFill>
                <a:latin typeface="Arial"/>
              </a:rPr>
              <a:t>杨靖宇和战士们分手前，又严肃地叮嘱：“大家要记住。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宁死不投降敌人，不泄露党的秘密</a:t>
            </a:r>
            <a:r>
              <a:rPr b="1" lang="zh-CN" sz="4400" spc="-1" strike="noStrike">
                <a:solidFill>
                  <a:srgbClr val="00b050"/>
                </a:solidFill>
                <a:latin typeface="Arial"/>
              </a:rPr>
              <a:t>！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00:26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2:09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