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572D-E9DD-460A-8FFA-C3B2855DC5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C596-80B4-479F-9B29-79E6D0D13A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752-A3A8-42B2-8577-52315E00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921-FF1F-4D3D-9230-7E090D81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C3C7-A069-4768-9BFA-B08B72FF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B53-BC81-45B2-B7D7-9476ADBB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D21-A72E-476B-9072-39317482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B3E-379F-4515-917A-606F7AAF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301-D401-4084-A5A9-0AF21451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A34-E4A6-4580-974F-92712109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78D-7A0A-40D3-898F-A5410C5B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499-7755-4EBF-9152-FF20EAA1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202-E7AB-4B7B-8F34-91DE4587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8D6-80A2-41E2-A844-25F119B9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1A63-11E4-4415-B47E-AEB74D04C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3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5" descr=""/>
          <p:cNvPicPr/>
          <p:nvPr/>
        </p:nvPicPr>
        <p:blipFill>
          <a:blip r:embed="rId2"/>
          <a:stretch/>
        </p:blipFill>
        <p:spPr>
          <a:xfrm>
            <a:off x="825480" y="3416400"/>
            <a:ext cx="4726080" cy="160488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534600" y="57657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4"/>
          <p:cNvSpPr/>
          <p:nvPr/>
        </p:nvSpPr>
        <p:spPr>
          <a:xfrm>
            <a:off x="3581280" y="30481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649796851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646718753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644975068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203480" y="1393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762120" y="106668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肥皂泡，吹起来很美丽，五色的浮光，在那轻清透明的球上乱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肥皂泡，吹起来很美丽，五色的浮光，在那轻轻透明的球上乱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762120" y="6035760"/>
            <a:ext cx="62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1203480" y="1393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762120" y="106668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肥皂泡，吹起来很美丽，五色的浮光，在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轻清透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球上乱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肥皂泡，吹起来很美丽，五色的浮光，在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轻轻透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球上乱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>
            <a:hlinkClick r:id="rId1" action="ppaction://hlinksldjump"/>
          </p:cNvPr>
          <p:cNvSpPr/>
          <p:nvPr/>
        </p:nvSpPr>
        <p:spPr>
          <a:xfrm>
            <a:off x="7467480" y="5867280"/>
            <a:ext cx="68580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be0e3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1203480" y="1393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2514600" y="515880"/>
            <a:ext cx="508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填一填，背一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380880" y="134784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肥皂泡，吹起来很（        ），五色的（         ），在那（           ）的球上乱转。若是扇得好，一个大球，会分裂成两三个（              ）的小球，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            )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有时吹得太大了，扇得太急了，这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球，会扯成长圆的形状，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，光影凌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1050840" y="129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2514600" y="612720"/>
            <a:ext cx="508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填一填，背一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304920" y="134136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肥皂泡，吹起来很（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丽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五色的（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浮光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在那（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轻清透明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的球上乱转。若是扇得好，一个大球，会分裂成两三个（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玲珑娇软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的小球，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四散纷飞</a:t>
            </a: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有时吹得太大了，扇得太急了，这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脆薄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球，会扯成长圆的形状，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颤巍巍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，光影凌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1050840" y="1244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2514600" y="612720"/>
            <a:ext cx="508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默读第五自然段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04920" y="129528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肥皂泡，吹起来很（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丽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五色的（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浮光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在那（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轻清透明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的球上乱转。若是扇得好，一个大球，会分裂成两三个（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玲珑娇软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的小球，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四散纷飞</a:t>
            </a: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有时吹得太大了，扇得太急了，这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脆薄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球，会扯成长圆的形状，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颤巍巍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，光影凌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F01D-7BF6-4136-9CD5-729CE41FDD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609480" y="199080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潮湿   溶化    扇子   四散纷飞       散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647640" y="18288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默读第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段，圈出表示先后顺序的词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762120" y="160020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先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然后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再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0" y="380880"/>
            <a:ext cx="899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然后用一支竹笔套管，蘸上那黏稠的肥皂水，慢慢地吹起，吹成一个网球大小的轻圆的泡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8160" y="4008600"/>
            <a:ext cx="910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然后用一支竹笔套管，蘸上那肥皂水，吹成一个网球大小的轻圆的泡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0" y="380880"/>
            <a:ext cx="899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然后用一支竹笔套管，蘸上那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黏稠的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肥皂水，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慢慢地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吹起，吹成一个网球大小的轻圆的泡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38160" y="4008600"/>
            <a:ext cx="910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然后用一支竹笔套管，蘸上那肥皂水，吹成一个网球大小的轻圆的泡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0" y="380880"/>
            <a:ext cx="899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默读第四自然段，用直线画出描写肥皂泡颜色、形状的词句，并在旁边批注你的感受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09480" y="533520"/>
            <a:ext cx="794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肥皂泡，吹起来很美丽，五色的浮光，在那轻清透明的球上乱转。若是扇得好，一个大球，会分裂成两三个玲珑娇软的小球，四散纷飞。有时吹得太大了，扇得太急了，这脆薄的球，会扯成长圆的形状，颤巍巍的，光影凌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609480" y="6858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肥皂泡，吹起来很美丽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五色的浮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在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轻清透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球上乱转。若是扇得好，一个大球，会分裂成两三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玲珑娇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小球，四散纷飞。有时吹得太大了，扇得太急了，这脆薄的球，会扯成长圆的形状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颤巍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影凌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225800" y="5867280"/>
            <a:ext cx="866520" cy="405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五色的浮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545280" y="5867280"/>
            <a:ext cx="729360" cy="405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轻清透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5660640" y="5867280"/>
            <a:ext cx="455040" cy="405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03:30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5:46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