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92F5-292A-41A3-9D51-B810DFAF71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7F0-4641-48F8-9B9E-E2DB21F45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698-9EAD-4416-8F41-3E42749317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F6E-EF3C-4857-8E37-DA23C7B0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5A5-2BBE-473D-9568-DE20EF0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628-0BDC-4D6C-A4D9-135CFCF0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28A-50FF-486F-8D5A-A6362F1F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BB8-33D3-48BD-A4D1-56C73D41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32E-9C54-4C8D-ADF6-E0E65768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8F1-3E09-4C61-9AE3-386C6F4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A6E-F9C2-45F2-BDDD-98DDDE1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3A6-DB8A-46F4-9E38-C1EA51C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F61-1214-49AA-B846-9A99CCE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F95-F597-4B8A-843B-573C2F9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C23-297A-4265-806F-D5400E9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90AD-2462-45F7-B733-B06F5AC6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F0%D0%F0%C4%C4%F1&#892;&#428;&amp;in=5622&amp;cl=2&amp;lm=-1&amp;pn=4&amp;rn=1&amp;di=31349561745&amp;ln=1&amp;fr=ala0&amp;ic=&amp;s=&amp;se=&amp;sme=0&amp;tab=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826920" y="1628640"/>
            <a:ext cx="6913800" cy="21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700000"/>
                </a:gradFill>
                <a:latin typeface="华文中宋"/>
              </a:rPr>
              <a:t>邯郸学步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700000"/>
              </a:gradFill>
              <a:latin typeface="华文中宋"/>
              <a:ea typeface="华文中宋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96956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560" y="62064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这个燕国人为什么要到邯郸去学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：因为他嫌当地人走路的姿势不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标题 1"/>
          <p:cNvSpPr/>
          <p:nvPr/>
        </p:nvSpPr>
        <p:spPr>
          <a:xfrm>
            <a:off x="250920" y="1989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这个燕国人是怎样学步的？文中用了哪些词形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内容占位符 2"/>
          <p:cNvSpPr/>
          <p:nvPr/>
        </p:nvSpPr>
        <p:spPr>
          <a:xfrm>
            <a:off x="324000" y="314172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：机械的模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扭一摆     抬腿   跨步   摆手  扭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179280" y="4508640"/>
            <a:ext cx="85694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这个燕国人到邯郸去学步的结果怎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内容占位符 2"/>
          <p:cNvSpPr/>
          <p:nvPr/>
        </p:nvSpPr>
        <p:spPr>
          <a:xfrm>
            <a:off x="324000" y="4797360"/>
            <a:ext cx="849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：新的走法没有学会，原来的走法倒全   忘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986640" y="6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讨论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邯郸学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3228840"/>
        </p:xfrm>
        <a:graphic>
          <a:graphicData uri="http://schemas.openxmlformats.org/drawingml/2006/table">
            <a:tbl>
              <a:tblPr/>
              <a:tblGrid>
                <a:gridCol w="1992240"/>
                <a:gridCol w="623736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起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嫌当地人走路姿势不好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模仿邯郸人走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步不成，爬回燕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小故事大道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别人的长处，应注意保持自己的特色，不能盲目学习，如果机械模仿，生搬硬套，不但学无所成，反而丢失了自己原有的东西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1897200" y="5486400"/>
            <a:ext cx="56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19E-184F-4205-9489-8C6E947FE9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成语 解释 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1773360"/>
            <a:ext cx="7693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邯郸：战国时赵国的都城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步：学习走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邯郸学习走路。比喻机械模仿别人，不仅没学到本事，反把原来自己会的东西忘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鹦鹉学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：鹦鹉学人说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人家怎么说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也跟着怎么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t2.baidu.com/it/u=2251610526,1337786608&amp;fm=0&amp;gp=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1844640"/>
            <a:ext cx="2950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独辟蹊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释：自己开辟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路。比喻独创一种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或新的方法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042920" y="2133720"/>
          <a:ext cx="3166920" cy="2933640"/>
        </p:xfrm>
        <a:graphic>
          <a:graphicData uri="http://schemas.openxmlformats.org/drawingml/2006/table">
            <a:tbl>
              <a:tblPr/>
              <a:tblGrid>
                <a:gridCol w="1547640"/>
                <a:gridCol w="1619280"/>
              </a:tblGrid>
              <a:tr h="147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"/>
          <p:cNvSpPr/>
          <p:nvPr/>
        </p:nvSpPr>
        <p:spPr>
          <a:xfrm>
            <a:off x="684360" y="262080"/>
            <a:ext cx="64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读，我会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838080" y="914400"/>
            <a:ext cx="3384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17200" spc="-1" strike="noStrike">
                <a:solidFill>
                  <a:srgbClr val="0000ff"/>
                </a:solidFill>
                <a:latin typeface="楷体"/>
                <a:ea typeface="楷体"/>
              </a:rPr>
              <a:t>彻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88000" y="2133720"/>
          <a:ext cx="2952720" cy="2938320"/>
        </p:xfrm>
        <a:graphic>
          <a:graphicData uri="http://schemas.openxmlformats.org/drawingml/2006/table">
            <a:tbl>
              <a:tblPr/>
              <a:tblGrid>
                <a:gridCol w="1474920"/>
                <a:gridCol w="1477800"/>
              </a:tblGrid>
              <a:tr h="14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26"/>
          <p:cNvSpPr/>
          <p:nvPr/>
        </p:nvSpPr>
        <p:spPr>
          <a:xfrm>
            <a:off x="4876920" y="762120"/>
            <a:ext cx="3816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i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7200" spc="-1" strike="noStrike">
                <a:solidFill>
                  <a:srgbClr val="0000ff"/>
                </a:solidFill>
                <a:latin typeface="楷体"/>
                <a:ea typeface="楷体"/>
              </a:rPr>
              <a:t>械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250920" y="5373720"/>
            <a:ext cx="49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彻底   彻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4648320" y="53737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机械    军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42920" y="2133720"/>
          <a:ext cx="3166920" cy="2933640"/>
        </p:xfrm>
        <a:graphic>
          <a:graphicData uri="http://schemas.openxmlformats.org/drawingml/2006/table">
            <a:tbl>
              <a:tblPr/>
              <a:tblGrid>
                <a:gridCol w="1547640"/>
                <a:gridCol w="1619280"/>
              </a:tblGrid>
              <a:tr h="147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13"/>
          <p:cNvSpPr/>
          <p:nvPr/>
        </p:nvSpPr>
        <p:spPr>
          <a:xfrm>
            <a:off x="684360" y="262080"/>
            <a:ext cx="64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读，我会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838080" y="914400"/>
            <a:ext cx="3384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17200" spc="-1" strike="noStrike">
                <a:solidFill>
                  <a:srgbClr val="0000ff"/>
                </a:solidFill>
                <a:latin typeface="楷体"/>
                <a:ea typeface="楷体"/>
              </a:rPr>
              <a:t>模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88000" y="2133720"/>
          <a:ext cx="2952720" cy="2938320"/>
        </p:xfrm>
        <a:graphic>
          <a:graphicData uri="http://schemas.openxmlformats.org/drawingml/2006/table">
            <a:tbl>
              <a:tblPr/>
              <a:tblGrid>
                <a:gridCol w="1474920"/>
                <a:gridCol w="1477800"/>
              </a:tblGrid>
              <a:tr h="14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27"/>
          <p:cNvSpPr/>
          <p:nvPr/>
        </p:nvSpPr>
        <p:spPr>
          <a:xfrm>
            <a:off x="0" y="533412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模仿   模范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òu líng       yōu yǎ      wán g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寿陵        优雅     顽 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è dǐ          mó fǎng       jī  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彻底        模仿     机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读词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幽雅   彻底   机械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姿势   顽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43680" y="472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403280" y="4221000"/>
            <a:ext cx="360360" cy="187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66160" y="3933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98764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763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987640" y="5589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20606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国有一个人到赵国首都邯郸学走路，最后新的走法没学会，自己原来的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全忘了，只好爬着回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2:20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5:08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