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AED4-7B0C-4925-A672-EDE0E052F7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1DA-F819-42E5-858C-1FCF4C1DC6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218-470E-4E5E-BB3A-6D605EA8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0A8-3DBA-4015-B23C-EA9E737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F9-084F-4396-A799-D19056F9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485-1BFF-4D1C-ABC7-DD123AAB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B99-2850-4604-9472-B7A47035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9D5-5298-4DD8-87FD-59B72F3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212-3A26-4090-A1FB-D2802550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76C-BC4D-4C63-BE06-CF72ACFF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560-1DCC-4DEE-A040-6CD15E4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EA-03DF-49FD-8397-4E6690E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1D3-B738-4D7A-8E75-FBBEFFB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C6D-D28A-47A7-98F4-AEFB7D8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A139-F1BA-49CB-A195-E694CBFD0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1585800" y="1828800"/>
            <a:ext cx="629136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矩形 6"/>
          <p:cNvSpPr/>
          <p:nvPr/>
        </p:nvSpPr>
        <p:spPr>
          <a:xfrm>
            <a:off x="1531080" y="56736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导员，请把这个任务交给我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导员，请把这个任务交给我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这两句话有什么不同？带着你的体会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黄继光肩上腿上都负了伤。他用尽全身的力气，更加顽强地向前爬，还有二十米，十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近了，更近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啊！黄继光站起来了！在暴风雨一样的子弹中站起来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853640" y="1522800"/>
            <a:ext cx="548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顶着浓烟，冒着烈火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匍匐前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用尽全身的力气，更加顽强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向前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③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继光站起来了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暴风雨一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弹中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站起来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继光又站起来了！他张开双臂，向喷射着火舌的火力点猛扑上去，用自己的胸膛堵住了敌人的枪口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19810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啊！为黄继光报仇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喊声惊天动地。战士们像海涛一样向前冲，占领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地，消灭了阵地上的全部敌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继光虽然牺牲了，但他的生命换来了战斗的胜利，祖国人民已经把他永远地记在心里了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在黄继光牺牲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年之际，为了纪念英雄，家乡人民要为黄继光塑一尊像。如果让你来塑，你想塑成一座怎样的塑像？结合课文内容，谈谈你的想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1035000" y="6126120"/>
            <a:ext cx="64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塑像"/>
          <p:cNvPicPr/>
          <p:nvPr/>
        </p:nvPicPr>
        <p:blipFill>
          <a:blip r:embed="rId1"/>
          <a:stretch/>
        </p:blipFill>
        <p:spPr>
          <a:xfrm>
            <a:off x="1440" y="0"/>
            <a:ext cx="50277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suxiang 2"/>
          <p:cNvPicPr/>
          <p:nvPr/>
        </p:nvPicPr>
        <p:blipFill>
          <a:blip r:embed="rId2"/>
          <a:stretch/>
        </p:blipFill>
        <p:spPr>
          <a:xfrm>
            <a:off x="5030640" y="0"/>
            <a:ext cx="41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80880" y="181476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用下列词语结合课文内容说一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役    屡次    牺牲    报仇    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选词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战役　　战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黄继光在上甘岭（　　）中光荣牺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黄继光所在的营已经持续（　　）了四天四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持续　　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黄继光不顾伤口的疼痛（　　）向前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高温天气已经（　　）好几天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写一首赞美黄继光的诗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609480" y="609480"/>
            <a:ext cx="20322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选择练习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F57-4114-492D-9911-9BF6290A4C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黄继光"/>
          <p:cNvPicPr/>
          <p:nvPr/>
        </p:nvPicPr>
        <p:blipFill>
          <a:blip r:embed="rId1"/>
          <a:stretch/>
        </p:blipFill>
        <p:spPr>
          <a:xfrm>
            <a:off x="77760" y="0"/>
            <a:ext cx="4678560" cy="6781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789440" y="104760"/>
            <a:ext cx="428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黄继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生在四川省江中县一个农民的家庭里，小时候给地主当长工，受尽了地主的残酷剥削和压迫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黄继光参加了民兵，第二年参加中国人民志愿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加入中国新民主主义青年团，同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在朝鲜上甘岭战役中壮烈牺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抗美援朝"/>
          <p:cNvPicPr/>
          <p:nvPr/>
        </p:nvPicPr>
        <p:blipFill>
          <a:blip r:embed="rId1"/>
          <a:stretch/>
        </p:blipFill>
        <p:spPr>
          <a:xfrm>
            <a:off x="14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768920" y="220680"/>
            <a:ext cx="42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美援朝战争，是中国人民为了保卫祖国、维护世界和平而进行的一场正义战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朝鲜战争爆发，美国政府武装干涉朝鲜内政，派兵入侵朝鲜，把战火烧到我国东北边境，严重威胁我国的安全。对此，中共中央作出了抗美援朝、保家卫国的战略决策。中国人民志愿军跨过鸭绿江，同朝鲜人民军并肩作战，抗击美国侵略者。全国人民以实际行动热情地投入到了轰轰烈烈的抗美援朝运动中。最后，美国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在停战协定上签字。至此，中国人民取得了抗美援朝战争的伟大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上甘岭"/>
          <p:cNvPicPr/>
          <p:nvPr/>
        </p:nvPicPr>
        <p:blipFill>
          <a:blip r:embed="rId1"/>
          <a:stretch/>
        </p:blipFill>
        <p:spPr>
          <a:xfrm>
            <a:off x="3240" y="0"/>
            <a:ext cx="4492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724280" y="68580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甘岭，山名，在朝鲜金化城以北。上甘岭战役是抗美援朝战争中的一次重要战役，战斗异常激烈，我军歼敌二万五千多人，取得最后的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2295360" y="3630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295280" y="143244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役            屡次             匍匐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毁            愤怒             黎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惊天动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9480" y="2133720"/>
            <a:ext cx="791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篇课文主要讲了一件什么事？作者是按什么顺序来描写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457200" y="685800"/>
            <a:ext cx="20318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读自悟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66680" y="91440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接受命令，夺占高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50840" y="16272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进攻受阻，主动请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50840" y="24462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战友伤亡，负伤前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066680" y="320040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舍生忘死，堵住枪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066680" y="4114800"/>
            <a:ext cx="45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激励战友，夺取胜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609480" y="914400"/>
            <a:ext cx="20322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深读感悟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122560"/>
            <a:ext cx="81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默读课文，思考黄继光在你心中留下了怎样的印象？你是从哪些词句中感受出来的，划出这些词句，并在旁边写出自己的感受，然后再有感情地读一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继光愤怒地注视着敌人的火力点，他转过身来坚定地对指导员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导员，请把这个任务交给我吧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3:0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13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