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91E-CE9F-4611-83F1-7A396D49D8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A291-E41D-495C-974E-0374E1920A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54F-A1AF-4E1A-AD95-A5BE1A4C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747-5883-4502-A9BC-97B29253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135-C0AA-43A1-93C3-B6DC60BC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5F6-7697-421A-87EC-C965CF48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290-FCFC-4837-9BDD-DF5433D9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1D9-CCC0-452E-B1F4-FC2EE1C2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017-E289-45E1-B8A2-031C4F6D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DF6-1113-4FD7-B9D7-7B391DB2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E2B-B108-41BC-A721-3221EEC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481-E684-45B9-81BB-F1E9F7D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1CD-8D01-4779-927F-B44F35C4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57F-6D1F-4538-9173-C752F0A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3EA3-D47C-4053-BDCB-09EDD1F57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736720" y="126828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花  篱  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972800" y="443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50920" y="230040"/>
            <a:ext cx="864216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丽的花篱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不住院子里的春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挡不住外面的风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管住调皮的小鸡小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让它们去弄坏地里的庄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丽的花篱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送上看不见的微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欢迎客人屋里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喝碗芝麻豆子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丽的花篱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着东院、西院两户人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家的孩子把篱笆当球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起了羽毛球；孩子的妈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隔着篱笆拉起了家常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468360" y="189000"/>
            <a:ext cx="2807640" cy="2734920"/>
            <a:chOff x="468360" y="189000"/>
            <a:chExt cx="2807640" cy="2734920"/>
          </a:xfrm>
        </p:grpSpPr>
        <p:sp>
          <p:nvSpPr>
            <p:cNvPr id="70" name="Rectangle 3"/>
            <p:cNvSpPr/>
            <p:nvPr/>
          </p:nvSpPr>
          <p:spPr>
            <a:xfrm>
              <a:off x="468360" y="189000"/>
              <a:ext cx="2807640" cy="273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4"/>
            <p:cNvSpPr/>
            <p:nvPr/>
          </p:nvSpPr>
          <p:spPr>
            <a:xfrm>
              <a:off x="468360" y="1556280"/>
              <a:ext cx="280764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"/>
            <p:cNvSpPr/>
            <p:nvPr/>
          </p:nvSpPr>
          <p:spPr>
            <a:xfrm>
              <a:off x="1872000" y="189000"/>
              <a:ext cx="0" cy="27349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"/>
          <p:cNvGrpSpPr/>
          <p:nvPr/>
        </p:nvGrpSpPr>
        <p:grpSpPr>
          <a:xfrm>
            <a:off x="5435640" y="3789360"/>
            <a:ext cx="2807640" cy="2734920"/>
            <a:chOff x="5435640" y="3789360"/>
            <a:chExt cx="2807640" cy="2734920"/>
          </a:xfrm>
        </p:grpSpPr>
        <p:sp>
          <p:nvSpPr>
            <p:cNvPr id="74" name="Rectangle 7"/>
            <p:cNvSpPr/>
            <p:nvPr/>
          </p:nvSpPr>
          <p:spPr>
            <a:xfrm>
              <a:off x="5435640" y="3789360"/>
              <a:ext cx="2807640" cy="273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5435640" y="5156640"/>
              <a:ext cx="280764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6839280" y="3789360"/>
              <a:ext cx="0" cy="27349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539640" y="3860640"/>
            <a:ext cx="2807640" cy="2734920"/>
            <a:chOff x="539640" y="3860640"/>
            <a:chExt cx="2807640" cy="2734920"/>
          </a:xfrm>
        </p:grpSpPr>
        <p:sp>
          <p:nvSpPr>
            <p:cNvPr id="78" name="Rectangle 11"/>
            <p:cNvSpPr/>
            <p:nvPr/>
          </p:nvSpPr>
          <p:spPr>
            <a:xfrm>
              <a:off x="539640" y="3860640"/>
              <a:ext cx="2807640" cy="273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539640" y="5227920"/>
              <a:ext cx="280764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1943280" y="3860640"/>
              <a:ext cx="0" cy="27349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4"/>
          <p:cNvGrpSpPr/>
          <p:nvPr/>
        </p:nvGrpSpPr>
        <p:grpSpPr>
          <a:xfrm>
            <a:off x="5364000" y="260280"/>
            <a:ext cx="2807640" cy="2734920"/>
            <a:chOff x="5364000" y="260280"/>
            <a:chExt cx="2807640" cy="2734920"/>
          </a:xfrm>
        </p:grpSpPr>
        <p:sp>
          <p:nvSpPr>
            <p:cNvPr id="82" name="Rectangle 15"/>
            <p:cNvSpPr/>
            <p:nvPr/>
          </p:nvSpPr>
          <p:spPr>
            <a:xfrm>
              <a:off x="5364000" y="260280"/>
              <a:ext cx="2807640" cy="273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6"/>
            <p:cNvSpPr/>
            <p:nvPr/>
          </p:nvSpPr>
          <p:spPr>
            <a:xfrm>
              <a:off x="5364000" y="1627560"/>
              <a:ext cx="280764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7"/>
            <p:cNvSpPr/>
            <p:nvPr/>
          </p:nvSpPr>
          <p:spPr>
            <a:xfrm>
              <a:off x="6767640" y="260280"/>
              <a:ext cx="0" cy="273492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900000" y="187200"/>
            <a:ext cx="216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5724360" y="330120"/>
            <a:ext cx="230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971640" y="3860640"/>
            <a:ext cx="252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5938920" y="3789360"/>
            <a:ext cx="2378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873080" y="3108240"/>
            <a:ext cx="58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95280" y="909720"/>
            <a:ext cx="2665080" cy="2665080"/>
            <a:chOff x="395280" y="909720"/>
            <a:chExt cx="2665080" cy="2665080"/>
          </a:xfrm>
        </p:grpSpPr>
        <p:sp>
          <p:nvSpPr>
            <p:cNvPr id="91" name="Rectangle 3"/>
            <p:cNvSpPr/>
            <p:nvPr/>
          </p:nvSpPr>
          <p:spPr>
            <a:xfrm>
              <a:off x="395280" y="909720"/>
              <a:ext cx="2665080" cy="266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395280" y="2242080"/>
              <a:ext cx="266508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727640" y="909720"/>
              <a:ext cx="0" cy="266508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"/>
          <p:cNvGrpSpPr/>
          <p:nvPr/>
        </p:nvGrpSpPr>
        <p:grpSpPr>
          <a:xfrm>
            <a:off x="3203640" y="909720"/>
            <a:ext cx="2592000" cy="2663280"/>
            <a:chOff x="3203640" y="909720"/>
            <a:chExt cx="2592000" cy="2663280"/>
          </a:xfrm>
        </p:grpSpPr>
        <p:sp>
          <p:nvSpPr>
            <p:cNvPr id="95" name="Rectangle 7"/>
            <p:cNvSpPr/>
            <p:nvPr/>
          </p:nvSpPr>
          <p:spPr>
            <a:xfrm>
              <a:off x="3203640" y="909720"/>
              <a:ext cx="2592000" cy="2663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3203640" y="2241360"/>
              <a:ext cx="25920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4499640" y="909720"/>
              <a:ext cx="0" cy="266328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5940360" y="909720"/>
            <a:ext cx="2880720" cy="2736360"/>
            <a:chOff x="5940360" y="909720"/>
            <a:chExt cx="2880720" cy="2736360"/>
          </a:xfrm>
        </p:grpSpPr>
        <p:sp>
          <p:nvSpPr>
            <p:cNvPr id="99" name="Rectangle 11"/>
            <p:cNvSpPr/>
            <p:nvPr/>
          </p:nvSpPr>
          <p:spPr>
            <a:xfrm>
              <a:off x="5940360" y="909720"/>
              <a:ext cx="2880720" cy="273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5940360" y="2277720"/>
              <a:ext cx="288072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7380720" y="909720"/>
              <a:ext cx="0" cy="27363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611280" y="981000"/>
            <a:ext cx="266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3564000" y="981000"/>
            <a:ext cx="259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372360" y="981000"/>
            <a:ext cx="216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4CE-C852-40BC-9176-220F6861D4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424400" y="333360"/>
            <a:ext cx="9122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借助拼音自读课文，要求读准字音，争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到不多字，不少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遇到不认识的字，用笔圈出来，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699200" y="117360"/>
            <a:ext cx="57736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花篱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乡村的院子没有围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只有矮矮的竹篱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篱笆上开满了喇叭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美丽的花篱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不住院子里的春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挡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住外面的风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只管住调皮的小鸡小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不让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们去弄坏地里的庄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美丽的花篱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送上看不见的微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欢迎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屋里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喝碗芝麻豆子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美丽的花篱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连着东院、西院两户人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两家的孩子把篱笆当球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打起了羽毛球；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子的妈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隔着篱笆拉起了家常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喜欢花篱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823400" y="404640"/>
            <a:ext cx="530136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篱笆     院子     围墙     墙上     只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喇叭     关门     挡住     调皮     庄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村庄     喝茶     喝水     芝麻     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子     户口     羽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0"/>
          <p:cNvSpPr/>
          <p:nvPr/>
        </p:nvSpPr>
        <p:spPr>
          <a:xfrm>
            <a:off x="3132000" y="486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177920" y="94464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97080" y="647640"/>
            <a:ext cx="68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篱      笆      院      围       墙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      喇      叭      关       挡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      皮      庄      稼       喝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芝      豆      户      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467800" y="1628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读课文，你都知道了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187280" y="1054080"/>
            <a:ext cx="7128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喜欢花篱笆吗？把你喜欢的地方读给大家听并说一说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12720" y="909720"/>
            <a:ext cx="784872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乡村的院子没有围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矮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竹篱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篱笆上开满了喇叭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围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0:51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1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