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7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6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1.jpeg" ContentType="image/jpeg"/>
  <Override PartName="/ppt/media/image4.wmf" ContentType="image/x-wmf"/>
  <Override PartName="/ppt/media/image22.png" ContentType="image/png"/>
  <Override PartName="/ppt/media/camera.wav" ContentType="audio/x-wav"/>
  <Override PartName="/ppt/media/image21.jpeg" ContentType="image/jpeg"/>
  <Override PartName="/ppt/media/image20.jpeg" ContentType="image/jpeg"/>
  <Override PartName="/ppt/media/image18.jpeg" ContentType="image/jpeg"/>
  <Override PartName="/ppt/media/image14.jpeg" ContentType="image/jpeg"/>
  <Override PartName="/ppt/media/image16.png" ContentType="image/png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F93C-5458-4554-84B1-6F5712F11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5BD4-89C3-42E8-8438-DADBE8461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536C-D09C-495E-BEA0-0471FE791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C8C4-6724-4907-B9BB-706344293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4210-D089-4844-BABD-C52A4E96C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BF63-B180-4D8E-A441-6EB39558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0CDF-DD54-42AA-A4E4-B26B3D301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B404-6039-4C61-A42A-F579D754B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4006-52B1-40F4-90FE-7F51BBF3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1BD9-04AA-41B4-8A2A-F1E8C0C5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E380-DB1F-4C9E-B482-3FD47E7E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468F-110A-44C6-BD5E-026E00A6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5BC4-E0B9-4037-94CE-2A0C2B38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6741-6A3E-4782-A296-F5365715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AE23-02CC-4973-91F3-D1F0037C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FB11-E858-4F34-AB2D-44C94450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21DE-27B9-4928-B106-3463FE13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D5D6-DD94-4A31-9658-44A7784F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1585-8526-47E2-8D6A-97F38709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90AB-9ADC-47AE-9044-1A56FA0D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ADED-D28B-4D00-93A3-F00D89820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D27F5-2A01-4067-BF27-3F566D9B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31D4B-23DB-42B5-B75B-31981C5E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2A4AA-E8F7-4ED3-8918-C4160BE9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1604D-B869-432C-BEFF-842D63AD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AE9EA-06D6-4B70-9A64-365A1457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9E68-8BB3-4D8B-9F5C-E1B04CD0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E5D7F-AD17-4EE2-B093-E67BD4A2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1D3DB-DAD7-4DCC-AF2A-D86F1C9F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B241E-3972-437F-92CD-26D9DE4E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94D93-4D23-40D7-B525-9CB9277D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91905-3399-4B34-B5AB-A9B1F508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5B073-8E44-444C-B083-C20D9FCD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779D5-3C7D-48FE-9DA6-41DF9F4F2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EC02-E341-4E9F-9E27-A8246041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41FB-C52B-4F31-A8FE-FFE4F1D3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E498-5BEC-413D-8A3F-5E4BDAD9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4411-D11A-46F0-A67F-DD844774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1E70-FAD3-48CF-A42A-8267D446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46AB-CBD6-4C21-884A-40E84137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1616-20CC-4D9D-9ABB-1299DD79B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DBA1-0985-4E40-8B2E-074E2ABF688D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6E85-DF24-4A48-865C-434479209896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2.xml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slide" Target="slide19.xml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2.xml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2.xml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2.xml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7.xml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31.xml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封面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4"/>
          <p:cNvSpPr/>
          <p:nvPr/>
        </p:nvSpPr>
        <p:spPr>
          <a:xfrm>
            <a:off x="684360" y="907920"/>
            <a:ext cx="761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微软雅黑"/>
                <a:ea typeface="微软雅黑"/>
              </a:rPr>
              <a:t>虎门销烟</a:t>
            </a:r>
            <a:endParaRPr b="1" lang="en-US" sz="9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1845720" y="6021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-228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英国向中国输入鸦片数量激增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Object 3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156" name="Line 4"/>
          <p:cNvSpPr/>
          <p:nvPr/>
        </p:nvSpPr>
        <p:spPr>
          <a:xfrm flipV="1">
            <a:off x="1752480" y="4190760"/>
            <a:ext cx="990720" cy="228600"/>
          </a:xfrm>
          <a:prstGeom prst="line">
            <a:avLst/>
          </a:prstGeom>
          <a:ln cap="sq" w="3816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7" name="Line 5"/>
          <p:cNvSpPr/>
          <p:nvPr/>
        </p:nvSpPr>
        <p:spPr>
          <a:xfrm flipV="1">
            <a:off x="3048120" y="3733920"/>
            <a:ext cx="1143000" cy="457200"/>
          </a:xfrm>
          <a:prstGeom prst="line">
            <a:avLst/>
          </a:prstGeom>
          <a:ln cap="sq" w="3816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8" name="Line 6"/>
          <p:cNvSpPr/>
          <p:nvPr/>
        </p:nvSpPr>
        <p:spPr>
          <a:xfrm flipV="1">
            <a:off x="4191120" y="3124080"/>
            <a:ext cx="1143000" cy="609840"/>
          </a:xfrm>
          <a:prstGeom prst="line">
            <a:avLst/>
          </a:prstGeom>
          <a:ln cap="sq" w="3816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9" name="Line 7"/>
          <p:cNvSpPr/>
          <p:nvPr/>
        </p:nvSpPr>
        <p:spPr>
          <a:xfrm flipV="1">
            <a:off x="5334120" y="1980720"/>
            <a:ext cx="1143000" cy="1143000"/>
          </a:xfrm>
          <a:prstGeom prst="line">
            <a:avLst/>
          </a:prstGeom>
          <a:ln cap="sq" w="3816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3733920" y="1066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箱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8153280" y="42670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年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1447920" y="3886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0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266688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889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3505320" y="3352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576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4419720" y="281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331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5410080" y="1523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445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6705720" y="11430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200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8" name="Line 16"/>
          <p:cNvSpPr/>
          <p:nvPr/>
        </p:nvSpPr>
        <p:spPr>
          <a:xfrm flipV="1">
            <a:off x="6553080" y="1447560"/>
            <a:ext cx="1371600" cy="533160"/>
          </a:xfrm>
          <a:prstGeom prst="line">
            <a:avLst/>
          </a:prstGeom>
          <a:ln cap="sq" w="3816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0" y="533412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因为帝国主义侵略者向中国倾销鸦片，使得白银大量外流，直接威胁到清政府的财政；许多贵族、官僚、地主吸食鸦片以后，更加腐败；一些士兵也吸鸦片，军队的战斗力更加削弱了；抽大烟如果上了瘾，每天几次不能间断，不然就涕泪齐下，浑身瘫软；吸食时间一长，满脸烟容，最后骨瘦如柴，直至死去。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1600200" y="10666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0—</a:t>
            </a:r>
            <a:r>
              <a:rPr b="1" lang="en-US" sz="2800" spc="-1" strike="noStrike">
                <a:solidFill>
                  <a:srgbClr val="ff0000"/>
                </a:solidFill>
                <a:latin typeface="汉鼎简楷体"/>
                <a:ea typeface="汉鼎简楷体"/>
              </a:rPr>
              <a:t>1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公斤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1371600" y="1676520"/>
            <a:ext cx="4114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吸毒人数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掠夺白银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—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亿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里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6285960" y="894600"/>
            <a:ext cx="2403720" cy="506484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国清代爱国政治家、思想家、诗人。鸦片战争时期主张严禁鸦片、抵抗西方资本主义侵略，坚持维护中国主权和民族利益，缴获和焚毁大批鸦片，成为中国近代史上第一位民族英雄和爱国者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6227640" cy="63817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林则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4" descr="20060929103336427"/>
          <p:cNvPicPr/>
          <p:nvPr/>
        </p:nvPicPr>
        <p:blipFill>
          <a:blip r:embed="rId1"/>
          <a:stretch/>
        </p:blipFill>
        <p:spPr>
          <a:xfrm>
            <a:off x="324000" y="984240"/>
            <a:ext cx="5256000" cy="513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linzexu006"/>
          <p:cNvPicPr/>
          <p:nvPr/>
        </p:nvPicPr>
        <p:blipFill>
          <a:blip r:embed="rId1"/>
          <a:stretch/>
        </p:blipFill>
        <p:spPr>
          <a:xfrm>
            <a:off x="533520" y="838080"/>
            <a:ext cx="4190760" cy="47246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3"/>
          <p:cNvSpPr/>
          <p:nvPr/>
        </p:nvSpPr>
        <p:spPr>
          <a:xfrm>
            <a:off x="4724280" y="30492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林则徐，清朝爱国官员，坚决主张禁止鸦片。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1839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年，他被派到广州查禁鸦片，把从外商那儿搜到的鸦片全部烧掉。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3456000" cy="12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思考：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１、事情发生在什么时间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90317"/>
                </a:solidFill>
                <a:latin typeface="Arial"/>
              </a:rPr>
              <a:t>１</a:t>
            </a:r>
            <a:r>
              <a:rPr b="0" lang="en-US" sz="3200" spc="-1" strike="noStrike">
                <a:solidFill>
                  <a:srgbClr val="d90317"/>
                </a:solidFill>
                <a:latin typeface="Arial"/>
              </a:rPr>
              <a:t>839</a:t>
            </a:r>
            <a:r>
              <a:rPr b="0" lang="zh-CN" sz="3200" spc="-1" strike="noStrike">
                <a:solidFill>
                  <a:srgbClr val="d90317"/>
                </a:solidFill>
                <a:latin typeface="Arial"/>
              </a:rPr>
              <a:t>年６月３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２、事情发生在什么地点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90317"/>
                </a:solidFill>
                <a:latin typeface="Arial"/>
              </a:rPr>
              <a:t>虎门海滩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３、事情大致经过怎样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90317"/>
                </a:solidFill>
                <a:latin typeface="Arial"/>
              </a:rPr>
              <a:t>钦差大臣林则徐遵照皇上御旨当众销毁收缴的洋人鸦片的热闹场面．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　　　　围绕这件事情本文应该分为几部分？每一部分分别写了哪些主要内容呢？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1680" y="1630080"/>
            <a:ext cx="8540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0317"/>
                </a:solidFill>
                <a:latin typeface="Arial"/>
              </a:rPr>
              <a:t>全文共</a:t>
            </a:r>
            <a:r>
              <a:rPr b="0" lang="en-US" sz="2800" spc="-1" strike="noStrike">
                <a:solidFill>
                  <a:srgbClr val="d90317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d90317"/>
                </a:solidFill>
                <a:latin typeface="Arial"/>
              </a:rPr>
              <a:t>个自然段，可分为三部分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dc418"/>
                </a:solidFill>
                <a:latin typeface="Arial"/>
              </a:rPr>
              <a:t>第一部分（第１自然段）</a:t>
            </a:r>
            <a:r>
              <a:rPr b="0" lang="zh-CN" sz="2800" spc="-1" strike="noStrike">
                <a:solidFill>
                  <a:srgbClr val="d90317"/>
                </a:solidFill>
                <a:latin typeface="Arial"/>
              </a:rPr>
              <a:t>讲１８３９年６月的一天，广州城沸腾起来了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c418"/>
                </a:solidFill>
                <a:latin typeface="Arial"/>
              </a:rPr>
              <a:t>第二部分（第２－５自然段）</a:t>
            </a:r>
            <a:r>
              <a:rPr b="0" lang="zh-CN" sz="2800" spc="-1" strike="noStrike">
                <a:solidFill>
                  <a:srgbClr val="d90317"/>
                </a:solidFill>
                <a:latin typeface="Arial"/>
              </a:rPr>
              <a:t>记叙了６月３日虎门销烟的壮观场面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c418"/>
                </a:solidFill>
                <a:latin typeface="Arial"/>
              </a:rPr>
              <a:t>第三部分（最后一个自然段）</a:t>
            </a:r>
            <a:r>
              <a:rPr b="0" lang="zh-CN" sz="2800" spc="-1" strike="noStrike">
                <a:solidFill>
                  <a:srgbClr val="d90317"/>
                </a:solidFill>
                <a:latin typeface="Arial"/>
              </a:rPr>
              <a:t>是全文的总结．讲销烟的壮举大长了中国人民的志气，大灭了外国侵略者的威风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380880" y="1219320"/>
            <a:ext cx="838224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839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日，是中国历史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上</a:t>
            </a:r>
            <a:r>
              <a:rPr b="0" lang="zh-CN" sz="4400" spc="-1" strike="noStrike">
                <a:solidFill>
                  <a:srgbClr val="ff0000"/>
                </a:solidFill>
                <a:latin typeface="宋体"/>
                <a:ea typeface="宋体"/>
              </a:rPr>
              <a:t>值得纪念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的日子。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82" name="Picture 4" descr="50.gif (2508 字节)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0" y="129528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虎门销烟这一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伟大壮举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， 沉重地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打击了外国侵略者的嚣张气焰，它向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全世界表明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中国人民是不可欺侮的！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84" name="Picture 3" descr="50.gif (2508 字节)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250920" y="620640"/>
            <a:ext cx="883908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  <a:ea typeface="宋体"/>
              </a:rPr>
              <a:t>壮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宋体"/>
              </a:rPr>
              <a:t>”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  <a:ea typeface="宋体"/>
              </a:rPr>
              <a:t>在字典中有三种解释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宋体"/>
              </a:rPr>
              <a:t> ：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  <a:ea typeface="宋体"/>
              </a:rPr>
              <a:t>、健壮有力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宋体"/>
              </a:rPr>
              <a:t>B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  <a:ea typeface="宋体"/>
              </a:rPr>
              <a:t>、伟大、有气魄 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宋体"/>
              </a:rPr>
              <a:t>C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  <a:ea typeface="宋体"/>
              </a:rPr>
              <a:t>、增加勇气或力量。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宋体"/>
              </a:rPr>
              <a:t> 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宋体"/>
              </a:rPr>
              <a:t>你认为“壮举”的“壮”的意思 应该选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宋体"/>
              </a:rPr>
              <a:t>择（             ）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1619280" y="47242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B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87" name="Picture 6" descr="50.gif (2508 字节)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324000" y="1413000"/>
            <a:ext cx="82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a77"/>
                </a:solidFill>
                <a:latin typeface="Times New Roman"/>
              </a:rPr>
              <a:t>     “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宋体"/>
              </a:rPr>
              <a:t>壮”体现在哪些地方？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89" name="Picture 4" descr="50.gif (2508 字节)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2" descr="小学语文(记叙文）03"/>
          <p:cNvPicPr/>
          <p:nvPr/>
        </p:nvPicPr>
        <p:blipFill>
          <a:blip r:embed="rId3"/>
          <a:stretch/>
        </p:blipFill>
        <p:spPr>
          <a:xfrm>
            <a:off x="395280" y="76500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5">
            <a:hlinkClick r:id="rId4" action="ppaction://hlinksldjump"/>
          </p:cNvPr>
          <p:cNvSpPr/>
          <p:nvPr/>
        </p:nvSpPr>
        <p:spPr>
          <a:xfrm>
            <a:off x="1044720" y="2421000"/>
            <a:ext cx="82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、前来观看的人多而广，群情沸腾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1042920" y="429264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、销毁的鸦片数量很多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1116000" y="342900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、仪式很隆重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026">
            <a:hlinkClick r:id="rId2" action="ppaction://hlinksldjump"/>
          </p:cNvPr>
          <p:cNvSpPr/>
          <p:nvPr/>
        </p:nvSpPr>
        <p:spPr>
          <a:xfrm>
            <a:off x="0" y="38088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7a77"/>
                </a:solidFill>
                <a:latin typeface="宋体"/>
                <a:ea typeface="宋体"/>
              </a:rPr>
              <a:t>这一天，天气晴朗，碧海、蓝天、绿树，把古老的虎门寨装点得分外壮丽。一大早从各地闻讯赶来的男男女女，老老少少把宽阔的海滩挤得水泄不通。新搭起的礼台上彩旗林立；礼台下，一侧是身着朝服的文武官员，另一侧是应邀前来观看的外国商人。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95" name="Picture 1029" descr="50.gif (2508 字节)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44000" y="60930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1030">
            <a:hlinkClick r:id="" action="ppaction://hlinkshowjump?jump=previousslide"/>
          </p:cNvPr>
          <p:cNvSpPr/>
          <p:nvPr/>
        </p:nvSpPr>
        <p:spPr>
          <a:xfrm>
            <a:off x="8820000" y="6453360"/>
            <a:ext cx="324000" cy="40464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404640"/>
              <a:gd name="textAreaBottom" fmla="*/ 383760 h 404640"/>
            </a:gdLst>
            <a:ahLst/>
            <a:rect l="textAreaLeft" t="textAreaTop" r="textAreaRight" b="textAreaBottom"/>
            <a:pathLst>
              <a:path w="21600" h="26970">
                <a:moveTo>
                  <a:pt x="0" y="0"/>
                </a:moveTo>
                <a:lnTo>
                  <a:pt x="21600" y="0"/>
                </a:lnTo>
                <a:lnTo>
                  <a:pt x="21600" y="26970"/>
                </a:lnTo>
                <a:lnTo>
                  <a:pt x="0" y="26970"/>
                </a:lnTo>
                <a:close/>
              </a:path>
              <a:path fill="lightenLess" w="21600" h="269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0">
                <a:moveTo>
                  <a:pt x="21600" y="0"/>
                </a:moveTo>
                <a:lnTo>
                  <a:pt x="21600" y="26970"/>
                </a:lnTo>
                <a:lnTo>
                  <a:pt x="20200" y="25570"/>
                </a:lnTo>
                <a:lnTo>
                  <a:pt x="20200" y="1400"/>
                </a:lnTo>
                <a:close/>
              </a:path>
              <a:path fill="darkenLess" w="21600" h="26970">
                <a:moveTo>
                  <a:pt x="21600" y="26970"/>
                </a:moveTo>
                <a:lnTo>
                  <a:pt x="0" y="26970"/>
                </a:lnTo>
                <a:lnTo>
                  <a:pt x="1400" y="25570"/>
                </a:lnTo>
                <a:lnTo>
                  <a:pt x="20200" y="25570"/>
                </a:lnTo>
                <a:close/>
              </a:path>
              <a:path fill="lighten" w="21600" h="26970">
                <a:moveTo>
                  <a:pt x="0" y="269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0"/>
                </a:lnTo>
                <a:close/>
              </a:path>
              <a:path fill="darken" w="21600" h="26970">
                <a:moveTo>
                  <a:pt x="3794" y="13485"/>
                </a:moveTo>
                <a:lnTo>
                  <a:pt x="17806" y="6479"/>
                </a:lnTo>
                <a:lnTo>
                  <a:pt x="17806" y="2049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7" name="AutoShape 1031">
            <a:hlinkClick r:id="" action="ppaction://hlinkshowjump?jump=previousslide"/>
          </p:cNvPr>
          <p:cNvSpPr/>
          <p:nvPr/>
        </p:nvSpPr>
        <p:spPr>
          <a:xfrm>
            <a:off x="8317080" y="6021360"/>
            <a:ext cx="826920" cy="576360"/>
          </a:xfrm>
          <a:custGeom>
            <a:avLst/>
            <a:gdLst>
              <a:gd name="textAreaLeft" fmla="*/ 37080 w 826920"/>
              <a:gd name="textAreaRight" fmla="*/ 789840 w 826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0984" h="21600">
                <a:moveTo>
                  <a:pt x="0" y="0"/>
                </a:moveTo>
                <a:lnTo>
                  <a:pt x="30984" y="0"/>
                </a:lnTo>
                <a:lnTo>
                  <a:pt x="30984" y="21600"/>
                </a:lnTo>
                <a:lnTo>
                  <a:pt x="0" y="21600"/>
                </a:lnTo>
                <a:close/>
              </a:path>
              <a:path fill="lightenLess" w="30984" h="21600">
                <a:moveTo>
                  <a:pt x="0" y="0"/>
                </a:moveTo>
                <a:lnTo>
                  <a:pt x="30984" y="0"/>
                </a:lnTo>
                <a:lnTo>
                  <a:pt x="29584" y="1400"/>
                </a:lnTo>
                <a:lnTo>
                  <a:pt x="1400" y="1400"/>
                </a:lnTo>
                <a:close/>
              </a:path>
              <a:path fill="darken" w="30984" h="21600">
                <a:moveTo>
                  <a:pt x="30984" y="0"/>
                </a:moveTo>
                <a:lnTo>
                  <a:pt x="30984" y="21600"/>
                </a:lnTo>
                <a:lnTo>
                  <a:pt x="29584" y="20200"/>
                </a:lnTo>
                <a:lnTo>
                  <a:pt x="29584" y="1400"/>
                </a:lnTo>
                <a:close/>
              </a:path>
              <a:path fill="darkenLess" w="30984" h="21600">
                <a:moveTo>
                  <a:pt x="30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84" y="20200"/>
                </a:lnTo>
                <a:close/>
              </a:path>
              <a:path fill="lighten" w="30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学习生字新词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3120" y="1628280"/>
            <a:ext cx="85917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xiāo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lì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　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sh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ǐ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　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zh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í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　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zh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à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i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90317"/>
                </a:solidFill>
                <a:latin typeface="Arial"/>
              </a:rPr>
              <a:t>销        历          史            值            寨    　　  　　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销毁　历史　  史记        值得        村寨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á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       huǐ       chè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　 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jīn       wǔ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盐          毁          彻         斤        侮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盐水    毁坏　　彻底　 斤两      侮辱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5" name="Picture 4" descr="sce05"/>
          <p:cNvPicPr/>
          <p:nvPr/>
        </p:nvPicPr>
        <p:blipFill>
          <a:blip r:embed="rId1"/>
          <a:stretch/>
        </p:blipFill>
        <p:spPr>
          <a:xfrm>
            <a:off x="6157800" y="2276640"/>
            <a:ext cx="2808360" cy="3970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4259520" y="691920"/>
            <a:ext cx="1149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我会动脑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　细读课文第１自然段，想一想：作者为什么选择了三组年龄段的人作为写作的对象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d90317"/>
                </a:solidFill>
                <a:latin typeface="Arial"/>
              </a:rPr>
              <a:t>　因为作者把他们作为代表，他们代表着不同年龄的中国人民，不论老少都拍手称快，突出了场面的热闹．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00" name="Picture 4" descr="SM136"/>
          <p:cNvPicPr/>
          <p:nvPr/>
        </p:nvPicPr>
        <p:blipFill>
          <a:blip r:embed="rId1"/>
          <a:stretch/>
        </p:blipFill>
        <p:spPr>
          <a:xfrm>
            <a:off x="3276720" y="549360"/>
            <a:ext cx="5472000" cy="1201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8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3" dur="2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销烟池 </a:t>
            </a: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2" name="WordArt 3"/>
          <p:cNvSpPr txBox="1"/>
          <p:nvPr/>
        </p:nvSpPr>
        <p:spPr>
          <a:xfrm rot="5400000">
            <a:off x="3411000" y="627120"/>
            <a:ext cx="1371600" cy="780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旧址</a:t>
            </a:r>
            <a:endParaRPr b="1" i="1" lang="en-US" sz="54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03" name="Picture 4" descr="b_7CC8C0CDEDD085AF20BD775AC7AF66EC"/>
          <p:cNvPicPr/>
          <p:nvPr/>
        </p:nvPicPr>
        <p:blipFill>
          <a:blip r:embed="rId1"/>
          <a:stretch/>
        </p:blipFill>
        <p:spPr>
          <a:xfrm>
            <a:off x="108000" y="1774800"/>
            <a:ext cx="8858160" cy="4608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419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销烟池大体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5" name="WordArt 3"/>
          <p:cNvSpPr txBox="1"/>
          <p:nvPr/>
        </p:nvSpPr>
        <p:spPr>
          <a:xfrm>
            <a:off x="3851280" y="620640"/>
            <a:ext cx="16765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结构</a:t>
            </a:r>
            <a:endParaRPr b="1" lang="en-US" sz="66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206" name="Picture 4" descr="200642810391707"/>
          <p:cNvPicPr/>
          <p:nvPr/>
        </p:nvPicPr>
        <p:blipFill>
          <a:blip r:embed="rId1"/>
          <a:stretch/>
        </p:blipFill>
        <p:spPr>
          <a:xfrm>
            <a:off x="108000" y="1846440"/>
            <a:ext cx="8856720" cy="4465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下面几幅图都写出了什么的过程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24000" y="1916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09" name="Picture 4" descr="1534592555"/>
          <p:cNvPicPr/>
          <p:nvPr/>
        </p:nvPicPr>
        <p:blipFill>
          <a:blip r:embed="rId1"/>
          <a:stretch/>
        </p:blipFill>
        <p:spPr>
          <a:xfrm>
            <a:off x="324000" y="1844640"/>
            <a:ext cx="8820000" cy="478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11" name="Picture 3" descr="06"/>
          <p:cNvPicPr/>
          <p:nvPr/>
        </p:nvPicPr>
        <p:blipFill>
          <a:blip r:embed="rId1"/>
          <a:stretch/>
        </p:blipFill>
        <p:spPr>
          <a:xfrm>
            <a:off x="36360" y="623880"/>
            <a:ext cx="9072720" cy="568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2" name="camera.wav"/>
      </p:stSnd>
    </p:sndAc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1955880" y="549000"/>
            <a:ext cx="71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想一想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１、看了销“烟”图片后，找一找课文哪些自然段具体写了销毁鸦片的经过呢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90317"/>
                </a:solidFill>
                <a:latin typeface="Arial"/>
              </a:rPr>
              <a:t>（２－５自然段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哪些句子是描写销毁鸦片的场面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90317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d90317"/>
                </a:solidFill>
                <a:latin typeface="Arial"/>
              </a:rPr>
              <a:t>先…然后…又…再…</a:t>
            </a:r>
            <a:r>
              <a:rPr b="0" lang="zh-CN" sz="3200" spc="-1" strike="noStrike">
                <a:solidFill>
                  <a:srgbClr val="d90317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这个场面你要用什么词语来形容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90317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d90317"/>
                </a:solidFill>
                <a:latin typeface="Arial"/>
              </a:rPr>
              <a:t>壮观、激动人心—从围观的群众欢呼雀跃，雷鸣般的欢呼声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2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1" dur="2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6" dur="2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2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6" dur="20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0" y="762120"/>
            <a:ext cx="9144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午后二时许，</a:t>
            </a:r>
            <a:r>
              <a:rPr b="1" lang="zh-CN" sz="3200" spc="-1" strike="noStrike">
                <a:solidFill>
                  <a:srgbClr val="001010"/>
                </a:solidFill>
                <a:latin typeface="宋体"/>
                <a:ea typeface="宋体"/>
              </a:rPr>
              <a:t>林则徐等人健步登上礼台</a:t>
            </a:r>
            <a:r>
              <a:rPr b="1" lang="en-US" sz="3200" spc="-1" strike="noStrike">
                <a:solidFill>
                  <a:srgbClr val="00101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1010"/>
                </a:solidFill>
                <a:latin typeface="宋体"/>
                <a:ea typeface="宋体"/>
              </a:rPr>
              <a:t>这时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010"/>
                </a:solidFill>
                <a:latin typeface="宋体"/>
                <a:ea typeface="宋体"/>
              </a:rPr>
              <a:t>候</a:t>
            </a:r>
            <a:r>
              <a:rPr b="1" lang="en-US" sz="3200" spc="-1" strike="noStrike">
                <a:solidFill>
                  <a:srgbClr val="00101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1010"/>
                </a:solidFill>
                <a:latin typeface="宋体"/>
                <a:ea typeface="宋体"/>
              </a:rPr>
              <a:t>礼炮轰鸣</a:t>
            </a:r>
            <a:r>
              <a:rPr b="1" lang="en-US" sz="3200" spc="-1" strike="noStrike">
                <a:solidFill>
                  <a:srgbClr val="00101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1010"/>
                </a:solidFill>
                <a:latin typeface="宋体"/>
                <a:ea typeface="宋体"/>
              </a:rPr>
              <a:t>群情沸腾。随着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林则徐一声令下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震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惊中外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虎门销烟开始了。只见一群群光着脊梁、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赤着双脚的民工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向灌了水的销烟池里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  <a:ea typeface="宋体"/>
              </a:rPr>
              <a:t>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下</a:t>
            </a:r>
            <a:r>
              <a:rPr b="1" lang="zh-CN" sz="3200" spc="-1" strike="noStrike">
                <a:solidFill>
                  <a:srgbClr val="001010"/>
                </a:solidFill>
                <a:latin typeface="宋体"/>
                <a:ea typeface="宋体"/>
              </a:rPr>
              <a:t>盐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010"/>
                </a:solidFill>
                <a:latin typeface="宋体"/>
                <a:ea typeface="宋体"/>
              </a:rPr>
              <a:t>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再</a:t>
            </a:r>
            <a:r>
              <a:rPr b="1" lang="zh-CN" sz="3200" spc="-1" strike="noStrike">
                <a:solidFill>
                  <a:srgbClr val="001010"/>
                </a:solidFill>
                <a:latin typeface="宋体"/>
                <a:ea typeface="宋体"/>
              </a:rPr>
              <a:t>把收缴来的鸦片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  <a:ea typeface="宋体"/>
              </a:rPr>
              <a:t>抛</a:t>
            </a:r>
            <a:r>
              <a:rPr b="1" lang="zh-CN" sz="3200" spc="-1" strike="noStrike">
                <a:solidFill>
                  <a:srgbClr val="001010"/>
                </a:solidFill>
                <a:latin typeface="宋体"/>
                <a:ea typeface="宋体"/>
              </a:rPr>
              <a:t>入池内，然后又把一担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010"/>
                </a:solidFill>
                <a:latin typeface="宋体"/>
                <a:ea typeface="宋体"/>
              </a:rPr>
              <a:t>担生石灰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  <a:ea typeface="宋体"/>
              </a:rPr>
              <a:t>倒</a:t>
            </a:r>
            <a:r>
              <a:rPr b="1" lang="zh-CN" sz="3200" spc="-1" strike="noStrike">
                <a:solidFill>
                  <a:srgbClr val="001010"/>
                </a:solidFill>
                <a:latin typeface="宋体"/>
                <a:ea typeface="宋体"/>
              </a:rPr>
              <a:t>下去。顿时，销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烟池里像开了锅一样，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咕嘟咕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直冒泡，散发出股股难闻的气味。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15" name="Picture 3" descr="50.gif (2508 字节)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2743200" y="2286000"/>
            <a:ext cx="4038480" cy="213372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7" name="Line 3"/>
          <p:cNvSpPr/>
          <p:nvPr/>
        </p:nvSpPr>
        <p:spPr>
          <a:xfrm flipV="1">
            <a:off x="2743200" y="1600200"/>
            <a:ext cx="0" cy="2819520"/>
          </a:xfrm>
          <a:prstGeom prst="line">
            <a:avLst/>
          </a:prstGeom>
          <a:ln cap="sq"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8" name="Line 4"/>
          <p:cNvSpPr/>
          <p:nvPr/>
        </p:nvSpPr>
        <p:spPr>
          <a:xfrm>
            <a:off x="2743200" y="4419720"/>
            <a:ext cx="4114800" cy="0"/>
          </a:xfrm>
          <a:prstGeom prst="line">
            <a:avLst/>
          </a:prstGeom>
          <a:ln cap="sq"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9" name="Line 5"/>
          <p:cNvSpPr/>
          <p:nvPr/>
        </p:nvSpPr>
        <p:spPr>
          <a:xfrm flipV="1">
            <a:off x="6858000" y="1600200"/>
            <a:ext cx="0" cy="2819520"/>
          </a:xfrm>
          <a:prstGeom prst="line">
            <a:avLst/>
          </a:prstGeom>
          <a:ln cap="sq"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1752480" y="2438280"/>
            <a:ext cx="762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45</a:t>
            </a:r>
            <a:r>
              <a:rPr b="1" lang="zh-CN" sz="4400" spc="-1" strike="noStrike">
                <a:solidFill>
                  <a:srgbClr val="ff0000"/>
                </a:solidFill>
                <a:latin typeface="Arial Narrow"/>
              </a:rPr>
              <a:t>米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4163040" y="4343400"/>
            <a:ext cx="115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45</a:t>
            </a:r>
            <a:r>
              <a:rPr b="1" lang="zh-CN" sz="4400" spc="-1" strike="noStrike">
                <a:solidFill>
                  <a:srgbClr val="ff0000"/>
                </a:solidFill>
                <a:latin typeface="Arial Narrow"/>
              </a:rPr>
              <a:t>米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7315200" y="236232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45</a:t>
            </a:r>
            <a:r>
              <a:rPr b="1" lang="zh-CN" sz="4400" spc="-1" strike="noStrike">
                <a:solidFill>
                  <a:srgbClr val="ff0000"/>
                </a:solidFill>
                <a:latin typeface="Arial Narrow"/>
              </a:rPr>
              <a:t>米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3" name="Line 9"/>
          <p:cNvSpPr/>
          <p:nvPr/>
        </p:nvSpPr>
        <p:spPr>
          <a:xfrm flipV="1">
            <a:off x="6858000" y="1600200"/>
            <a:ext cx="0" cy="281952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2743200" y="2286000"/>
            <a:ext cx="4114800" cy="213372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5" name="AutoShape 11"/>
          <p:cNvSpPr/>
          <p:nvPr/>
        </p:nvSpPr>
        <p:spPr>
          <a:xfrm>
            <a:off x="3124080" y="2895480"/>
            <a:ext cx="304920" cy="3049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6" name="AutoShape 12"/>
          <p:cNvSpPr/>
          <p:nvPr/>
        </p:nvSpPr>
        <p:spPr>
          <a:xfrm>
            <a:off x="4419720" y="3809880"/>
            <a:ext cx="304560" cy="228600"/>
          </a:xfrm>
          <a:prstGeom prst="hexagon">
            <a:avLst>
              <a:gd name="adj" fmla="val 33307"/>
              <a:gd name="vf" fmla="val 115470"/>
            </a:avLst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7" name="AutoShape 13"/>
          <p:cNvSpPr/>
          <p:nvPr/>
        </p:nvSpPr>
        <p:spPr>
          <a:xfrm>
            <a:off x="5257800" y="3809880"/>
            <a:ext cx="380880" cy="152640"/>
          </a:xfrm>
          <a:prstGeom prst="hexagon">
            <a:avLst>
              <a:gd name="adj" fmla="val 62382"/>
              <a:gd name="vf" fmla="val 115470"/>
            </a:avLst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8" name="AutoShape 14"/>
          <p:cNvSpPr/>
          <p:nvPr/>
        </p:nvSpPr>
        <p:spPr>
          <a:xfrm>
            <a:off x="5791320" y="3352680"/>
            <a:ext cx="304560" cy="3049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9" name="AutoShape 15"/>
          <p:cNvSpPr/>
          <p:nvPr/>
        </p:nvSpPr>
        <p:spPr>
          <a:xfrm>
            <a:off x="4038480" y="3200400"/>
            <a:ext cx="304920" cy="3049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0" name="AutoShape 16"/>
          <p:cNvSpPr/>
          <p:nvPr/>
        </p:nvSpPr>
        <p:spPr>
          <a:xfrm>
            <a:off x="6019920" y="2743200"/>
            <a:ext cx="304560" cy="3049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1" name="AutoShape 17"/>
          <p:cNvSpPr/>
          <p:nvPr/>
        </p:nvSpPr>
        <p:spPr>
          <a:xfrm>
            <a:off x="3505320" y="3733920"/>
            <a:ext cx="380880" cy="228600"/>
          </a:xfrm>
          <a:prstGeom prst="pentagon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2" name="AutoShape 18"/>
          <p:cNvSpPr/>
          <p:nvPr/>
        </p:nvSpPr>
        <p:spPr>
          <a:xfrm>
            <a:off x="6400800" y="3581280"/>
            <a:ext cx="380880" cy="228600"/>
          </a:xfrm>
          <a:prstGeom prst="pentagon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3" name="AutoShape 19"/>
          <p:cNvSpPr/>
          <p:nvPr/>
        </p:nvSpPr>
        <p:spPr>
          <a:xfrm>
            <a:off x="4952880" y="3124080"/>
            <a:ext cx="381240" cy="228600"/>
          </a:xfrm>
          <a:prstGeom prst="pentagon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4" name="AutoShape 20"/>
          <p:cNvSpPr/>
          <p:nvPr/>
        </p:nvSpPr>
        <p:spPr>
          <a:xfrm>
            <a:off x="4419720" y="2819520"/>
            <a:ext cx="380880" cy="228600"/>
          </a:xfrm>
          <a:prstGeom prst="pentagon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5" name="Text Box 21"/>
          <p:cNvSpPr/>
          <p:nvPr/>
        </p:nvSpPr>
        <p:spPr>
          <a:xfrm>
            <a:off x="2971800" y="609480"/>
            <a:ext cx="1523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Narrow"/>
              </a:rPr>
              <a:t>盐巴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6" name="AutoShape 22"/>
          <p:cNvSpPr/>
          <p:nvPr/>
        </p:nvSpPr>
        <p:spPr>
          <a:xfrm>
            <a:off x="3505320" y="1523880"/>
            <a:ext cx="228600" cy="533520"/>
          </a:xfrm>
          <a:prstGeom prst="downArrow">
            <a:avLst>
              <a:gd name="adj1" fmla="val 50000"/>
              <a:gd name="adj2" fmla="val 58325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7" name="Text Box 23"/>
          <p:cNvSpPr/>
          <p:nvPr/>
        </p:nvSpPr>
        <p:spPr>
          <a:xfrm>
            <a:off x="4648320" y="60948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Narrow"/>
              </a:rPr>
              <a:t>生石灰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8" name="AutoShape 24"/>
          <p:cNvSpPr/>
          <p:nvPr/>
        </p:nvSpPr>
        <p:spPr>
          <a:xfrm>
            <a:off x="5334120" y="1523880"/>
            <a:ext cx="228600" cy="533520"/>
          </a:xfrm>
          <a:prstGeom prst="downArrow">
            <a:avLst>
              <a:gd name="adj1" fmla="val 50000"/>
              <a:gd name="adj2" fmla="val 58325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9" name="Text Box 25"/>
          <p:cNvSpPr/>
          <p:nvPr/>
        </p:nvSpPr>
        <p:spPr>
          <a:xfrm>
            <a:off x="1828800" y="48769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2b2b2"/>
                </a:solidFill>
                <a:latin typeface="Arial Narrow"/>
              </a:rPr>
              <a:t>撒</a:t>
            </a:r>
            <a:endParaRPr b="1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0" name="AutoShape 26"/>
          <p:cNvSpPr/>
          <p:nvPr/>
        </p:nvSpPr>
        <p:spPr>
          <a:xfrm>
            <a:off x="2666880" y="51055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1" name="Text Box 27"/>
          <p:cNvSpPr/>
          <p:nvPr/>
        </p:nvSpPr>
        <p:spPr>
          <a:xfrm>
            <a:off x="3581280" y="48006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2b2b2"/>
                </a:solidFill>
                <a:latin typeface="Arial Narrow"/>
              </a:rPr>
              <a:t>抛</a:t>
            </a:r>
            <a:endParaRPr b="1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2" name="AutoShape 28"/>
          <p:cNvSpPr/>
          <p:nvPr/>
        </p:nvSpPr>
        <p:spPr>
          <a:xfrm>
            <a:off x="4648320" y="51055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3" name="Text Box 29"/>
          <p:cNvSpPr/>
          <p:nvPr/>
        </p:nvSpPr>
        <p:spPr>
          <a:xfrm>
            <a:off x="5486400" y="487692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2b2b2"/>
                </a:solidFill>
                <a:latin typeface="Arial Narrow"/>
              </a:rPr>
              <a:t>倒</a:t>
            </a:r>
            <a:endParaRPr b="1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4" name="Text Box 30"/>
          <p:cNvSpPr/>
          <p:nvPr/>
        </p:nvSpPr>
        <p:spPr>
          <a:xfrm>
            <a:off x="3733920" y="5715000"/>
            <a:ext cx="3047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Arial Narrow"/>
              </a:rPr>
              <a:t>溶化</a:t>
            </a:r>
            <a:endParaRPr b="1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500"/>
                            </p:stCondLst>
                            <p:childTnLst>
                              <p:par>
                                <p:cTn id="29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500"/>
                            </p:stCondLst>
                            <p:childTnLst>
                              <p:par>
                                <p:cTn id="3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6000"/>
                            </p:stCondLst>
                            <p:childTnLst>
                              <p:par>
                                <p:cTn id="30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6500"/>
                            </p:stCondLst>
                            <p:childTnLst>
                              <p:par>
                                <p:cTn id="30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7000"/>
                            </p:stCondLst>
                            <p:childTnLst>
                              <p:par>
                                <p:cTn id="31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7500"/>
                            </p:stCondLst>
                            <p:childTnLst>
                              <p:par>
                                <p:cTn id="31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8000"/>
                            </p:stCondLst>
                            <p:childTnLst>
                              <p:par>
                                <p:cTn id="31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8500"/>
                            </p:stCondLst>
                            <p:childTnLst>
                              <p:par>
                                <p:cTn id="32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9000"/>
                            </p:stCondLst>
                            <p:childTnLst>
                              <p:par>
                                <p:cTn id="32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9500"/>
                            </p:stCondLst>
                            <p:childTnLst>
                              <p:par>
                                <p:cTn id="33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9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2.M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49" dur="indefinite" restart="never" nodeType="tmRoot">
          <p:childTnLst>
            <p:seq>
              <p:cTn id="350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4" dur="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228600" y="1066680"/>
            <a:ext cx="86868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看到害人的鸦片被销毁了，成千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上万的老百姓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激动得跳哇、叫哇，欢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呼声响彻虎门上空。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47" name="Picture 5" descr="50.gif (2508 字节)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50920" y="549360"/>
            <a:ext cx="8208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</a:rPr>
              <a:t>收缴  一担  开锅  烟渣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</a:rPr>
              <a:t>卷进  咆哮  嚣张  脊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销毁  历史  值得  虎门寨     群情沸腾  健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食盐  彻底  一斤  欺侮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0" y="1143000"/>
            <a:ext cx="89154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销烟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整整持续了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3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天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二百多万斤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鸦片化为烟渣，随着潮水被卷进了咆哮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的大海之中。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49" name="Picture 5" descr="50.gif (2508 字节)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2485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0" y="1295280"/>
            <a:ext cx="91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虎门销烟这一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伟大壮举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， 沉重地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打击了外国侵略者的嚣张气焰，它向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全世界表明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中国人民是不可欺侮的！ 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51" name="Picture 5" descr="50.gif (2508 字节)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609480" y="685800"/>
            <a:ext cx="7925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324000" y="907920"/>
            <a:ext cx="90723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宋体"/>
              </a:rPr>
              <a:t>中国人民</a:t>
            </a:r>
            <a:endParaRPr b="1" lang="en-US" sz="9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宋体"/>
              </a:rPr>
              <a:t>是不可欺侮的！</a:t>
            </a:r>
            <a:endParaRPr b="1" lang="en-US" sz="96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54" name="Picture 4" descr="50.gif (2508 字节)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05920" y="59436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55" name="文本框 1"/>
          <p:cNvSpPr/>
          <p:nvPr/>
        </p:nvSpPr>
        <p:spPr>
          <a:xfrm>
            <a:off x="609480" y="6033960"/>
            <a:ext cx="605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更多免费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PPT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模板尽在：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http://www.eeppt.com</a:t>
            </a: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3"/>
          <p:cNvSpPr/>
          <p:nvPr/>
        </p:nvSpPr>
        <p:spPr>
          <a:xfrm>
            <a:off x="304920" y="512136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如果此时，我们站在林则徐的雕塑前，你想说些什么？</a:t>
            </a:r>
            <a:endParaRPr b="1" lang="en-US" sz="5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1"/>
          <p:cNvPicPr/>
          <p:nvPr/>
        </p:nvPicPr>
        <p:blipFill>
          <a:blip r:embed="rId1"/>
          <a:stretch/>
        </p:blipFill>
        <p:spPr>
          <a:xfrm>
            <a:off x="76320" y="66600"/>
            <a:ext cx="4724280" cy="32385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2"/>
          <p:cNvPicPr/>
          <p:nvPr/>
        </p:nvPicPr>
        <p:blipFill>
          <a:blip r:embed="rId2"/>
          <a:stretch/>
        </p:blipFill>
        <p:spPr>
          <a:xfrm>
            <a:off x="76320" y="3311640"/>
            <a:ext cx="4724280" cy="35067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3"/>
          <p:cNvPicPr/>
          <p:nvPr/>
        </p:nvPicPr>
        <p:blipFill>
          <a:blip r:embed="rId3"/>
          <a:stretch/>
        </p:blipFill>
        <p:spPr>
          <a:xfrm>
            <a:off x="4821120" y="533520"/>
            <a:ext cx="4170600" cy="57150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5"/>
          <p:cNvSpPr/>
          <p:nvPr/>
        </p:nvSpPr>
        <p:spPr>
          <a:xfrm>
            <a:off x="457200" y="26668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949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宋体"/>
              </a:rPr>
              <a:t>年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宋体"/>
              </a:rPr>
              <a:t>月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宋体"/>
              </a:rPr>
              <a:t>日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715320" y="6156360"/>
            <a:ext cx="339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997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宋体"/>
              </a:rPr>
              <a:t>年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宋体"/>
              </a:rPr>
              <a:t>月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宋体"/>
              </a:rPr>
              <a:t>日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5110200" y="5486400"/>
            <a:ext cx="39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999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宋体"/>
              </a:rPr>
              <a:t>年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2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宋体"/>
              </a:rPr>
              <a:t>月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20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宋体"/>
              </a:rPr>
              <a:t>日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企业介绍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64B3-DBA9-478C-B9D5-758CF0256B6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50920" y="549360"/>
            <a:ext cx="8208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</a:rPr>
              <a:t>新搭起的礼台上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6000" spc="-1" strike="noStrike">
                <a:solidFill>
                  <a:srgbClr val="ff0066"/>
                </a:solidFill>
                <a:latin typeface="Times New Roman"/>
              </a:rPr>
              <a:t>彩旗林立；礼台下，一侧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6000" spc="-1" strike="noStrike">
                <a:solidFill>
                  <a:srgbClr val="ff0066"/>
                </a:solidFill>
                <a:latin typeface="Times New Roman"/>
              </a:rPr>
              <a:t>是身着朝服的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6000" spc="-1" strike="noStrike">
                <a:solidFill>
                  <a:srgbClr val="ff0066"/>
                </a:solidFill>
                <a:latin typeface="Times New Roman"/>
              </a:rPr>
              <a:t>文武官员，另一侧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6000" spc="-1" strike="noStrike">
                <a:solidFill>
                  <a:srgbClr val="ff0066"/>
                </a:solidFill>
                <a:latin typeface="Times New Roman"/>
              </a:rPr>
              <a:t>是应邀前来观看的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6000" spc="-1" strike="noStrike">
                <a:solidFill>
                  <a:srgbClr val="ff0066"/>
                </a:solidFill>
                <a:latin typeface="Times New Roman"/>
              </a:rPr>
              <a:t>外国商人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默读完课文后，解决下面问题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50560" y="1700280"/>
            <a:ext cx="86137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１、“烟”指的是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90317"/>
                </a:solidFill>
                <a:latin typeface="Arial"/>
              </a:rPr>
              <a:t>（鸦片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２、人们为什么要“销烟”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90317"/>
                </a:solidFill>
                <a:latin typeface="Arial"/>
              </a:rPr>
              <a:t>（鸦片给家庭甚至国家、军队带来了严重的危害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6"/>
          <p:cNvPicPr/>
          <p:nvPr/>
        </p:nvPicPr>
        <p:blipFill>
          <a:blip r:embed="rId1"/>
          <a:stretch/>
        </p:blipFill>
        <p:spPr>
          <a:xfrm>
            <a:off x="3564000" y="1052640"/>
            <a:ext cx="5580000" cy="418464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3">
            <a:hlinkClick r:id="" action="ppaction://hlinkshowjump?jump=nextslide"/>
          </p:cNvPr>
          <p:cNvSpPr/>
          <p:nvPr/>
        </p:nvSpPr>
        <p:spPr>
          <a:xfrm>
            <a:off x="7812000" y="5950080"/>
            <a:ext cx="682560" cy="468360"/>
          </a:xfrm>
          <a:custGeom>
            <a:avLst/>
            <a:gdLst>
              <a:gd name="textAreaLeft" fmla="*/ 30240 w 682560"/>
              <a:gd name="textAreaRight" fmla="*/ 652320 w 68256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31471" h="21600">
                <a:moveTo>
                  <a:pt x="0" y="0"/>
                </a:moveTo>
                <a:lnTo>
                  <a:pt x="31471" y="0"/>
                </a:lnTo>
                <a:lnTo>
                  <a:pt x="31471" y="21600"/>
                </a:lnTo>
                <a:lnTo>
                  <a:pt x="0" y="21600"/>
                </a:lnTo>
                <a:close/>
              </a:path>
              <a:path fill="lightenLess" w="31471" h="21600">
                <a:moveTo>
                  <a:pt x="0" y="0"/>
                </a:moveTo>
                <a:lnTo>
                  <a:pt x="31471" y="0"/>
                </a:lnTo>
                <a:lnTo>
                  <a:pt x="30071" y="1400"/>
                </a:lnTo>
                <a:lnTo>
                  <a:pt x="1400" y="1400"/>
                </a:lnTo>
                <a:close/>
              </a:path>
              <a:path fill="darken" w="31471" h="21600">
                <a:moveTo>
                  <a:pt x="31471" y="0"/>
                </a:moveTo>
                <a:lnTo>
                  <a:pt x="31471" y="21600"/>
                </a:lnTo>
                <a:lnTo>
                  <a:pt x="30071" y="20200"/>
                </a:lnTo>
                <a:lnTo>
                  <a:pt x="30071" y="1400"/>
                </a:lnTo>
                <a:close/>
              </a:path>
              <a:path fill="darkenLess" w="31471" h="21600">
                <a:moveTo>
                  <a:pt x="31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71" y="20200"/>
                </a:lnTo>
                <a:close/>
              </a:path>
              <a:path fill="lighten" w="31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71" h="21600">
                <a:moveTo>
                  <a:pt x="8729" y="3794"/>
                </a:moveTo>
                <a:lnTo>
                  <a:pt x="22742" y="10800"/>
                </a:lnTo>
                <a:lnTo>
                  <a:pt x="8729" y="17806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42" name="Picture 4" descr="5"/>
          <p:cNvPicPr/>
          <p:nvPr/>
        </p:nvPicPr>
        <p:blipFill>
          <a:blip r:embed="rId2"/>
          <a:stretch/>
        </p:blipFill>
        <p:spPr>
          <a:xfrm>
            <a:off x="0" y="765000"/>
            <a:ext cx="3672000" cy="5085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4880160" y="1951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吸食鸦片危害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鸦片"/>
          <p:cNvPicPr/>
          <p:nvPr/>
        </p:nvPicPr>
        <p:blipFill>
          <a:blip r:embed="rId1"/>
          <a:stretch/>
        </p:blipFill>
        <p:spPr>
          <a:xfrm>
            <a:off x="0" y="1341360"/>
            <a:ext cx="3117960" cy="3429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539640" y="5300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鸦片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46" name="Group 4"/>
          <p:cNvGrpSpPr/>
          <p:nvPr/>
        </p:nvGrpSpPr>
        <p:grpSpPr>
          <a:xfrm>
            <a:off x="3059280" y="549360"/>
            <a:ext cx="6084720" cy="5754240"/>
            <a:chOff x="3059280" y="549360"/>
            <a:chExt cx="6084720" cy="5754240"/>
          </a:xfrm>
        </p:grpSpPr>
        <p:pic>
          <p:nvPicPr>
            <p:cNvPr id="147" name="Picture 5" descr="割浆"/>
            <p:cNvPicPr/>
            <p:nvPr/>
          </p:nvPicPr>
          <p:blipFill>
            <a:blip r:embed="rId2"/>
            <a:stretch/>
          </p:blipFill>
          <p:spPr>
            <a:xfrm>
              <a:off x="5958000" y="549360"/>
              <a:ext cx="3186000" cy="491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6" descr="罂粟2"/>
            <p:cNvPicPr/>
            <p:nvPr/>
          </p:nvPicPr>
          <p:blipFill>
            <a:blip r:embed="rId3"/>
            <a:stretch/>
          </p:blipFill>
          <p:spPr>
            <a:xfrm>
              <a:off x="3059280" y="620640"/>
              <a:ext cx="3028680" cy="508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7"/>
            <p:cNvSpPr/>
            <p:nvPr/>
          </p:nvSpPr>
          <p:spPr>
            <a:xfrm>
              <a:off x="5508720" y="5661000"/>
              <a:ext cx="136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罂栗 </a:t>
              </a:r>
              <a:endParaRPr b="1" lang="en-US" sz="3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虎门销烟背景资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18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世纪末期，英国商人开始向中国大量输入鸦片，毒化中国，并使中国白银大量外流，银价飞涨，财政越发困难。当时湖广总督林则徐，眼看鸦片危害之烈，上书朝庭，力主严厉查禁。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1838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年底，清朝道光皇帝派林则徐为钦差大臣，赴广州查禁鸦片。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1839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年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月，在虎门海滩当众焚毁缴获的鸦片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万余箱，约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237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万多斤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02560" cy="116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英国向中国走私鸦片的危害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9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损害人民身心健康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白银外流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削弱军队战斗力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腐浊统治机构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8T05:03:3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32:26Z</dcterms:modified>
  <cp:revision>6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