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9CEF-D0D5-4D63-A643-CBF2B7041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4A57-09DD-4C5D-B367-41F1CE46E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B809-A668-410D-BC0E-A412C7C8E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74F2-1041-487E-A170-2F9F54C90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9192-5145-4886-8941-83E4BA027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20D9-719D-4E8E-B9CE-559BCDDCB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A356-1E5A-4701-B9B2-32981A91D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3814-B8B2-4599-98FF-2E175CC37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12D9-9B96-4562-8C35-580FF25A3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CA8F-64F6-4F1F-83D7-C8E64FB80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2D4C-E16F-4B51-B4F6-28AE56924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B8D9-E28E-4BC6-8587-BDA562762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FB09-AD14-4241-B3FC-A6C58386B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E284-94F9-451E-8F56-6EBDA958D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E15C-E1FF-4344-8915-ECF477CF5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B899-3091-451F-8735-E11E68C03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C7FE-573C-4155-87B3-D9409C910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2722-96A7-443B-8C18-3765385F6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FDB3-178B-4868-95D9-C64A273BD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D3ED-9C22-4B76-928B-DE26B68A4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DC06-AE5D-4CF1-81DF-60388E01F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E501-187F-4B57-B092-93AA8FE03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CBC3-07D1-4B85-A3FE-2E78E402D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7C1F-FA3F-4ED6-8E55-A5B5C848B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8C4C-6F98-4F48-8366-750993485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8084-66AE-492C-98ED-9D39B3287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9FC6-F1B1-4EAF-8D83-15986956C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9AF2-6BD8-48E8-8A0B-250CD3487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6895-FC53-49A7-81AC-5E489947B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0701-41B0-4B67-B5E6-3FC52B10B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1855-8EB8-40D7-A710-C2482DDDB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5AEF-CA51-442E-A9AE-424212D25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105F-D5FD-4F60-86A8-7A75FB6F9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9AEE-4A94-4052-877C-B25B5580D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7683-C857-41DC-B4B5-849DC10AC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9328-3A2B-4C73-B3A5-A80387CBC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1C6-472D-4E5A-8562-E55CDF9E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A00-C00E-4971-94B2-301B818C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839-1ED4-4AC8-9C50-E90104EB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19B-F61A-487C-8292-6BE890E3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E12-4F40-41A0-94A9-DCF0F02B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91D-9151-4EBD-ADF1-2A5D6539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288-6095-43E7-84AF-8E5C3966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377-393D-4BB1-9037-889E96F0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A06-FC46-486C-A7B6-E754401E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EC4-9E70-498D-9C26-828866FE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83A-8FA6-4664-AF42-0356F965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80A-EFFA-4FF5-A755-769DE1EF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B001-D284-4822-BC09-82268CF4E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826920" y="907920"/>
            <a:ext cx="771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  </a:t>
            </a:r>
            <a:r>
              <a:rPr b="1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虎门销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http://baike.baidu.com/pic/4/11462872496322771.jpg"/>
          <p:cNvPicPr/>
          <p:nvPr/>
        </p:nvPicPr>
        <p:blipFill>
          <a:blip r:embed="rId1"/>
          <a:stretch/>
        </p:blipFill>
        <p:spPr>
          <a:xfrm>
            <a:off x="2165400" y="2421000"/>
            <a:ext cx="5040360" cy="3435120"/>
          </a:xfrm>
          <a:prstGeom prst="rect">
            <a:avLst/>
          </a:prstGeom>
          <a:ln w="0">
            <a:noFill/>
          </a:ln>
        </p:spPr>
      </p:pic>
      <p:sp>
        <p:nvSpPr>
          <p:cNvPr id="50" name="矩形 8"/>
          <p:cNvSpPr/>
          <p:nvPr/>
        </p:nvSpPr>
        <p:spPr>
          <a:xfrm>
            <a:off x="1473120" y="6093000"/>
            <a:ext cx="6426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50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484360" y="105264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39640" y="476280"/>
            <a:ext cx="79218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这一天，天气晴朗，碧海、蓝天、绿树，把古老的虎门寨装点得分外壮丽。一大早从各地闻讯赶来的男男女女、老老少少，把宽阔的海滩挤得水泄不通。新搭起的礼台上彩旗林立；礼台下，一侧是身着朝服的文武官员，另一侧是应邀前来观看的外国商人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4427640" y="24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50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484360" y="105264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39640" y="476280"/>
            <a:ext cx="79218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这一天，天气晴朗，碧海、蓝天、绿树，把古老的</a:t>
            </a:r>
            <a:r>
              <a:rPr b="1" lang="zh-CN" sz="4300" spc="-1" strike="noStrike">
                <a:solidFill>
                  <a:srgbClr val="333399"/>
                </a:solidFill>
                <a:latin typeface="Arial"/>
                <a:ea typeface="楷体_GB2312"/>
              </a:rPr>
              <a:t>虎门寨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装点得分外壮丽。一大早从各地闻讯赶来的</a:t>
            </a:r>
            <a:r>
              <a:rPr b="1" lang="zh-CN" sz="4300" spc="-1" strike="noStrike">
                <a:solidFill>
                  <a:srgbClr val="002a29"/>
                </a:solidFill>
                <a:latin typeface="Arial"/>
                <a:ea typeface="楷体_GB2312"/>
              </a:rPr>
              <a:t>男男女女、老老少少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，把宽阔的海滩挤得</a:t>
            </a:r>
            <a:r>
              <a:rPr b="1" lang="zh-CN" sz="4300" spc="-1" strike="noStrike">
                <a:solidFill>
                  <a:srgbClr val="002a29"/>
                </a:solidFill>
                <a:latin typeface="Arial"/>
                <a:ea typeface="楷体_GB2312"/>
              </a:rPr>
              <a:t>水泄不通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。新搭起的礼台上</a:t>
            </a:r>
            <a:r>
              <a:rPr b="1" lang="zh-CN" sz="4300" spc="-1" strike="noStrike">
                <a:solidFill>
                  <a:srgbClr val="002a29"/>
                </a:solidFill>
                <a:latin typeface="Arial"/>
                <a:ea typeface="楷体_GB2312"/>
              </a:rPr>
              <a:t>彩旗林立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；礼台下，一侧是身着朝服的</a:t>
            </a:r>
            <a:r>
              <a:rPr b="1" lang="zh-CN" sz="4300" spc="-1" strike="noStrike">
                <a:solidFill>
                  <a:srgbClr val="002a29"/>
                </a:solidFill>
                <a:latin typeface="Arial"/>
                <a:ea typeface="楷体_GB2312"/>
              </a:rPr>
              <a:t>文武官员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，另一侧是应邀前来观看的</a:t>
            </a:r>
            <a:r>
              <a:rPr b="1" lang="zh-CN" sz="4300" spc="-1" strike="noStrike">
                <a:solidFill>
                  <a:srgbClr val="002a29"/>
                </a:solidFill>
                <a:latin typeface="Arial"/>
                <a:ea typeface="楷体_GB2312"/>
              </a:rPr>
              <a:t>外国商人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4427640" y="24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50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484360" y="105264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39640" y="476280"/>
            <a:ext cx="79218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这一天，天气晴朗，碧海、蓝天、绿树，把古老的</a:t>
            </a:r>
            <a:r>
              <a:rPr b="1" lang="zh-CN" sz="4300" spc="-1" strike="noStrike">
                <a:solidFill>
                  <a:srgbClr val="333399"/>
                </a:solidFill>
                <a:latin typeface="Arial"/>
                <a:ea typeface="楷体_GB2312"/>
              </a:rPr>
              <a:t>虎门寨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装点得分外壮丽。一大早从各地闻讯赶来的</a:t>
            </a:r>
            <a:r>
              <a:rPr b="1" lang="zh-CN" sz="4300" spc="-1" strike="noStrike">
                <a:solidFill>
                  <a:srgbClr val="002a29"/>
                </a:solidFill>
                <a:latin typeface="Arial"/>
                <a:ea typeface="楷体_GB2312"/>
              </a:rPr>
              <a:t>男男女女、老老少少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，把宽阔的海滩挤得</a:t>
            </a:r>
            <a:r>
              <a:rPr b="1" lang="zh-CN" sz="4300" spc="-1" strike="noStrike">
                <a:solidFill>
                  <a:srgbClr val="333399"/>
                </a:solidFill>
                <a:latin typeface="Arial"/>
                <a:ea typeface="楷体_GB2312"/>
              </a:rPr>
              <a:t>水泄不通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。新搭起的礼台上</a:t>
            </a:r>
            <a:r>
              <a:rPr b="1" lang="zh-CN" sz="4300" spc="-1" strike="noStrike">
                <a:solidFill>
                  <a:srgbClr val="002a29"/>
                </a:solidFill>
                <a:latin typeface="Arial"/>
                <a:ea typeface="楷体_GB2312"/>
              </a:rPr>
              <a:t>彩旗林立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；礼台下，一侧是身着朝服的</a:t>
            </a:r>
            <a:r>
              <a:rPr b="1" lang="zh-CN" sz="4300" spc="-1" strike="noStrike">
                <a:solidFill>
                  <a:srgbClr val="002a29"/>
                </a:solidFill>
                <a:latin typeface="Arial"/>
                <a:ea typeface="楷体_GB2312"/>
              </a:rPr>
              <a:t>文武官员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，另一侧是应邀前来观看的</a:t>
            </a:r>
            <a:r>
              <a:rPr b="1" lang="zh-CN" sz="4300" spc="-1" strike="noStrike">
                <a:solidFill>
                  <a:srgbClr val="002a29"/>
                </a:solidFill>
                <a:latin typeface="Arial"/>
                <a:ea typeface="楷体_GB2312"/>
              </a:rPr>
              <a:t>外国商人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427640" y="24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0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484360" y="105264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39640" y="476280"/>
            <a:ext cx="79218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这一天，天气晴朗，碧海、蓝天、绿树，把古老的</a:t>
            </a:r>
            <a:r>
              <a:rPr b="1" lang="zh-CN" sz="4300" spc="-1" strike="noStrike">
                <a:solidFill>
                  <a:srgbClr val="333399"/>
                </a:solidFill>
                <a:latin typeface="Arial"/>
                <a:ea typeface="楷体_GB2312"/>
              </a:rPr>
              <a:t>虎门寨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装点得分外壮丽。一大早从各地闻讯赶来的</a:t>
            </a:r>
            <a:r>
              <a:rPr b="1" lang="zh-CN" sz="4300" spc="-1" strike="noStrike">
                <a:solidFill>
                  <a:srgbClr val="002a29"/>
                </a:solidFill>
                <a:latin typeface="Arial"/>
                <a:ea typeface="楷体_GB2312"/>
              </a:rPr>
              <a:t>男男女女、老老少少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，把宽阔的海滩挤得</a:t>
            </a:r>
            <a:r>
              <a:rPr b="1" lang="zh-CN" sz="4300" spc="-1" strike="noStrike">
                <a:solidFill>
                  <a:srgbClr val="333399"/>
                </a:solidFill>
                <a:latin typeface="Arial"/>
                <a:ea typeface="楷体_GB2312"/>
              </a:rPr>
              <a:t>水泄不通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。新搭起的礼台上</a:t>
            </a:r>
            <a:r>
              <a:rPr b="1" lang="zh-CN" sz="4300" spc="-1" strike="noStrike">
                <a:solidFill>
                  <a:srgbClr val="333399"/>
                </a:solidFill>
                <a:latin typeface="Arial"/>
                <a:ea typeface="楷体_GB2312"/>
              </a:rPr>
              <a:t>彩旗林立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；礼台下，一侧是身着朝服的</a:t>
            </a:r>
            <a:r>
              <a:rPr b="1" lang="zh-CN" sz="4300" spc="-1" strike="noStrike">
                <a:solidFill>
                  <a:srgbClr val="002a29"/>
                </a:solidFill>
                <a:latin typeface="Arial"/>
                <a:ea typeface="楷体_GB2312"/>
              </a:rPr>
              <a:t>文武官员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，另一侧是应邀前来观看的</a:t>
            </a:r>
            <a:r>
              <a:rPr b="1" lang="zh-CN" sz="4300" spc="-1" strike="noStrike">
                <a:solidFill>
                  <a:srgbClr val="002a29"/>
                </a:solidFill>
                <a:latin typeface="Arial"/>
                <a:ea typeface="楷体_GB2312"/>
              </a:rPr>
              <a:t>外国商人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4427640" y="24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484360" y="105264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39640" y="476280"/>
            <a:ext cx="79218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这一天，天气晴朗，碧海、蓝天、绿树，把古老的</a:t>
            </a:r>
            <a:r>
              <a:rPr b="1" lang="zh-CN" sz="4300" spc="-1" strike="noStrike">
                <a:solidFill>
                  <a:srgbClr val="333399"/>
                </a:solidFill>
                <a:latin typeface="Arial"/>
                <a:ea typeface="楷体_GB2312"/>
              </a:rPr>
              <a:t>虎门寨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装点得分外壮丽。一大早从各地闻讯赶来的</a:t>
            </a:r>
            <a:r>
              <a:rPr b="1" lang="zh-CN" sz="4300" spc="-1" strike="noStrike">
                <a:solidFill>
                  <a:srgbClr val="ff0000"/>
                </a:solidFill>
                <a:latin typeface="Arial"/>
                <a:ea typeface="楷体_GB2312"/>
              </a:rPr>
              <a:t>男男女女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4300" spc="-1" strike="noStrike">
                <a:solidFill>
                  <a:srgbClr val="ff0000"/>
                </a:solidFill>
                <a:latin typeface="Arial"/>
                <a:ea typeface="楷体_GB2312"/>
              </a:rPr>
              <a:t>老老少少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，把宽阔的海滩挤得</a:t>
            </a:r>
            <a:r>
              <a:rPr b="1" lang="zh-CN" sz="4300" spc="-1" strike="noStrike">
                <a:solidFill>
                  <a:srgbClr val="333399"/>
                </a:solidFill>
                <a:latin typeface="Arial"/>
                <a:ea typeface="楷体_GB2312"/>
              </a:rPr>
              <a:t>水泄不通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。新搭起的礼台上</a:t>
            </a:r>
            <a:r>
              <a:rPr b="1" lang="zh-CN" sz="4300" spc="-1" strike="noStrike">
                <a:solidFill>
                  <a:srgbClr val="333399"/>
                </a:solidFill>
                <a:latin typeface="Arial"/>
                <a:ea typeface="楷体_GB2312"/>
              </a:rPr>
              <a:t>彩旗林立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；礼台下，一侧是身着朝服的</a:t>
            </a:r>
            <a:r>
              <a:rPr b="1" lang="zh-CN" sz="4300" spc="-1" strike="noStrike">
                <a:solidFill>
                  <a:srgbClr val="ff0000"/>
                </a:solidFill>
                <a:latin typeface="Arial"/>
                <a:ea typeface="楷体_GB2312"/>
              </a:rPr>
              <a:t>文武官员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，另一侧是应邀前来观看的</a:t>
            </a:r>
            <a:r>
              <a:rPr b="1" lang="zh-CN" sz="4300" spc="-1" strike="noStrike">
                <a:solidFill>
                  <a:srgbClr val="ff0000"/>
                </a:solidFill>
                <a:latin typeface="Arial"/>
                <a:ea typeface="楷体_GB2312"/>
              </a:rPr>
              <a:t>外国商人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427640" y="24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94960" y="1924200"/>
            <a:ext cx="772164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前来观看的人多而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仪式隆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50920" y="4653000"/>
            <a:ext cx="95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24000" y="33336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2a29"/>
                </a:solidFill>
                <a:latin typeface="Arial"/>
                <a:ea typeface="楷体_GB2312"/>
              </a:rPr>
              <a:t>午后二时许，林则徐等人健步登上礼台。这时候，礼炮轰鸣，群情沸腾。随着林则徐一声令下，震惊中外的虎门销烟开始了。只见一群群光着脊梁、赤着双脚的民工，先向灌了水的销烟池里撒下盐巴，再把收缴来的鸦片抛入池内，然后又把一担担生石灰倒下去。顿时，销烟池里像开了锅一样，“咕嘟咕嘟”直冒泡，散发出股股难闻的气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24000" y="33336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2a29"/>
                </a:solidFill>
                <a:latin typeface="Arial"/>
                <a:ea typeface="楷体_GB2312"/>
              </a:rPr>
              <a:t>午后二时许，林则徐等人健步登上礼台。这时候，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礼炮轰鸣</a:t>
            </a:r>
            <a:r>
              <a:rPr b="1" lang="zh-CN" sz="4000" spc="-1" strike="noStrike">
                <a:solidFill>
                  <a:srgbClr val="002a29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群情沸腾</a:t>
            </a:r>
            <a:r>
              <a:rPr b="1" lang="zh-CN" sz="4000" spc="-1" strike="noStrike">
                <a:solidFill>
                  <a:srgbClr val="002a29"/>
                </a:solidFill>
                <a:latin typeface="Arial"/>
                <a:ea typeface="楷体_GB2312"/>
              </a:rPr>
              <a:t>。随着林则徐一声令下，震惊中外的虎门销烟开始了。只见一群群光着脊梁、赤着双脚的民工，先向灌了水的销烟池里撒下盐巴，再把收缴来的鸦片抛入池内，然后又把一担担生石灰倒下去。顿时，销烟池里像开了锅一样，“咕嘟咕嘟”直冒泡，散发出股股难闻的气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24000" y="33336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2a29"/>
                </a:solidFill>
                <a:latin typeface="Arial"/>
                <a:ea typeface="楷体_GB2312"/>
              </a:rPr>
              <a:t>午后二时许，林则徐等人健步登上礼台。这时候，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礼炮轰鸣</a:t>
            </a:r>
            <a:r>
              <a:rPr b="1" lang="zh-CN" sz="4000" spc="-1" strike="noStrike">
                <a:solidFill>
                  <a:srgbClr val="002a29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群情沸腾</a:t>
            </a:r>
            <a:r>
              <a:rPr b="1" lang="zh-CN" sz="4000" spc="-1" strike="noStrike">
                <a:solidFill>
                  <a:srgbClr val="002a29"/>
                </a:solidFill>
                <a:latin typeface="Arial"/>
                <a:ea typeface="楷体_GB2312"/>
              </a:rPr>
              <a:t>。随着林则徐一声令下，震惊中外的虎门销烟开始了。只见一群群光着脊梁、赤着双脚的民工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先</a:t>
            </a:r>
            <a:r>
              <a:rPr b="1" lang="zh-CN" sz="4000" spc="-1" strike="noStrike">
                <a:solidFill>
                  <a:srgbClr val="002a29"/>
                </a:solidFill>
                <a:latin typeface="Arial"/>
                <a:ea typeface="楷体_GB2312"/>
              </a:rPr>
              <a:t>向灌了水的销烟池里撒下盐巴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再</a:t>
            </a:r>
            <a:r>
              <a:rPr b="1" lang="zh-CN" sz="4000" spc="-1" strike="noStrike">
                <a:solidFill>
                  <a:srgbClr val="002a29"/>
                </a:solidFill>
                <a:latin typeface="Arial"/>
                <a:ea typeface="楷体_GB2312"/>
              </a:rPr>
              <a:t>把收缴来的鸦片抛入池内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然后</a:t>
            </a:r>
            <a:r>
              <a:rPr b="1" lang="zh-CN" sz="4000" spc="-1" strike="noStrike">
                <a:solidFill>
                  <a:srgbClr val="002a29"/>
                </a:solidFill>
                <a:latin typeface="Arial"/>
                <a:ea typeface="楷体_GB2312"/>
              </a:rPr>
              <a:t>又把一担担生石灰倒下去。顿时，销烟池里像开了锅一样，“咕嘟咕嘟”直冒泡，散发出股股难闻的气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627280" y="1052640"/>
            <a:ext cx="40323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ff0000"/>
                </a:solidFill>
                <a:latin typeface="Arial"/>
                <a:ea typeface="楷体_GB2312"/>
              </a:rPr>
              <a:t>壮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1267920"/>
            <a:ext cx="85406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正确、流利、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会读会写生字词，理解“咆哮 收缴 销毁 水泄不通 嚣张 欺侮 应邀 震惊中外”等词语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在熟读课文的基础上，理解文章的主要内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684360" y="1052640"/>
            <a:ext cx="8280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看到害人的鸦片被销毁了，成千上万的老百姓激动得跳哇，叫哇，欢呼声响彻虎门上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销烟整整持续了</a:t>
            </a:r>
            <a:r>
              <a:rPr b="1" lang="en-US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23</a:t>
            </a: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天，二百多万斤鸦片化为烟渣，随着潮水卷进了咆哮的大海之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84360" y="1052640"/>
            <a:ext cx="8280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看到害人的鸦片被销毁了，成千上万的老百姓激动得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跳哇</a:t>
            </a: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叫哇</a:t>
            </a: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，欢呼声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响彻</a:t>
            </a: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虎门上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销烟整整持续了</a:t>
            </a:r>
            <a:r>
              <a:rPr b="1" lang="en-US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23</a:t>
            </a: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天，二百多万斤鸦片化为烟渣，随着潮水卷进了咆哮的大海之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84360" y="1052640"/>
            <a:ext cx="8280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看到害人的鸦片被销毁了，成千上万的老百姓激动得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跳哇</a:t>
            </a: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叫哇</a:t>
            </a: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，欢呼声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响彻</a:t>
            </a: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虎门上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销烟整整持续了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3</a:t>
            </a: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天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百多万斤</a:t>
            </a:r>
            <a:r>
              <a:rPr b="1" lang="zh-CN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鸦片化为烟渣，随着潮水卷进了咆哮的大海之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94960" y="1924200"/>
            <a:ext cx="772164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9640" y="2276640"/>
            <a:ext cx="7993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解销烟的经过，发挥想象，体会群情激奋、人心大快的硝烟场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94960" y="1924200"/>
            <a:ext cx="772164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836640"/>
            <a:ext cx="79200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指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课文中哪些描述中看出人们很兴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思维超市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你是现场的一位老爷爷或者老奶奶，你会怎么想，怎么做，怎么说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你是现场的一位孩子，你又会怎样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你是站在人群中的一位记者，你又会怎样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94960" y="1924200"/>
            <a:ext cx="772164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84360" y="2349360"/>
            <a:ext cx="7848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有感情朗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培养学生爱祖国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94960" y="1924200"/>
            <a:ext cx="772164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042920" y="1484280"/>
            <a:ext cx="734544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指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你能通过朗读，把群众的兴奋之情读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你的心里现在想什么？有什么想说的吗？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94960" y="1924200"/>
            <a:ext cx="772164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55640" y="836640"/>
            <a:ext cx="7848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业设计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类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补充习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课做完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能复述销烟的过程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鸦片给中国带来的深重灾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94960" y="1924200"/>
            <a:ext cx="772164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620640"/>
            <a:ext cx="842472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感情朗读课文，复述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指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有感情地朗读课文，读出人们的兴奋和大快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抓住关键词语或文章的脉络复述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94960" y="1924200"/>
            <a:ext cx="772164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476280"/>
            <a:ext cx="82818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用“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然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顺序的词语说一段表示动作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指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找出课文中“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然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在的句子。说说描写的是什么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理解“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然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句子中是表示先后顺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试着用“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然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一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学指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把课文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遍，做到正确流利。没达到要求再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遍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自学生字，能盖住拼音读出来，能说出本课中的由生字组成的词语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在习字册上把书后第三题中的词语抄写一遍，边抄边记，准备默写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读一读“咆哮 收缴 销毁 水泄不通 嚣张 欺侮 应邀 震惊中外”等词所在的句子，想想它们的意思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55280" y="907920"/>
            <a:ext cx="727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虎门销烟的伟大意义，培养学生爱祖国、拒外侮的精神和拒绝毒品的意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“我站在林则徐塑像前”为题，写一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50920" y="4653000"/>
            <a:ext cx="95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55280" y="549360"/>
            <a:ext cx="799308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指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认识虎门销烟的伟大意义，培养学生爱祖国、拒外侮的精神和拒绝毒品的意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读第六自然段，结合所查资料，思考：当年的鸦片给中国人民带来了什么样的灾难？林则徐虎门销烟有什么意义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读了课文，你有什么话想对林则徐说？</a:t>
            </a:r>
            <a:r>
              <a:rPr b="0" lang="zh-CN" sz="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50920" y="4653000"/>
            <a:ext cx="95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042920" y="148428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2a29"/>
                </a:solidFill>
                <a:latin typeface="Arial"/>
                <a:ea typeface="楷体_GB2312"/>
              </a:rPr>
              <a:t>虎门销烟这一伟大壮举，沉重地打击了外国侵略者的嚣张气焰。它向全世界表明，中国人们是不可欺侮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042920" y="148428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2a29"/>
                </a:solidFill>
                <a:latin typeface="Arial"/>
                <a:ea typeface="楷体_GB2312"/>
              </a:rPr>
              <a:t>虎门销烟这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伟大壮举，</a:t>
            </a:r>
            <a:r>
              <a:rPr b="1" lang="zh-CN" sz="4400" spc="-1" strike="noStrike">
                <a:solidFill>
                  <a:srgbClr val="002a29"/>
                </a:solidFill>
                <a:latin typeface="Arial"/>
                <a:ea typeface="楷体_GB2312"/>
              </a:rPr>
              <a:t>沉重地打击了外国侵略者的嚣张气焰。它向全世界表明，中国人们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不可欺侮</a:t>
            </a:r>
            <a:r>
              <a:rPr b="1" lang="zh-CN" sz="4400" spc="-1" strike="noStrike">
                <a:solidFill>
                  <a:srgbClr val="002a29"/>
                </a:solidFill>
                <a:latin typeface="Arial"/>
                <a:ea typeface="楷体_GB2312"/>
              </a:rPr>
              <a:t>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39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是中国历史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值得纪念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日子。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2006928102958584"/>
          <p:cNvPicPr/>
          <p:nvPr/>
        </p:nvPicPr>
        <p:blipFill>
          <a:blip r:embed="rId1"/>
          <a:stretch/>
        </p:blipFill>
        <p:spPr>
          <a:xfrm>
            <a:off x="1692360" y="476280"/>
            <a:ext cx="5737320" cy="590544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1"/>
          <p:cNvSpPr/>
          <p:nvPr/>
        </p:nvSpPr>
        <p:spPr>
          <a:xfrm>
            <a:off x="228600" y="6518160"/>
            <a:ext cx="57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1197000"/>
            <a:ext cx="83739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7160" indent="-137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业设计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类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复述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以“我站在林则徐塑像前”为题，写一段话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搜集一些资料，搞一次禁毒宣传。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50920" y="4653000"/>
            <a:ext cx="95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B9D4-3961-478F-B357-E0CE6B1CFA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55640" y="1413000"/>
            <a:ext cx="8013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熟读课文，理清文章的思路，了解文章的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知道虎门销烟是中国历史上的伟大壮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79280" y="342900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a29"/>
                </a:solidFill>
                <a:latin typeface="楷体_GB2312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55640" y="1052640"/>
            <a:ext cx="80643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学指导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认真读课文，在理解的基础上，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补充习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二两题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再读课文，能按照事情的发展顺序说说课文的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思考：为什么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是值得纪念的日子？哪个词充分肯定了虎门硝烟的价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4960" y="1924200"/>
            <a:ext cx="772164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50920" y="4653000"/>
            <a:ext cx="95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900000" y="1484280"/>
            <a:ext cx="66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业设计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类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多音字组词：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朗读全文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完成习字册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类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读课外书籍中关于“虎门销烟”的完整章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94960" y="1924200"/>
            <a:ext cx="772164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50920" y="4653000"/>
            <a:ext cx="95058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187280" y="1484280"/>
            <a:ext cx="6337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目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精读课文第二至五自然段，抓住文中的关键词句，感悟虎门硝烟是一次伟大的壮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能用“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然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几个词语复述销烟的顺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94960" y="1924200"/>
            <a:ext cx="772164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50920" y="765000"/>
            <a:ext cx="8893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指导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学生理解“伟大壮举”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深入读课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，找出关键词语，体会课文从哪些方面描写了虎门销烟的“壮”？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抓住哪些词语描写了虎门销烟的经过，并能复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有感情地朗读课文，读出中国人民的激昂奋发之情和豪壮的气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2195640" y="907920"/>
            <a:ext cx="4032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ff0000"/>
                </a:solidFill>
                <a:latin typeface="Arial"/>
                <a:ea typeface="楷体_GB2312"/>
              </a:rPr>
              <a:t>壮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03640" y="5516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 勇 伟 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07:02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2:41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