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C01-067D-4F35-83DD-6EF96322C4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59E-DB4C-4A0E-B75A-B6F966FF05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6BD-E200-4CA3-AF12-49E64C1D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92D-8918-4C88-A3FB-B08D128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2AF-9E38-4972-8532-46C08E16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FD8-0436-4CB4-86EB-7D3B02E4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275-6B67-4F56-9040-4187E7C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0DA-B6AD-46D2-A80D-A9EA03A8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41C-53F2-465D-A6D6-D8AAE62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0FF-2D68-4811-9BC8-CBF4351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D4B-1D38-46A4-8356-F618743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81E-72AD-4155-BE0D-0E216E3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AD8-7ACF-40BD-A92A-F705C25E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BC3-2E5D-4BF6-9396-6341FDC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E7E7-A1CA-455D-A349-3F6EB91A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971640" y="2852640"/>
            <a:ext cx="331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迷你简少儿"/>
              </a:rPr>
              <a:t>贺年卡</a:t>
            </a:r>
            <a:endParaRPr b="1" i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迷你简少儿"/>
              <a:ea typeface="迷你简少儿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5292720" y="1054080"/>
            <a:ext cx="3508560" cy="475308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395280" y="1268280"/>
            <a:ext cx="475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湘教版一年级语文上册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09680" y="5398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24720" cy="497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195640" y="62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一认，写一写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916360" y="54936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 一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00000" y="2205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484360" y="2205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k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0" y="227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948360" y="227664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shē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692360" y="40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427640" y="400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187280" y="2852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贺 年 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572000" y="29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732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 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187280" y="465300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绿 油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427640" y="465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 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80280" y="404640"/>
            <a:ext cx="182628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小猫寄给小鸡的贺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648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57760" cy="3600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210400" y="4580640"/>
            <a:ext cx="43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鸡在什么时候收到了小猫的贺年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到贺年卡小鸡是什么样的心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-496080" y="189000"/>
            <a:ext cx="1826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小鸡寄给小猫的贺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62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维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8920" y="2565360"/>
            <a:ext cx="69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鸭、小狗、小马也给朋友写贺年卡，他们会怎样写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592280" y="484992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619280" y="1125360"/>
            <a:ext cx="56894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F485-A49C-4CF1-B160-C1E001C0B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7640" y="206064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认识本课生字，自主积累词语；能熟读课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了解课文内容。知道小猫、小鸡是怎样写贺年卡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340000" y="2332080"/>
            <a:ext cx="48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，新年快到了，你怎样向家人、老师和同学祝贺新年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50072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649760" y="2781360"/>
            <a:ext cx="449424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0" y="4941720"/>
            <a:ext cx="45720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4572000" y="836640"/>
            <a:ext cx="457200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3657600" y="235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卡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几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声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30:0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40:4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