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FCDB-E7DF-47AB-858A-0921688E4C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E6D9-0E94-4285-9067-F8A397C607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FE6-BF31-44AA-91F1-31505364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D9D-F078-4D3A-B3D3-406FE934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35D-C029-4A2A-92D2-F61E5F8A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2AF-99EB-43DD-B353-3B34B2E8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F7F-BD5D-4F85-91CC-3482FB7D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5F8-5B7A-4CDC-B8B7-BA9952D3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4A2-70C1-446B-8745-3A56B477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49A-1583-4A5B-A994-A8D21349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9C0-08D7-4896-BAD4-4F89BED4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A4E-EB67-4BEA-B63B-5A5423B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DC6-12B2-4CE3-9F3F-F06BC16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ED7-3313-4CC5-BF3A-064090B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B43B-9E94-4B2F-A5AE-4883640A8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3520" y="2057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会说话的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838080" y="632448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58480" y="54864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</a:rPr>
              <a:t>卧冰求鲤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卧冰求鲤"/>
          <p:cNvPicPr/>
          <p:nvPr/>
        </p:nvPicPr>
        <p:blipFill>
          <a:blip r:embed="rId1"/>
          <a:stretch/>
        </p:blipFill>
        <p:spPr>
          <a:xfrm>
            <a:off x="1295280" y="2819520"/>
            <a:ext cx="6477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摇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旁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扎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扎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挣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扎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辫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爬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棵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1946160" y="4708440"/>
            <a:ext cx="52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仰望       卧倒    黑狗       摇头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旁边       必须    扎手       挣扎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扎辫子    爬行    肩上   一棵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卧薪尝胆            卧冰求鲤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6097-4A9B-466C-AB7A-0F7DBEF65B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仰卧    草坪    矢车菊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摇曳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嬉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喧嚷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须根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土壤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葵花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铁青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肩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68580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16300000178518124411273405848"/>
          <p:cNvPicPr/>
          <p:nvPr/>
        </p:nvPicPr>
        <p:blipFill>
          <a:blip r:embed="rId1"/>
          <a:stretch/>
        </p:blipFill>
        <p:spPr>
          <a:xfrm>
            <a:off x="-457200" y="-533520"/>
            <a:ext cx="9601200" cy="737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791320" y="57913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矢车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1300001179668130235291136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13000011796681302352911361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791320" y="30492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狗尾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突然，我听见花在嬉笑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见草在喧嚷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见每一片叶子都在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耳边歌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4114800"/>
            <a:ext cx="822960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我在草地上听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这一小节是诗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、想象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、做梦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、乱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76560" y="2286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320" y="-228960"/>
            <a:ext cx="449604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双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成了白色的须根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深深扎进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黑色的土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只手像两片绿色的葵花叶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高地伸向太阳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只铁青的蝈蝈儿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胆地爬在我的肩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啊，水啊，阳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一棵会说话的草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我离不开你们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不开这脚下黑色的土壤！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仰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卧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</a:rPr>
              <a:t>卧薪尝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woxin changdan"/>
          <p:cNvPicPr/>
          <p:nvPr/>
        </p:nvPicPr>
        <p:blipFill>
          <a:blip r:embed="rId1"/>
          <a:stretch/>
        </p:blipFill>
        <p:spPr>
          <a:xfrm>
            <a:off x="1219320" y="2895480"/>
            <a:ext cx="6705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16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0:04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