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5AB-854C-4B9A-9C6B-7DD9B9DA0E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B22-C752-44B2-BF9E-F5C10D0212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2F48-DB28-4458-8E6D-7FB1D88C30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349280" y="1343160"/>
            <a:ext cx="647856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70c0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华文中宋"/>
              </a:rPr>
              <a:t>和时间赛跑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0070c0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84" name="Picture 3" descr="b17c8f01e57d5969-fe8eef509179466b-c3d121e2e4004f0e121d3d53564f7f84[1]"/>
          <p:cNvPicPr/>
          <p:nvPr/>
        </p:nvPicPr>
        <p:blipFill>
          <a:blip r:embed="rId1"/>
          <a:stretch/>
        </p:blipFill>
        <p:spPr>
          <a:xfrm>
            <a:off x="2289240" y="2316240"/>
            <a:ext cx="4599000" cy="337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1842840" y="5870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理解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0042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者如何和时间赛跑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4360" y="285444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4360" y="2349360"/>
            <a:ext cx="7773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赶在太阳落山以前跑回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老师要一个暑假完成的作业，十天就完成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才上四年级，就试着预习五年级的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2349000"/>
            <a:ext cx="78598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我童年就养成了和时间赛跑的习惯，使我受益匪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325440" y="549360"/>
            <a:ext cx="784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品读第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10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自然段，思考讲了什么内容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我们明白了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凡事只要珍惜时间，和时间赛跑，定能成功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言警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少壮不努力，老大徒伤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就像海绵里的水，只要想挤，总会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无重开日，人无再少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"/>
          <p:cNvSpPr/>
          <p:nvPr/>
        </p:nvSpPr>
        <p:spPr>
          <a:xfrm>
            <a:off x="728640" y="5389560"/>
            <a:ext cx="62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116000" y="909720"/>
            <a:ext cx="763272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拜拜喽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DD6-D872-4458-AE51-F227F6168C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 rot="5400000">
            <a:off x="5722920" y="1122120"/>
            <a:ext cx="3384360" cy="165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猜谜语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7" name="Picture 3" descr="078473d0d93ce0e7-eb426f10a4008c6a-7d1acb0bb8038ec4d775d9ecdc1aa243[1]"/>
          <p:cNvPicPr/>
          <p:nvPr/>
        </p:nvPicPr>
        <p:blipFill>
          <a:blip r:embed="rId1"/>
          <a:stretch/>
        </p:blipFill>
        <p:spPr>
          <a:xfrm>
            <a:off x="6372360" y="3933720"/>
            <a:ext cx="2593800" cy="244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11280" y="907920"/>
            <a:ext cx="562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宋体"/>
              </a:rPr>
              <a:t>看不见，摸不着，跑得快，不长脚，只见它过去，    不见它回头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000" y="5013000"/>
            <a:ext cx="79311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17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f8c23117565d273b-9d60beb5018acab8-676563e7ffe941139ce055bfe5bf56d2[1]"/>
          <p:cNvPicPr/>
          <p:nvPr/>
        </p:nvPicPr>
        <p:blipFill>
          <a:blip r:embed="rId1"/>
          <a:stretch/>
        </p:blipFill>
        <p:spPr>
          <a:xfrm>
            <a:off x="1260360" y="190440"/>
            <a:ext cx="6191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611c4c77ef8a049b-063e6897b1099787-760475c864316eeb1fb7c8aeb44cb713_i[1]"/>
          <p:cNvPicPr/>
          <p:nvPr/>
        </p:nvPicPr>
        <p:blipFill>
          <a:blip r:embed="rId1"/>
          <a:stretch/>
        </p:blipFill>
        <p:spPr>
          <a:xfrm>
            <a:off x="1332000" y="2349360"/>
            <a:ext cx="6178320" cy="4399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1693800" y="4064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猪兄弟，冲啊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04360" y="1699920"/>
            <a:ext cx="252900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草坪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539640" y="260280"/>
            <a:ext cx="309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词语大本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60720" y="1628640"/>
            <a:ext cx="253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赛跑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013440" y="1628640"/>
            <a:ext cx="253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滋味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8360" y="2711520"/>
            <a:ext cx="253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鸟巢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203640" y="2711520"/>
            <a:ext cx="2520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暑假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013440" y="2637000"/>
            <a:ext cx="2530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作业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69800" y="3789360"/>
            <a:ext cx="3022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受益匪浅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968400" y="5013360"/>
            <a:ext cx="770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得到的好处或受到的利益很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2349000"/>
            <a:ext cx="78598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外祖母去世“我”非常悲痛，父母告诉“我”时间过去了，就永远不会回来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325440" y="549360"/>
            <a:ext cx="784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品读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1-5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自然段，思考讲了什么内容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听了爸爸的话，我心里有一种说不出的滋味。”里面包含着什么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565360"/>
            <a:ext cx="79200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悲伤、恐惧、感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2349000"/>
            <a:ext cx="78598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我从日落和飞鸟中感受到了时光的流逝，决心和时间赛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325440" y="549360"/>
            <a:ext cx="784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品读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6-9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自然段，思考讲了什么内容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理解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0042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者观察到了什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84360" y="285444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7080" y="2925720"/>
            <a:ext cx="741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太阳一寸一寸的落下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鸟向自己的巢飞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43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