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252-166B-47E0-96AB-028903D66E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473-D83F-46CA-8D77-ACB09DD82E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03D-FD1C-4330-A4D9-C31A09ECBF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F35-BA5F-4612-8B42-DA0391DA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EBA-4779-4329-8336-756E91D0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B8A-92F3-4D53-B9BF-DB00F99D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DDE-6A85-4184-B207-39A11DD5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DF3-EE41-4716-8C5B-F9A7C47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EEE-023C-43B6-AB76-89F69C55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089-B097-4A4C-9AB6-D80CFAC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68D-65E1-4FD4-9842-015B289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0A1-5D42-4B6B-A291-5747DC64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301-A9CB-4901-857A-4450158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85B-CAFE-45CD-B9D6-234F276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56D-534A-4F04-A494-7A716AF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6F3-3DF8-4A92-973D-1C475E66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33975971080625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"/>
          <p:cNvSpPr txBox="1"/>
          <p:nvPr/>
        </p:nvSpPr>
        <p:spPr>
          <a:xfrm>
            <a:off x="828720" y="1530360"/>
            <a:ext cx="4535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黄山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69040" y="5805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00704200943152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492360" y="573408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团结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084720" y="189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537040" y="115920"/>
            <a:ext cx="60696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伸手摸摸它的树干，得象铁铸的一般。即使十二级台风，漫天大雪，也动弹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57460301745714044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979640" y="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面长着丛密的松针，软绵绵的好象一个大蒲团，上面可以坐四五个人。靠近山的一面的枝条，梢头略微向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黄山倒挂松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6588000" y="6093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山倒挂松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9280" y="0"/>
            <a:ext cx="8785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回顾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山松是挺拔秀美的、是坚忍不拔的、团结向上的。你觉得只是在写黄山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00907280849015131-168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u=1136382211,3982549813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843280" y="1844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云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923760" y="870120"/>
            <a:ext cx="52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u=2094505444,1281073715&amp;fm=51&amp;gp=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26920" y="148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温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F22C-BC62-4B7D-B621-2AA59EC429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8000" y="2276640"/>
            <a:ext cx="89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画家和翻译家，是一位多方面卓有成就的文艺大师。 。丰子恺风格独特的漫画作品影响很大，深受人们的喜爱。他的作品内涵深刻，耐人寻味。 丰子恺是我国新文化运动的启蒙者之一，早在二十年代他就出版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艺术概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乐入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洋名画巡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著作。他一生出版的著作达一百八十多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丰子恺"/>
          <p:cNvPicPr/>
          <p:nvPr/>
        </p:nvPicPr>
        <p:blipFill>
          <a:blip r:embed="rId1"/>
          <a:stretch/>
        </p:blipFill>
        <p:spPr>
          <a:xfrm>
            <a:off x="0" y="0"/>
            <a:ext cx="14954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685880" y="2556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子恺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8.11.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5.9.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原名润，曾用名丰仁、婴行，号子恺，字仁。 浙江桐乡石门镇人。我国现代画家、散文家、美术教育家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音乐教育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6" descr="f02e9e44e5132c2dd10906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09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理解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84360" y="1341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4000" y="692280"/>
            <a:ext cx="180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描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囫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臆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谛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窈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可思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娉娉婷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用语言文字表现人或事物的形象。形状和特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619280" y="134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完整、整个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619280" y="19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主观的推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692360" y="263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仔细地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76364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土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76364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女子）文静而美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195640" y="45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可想象、不能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268360" y="522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容女子的姿态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555d4a2d99e6b1774d088d08[1]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68360" y="26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00000" y="1844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763640" y="1989000"/>
            <a:ext cx="360360" cy="719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268360" y="170028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340000" y="2492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松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042920" y="414972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2050920" y="4292640"/>
            <a:ext cx="289080" cy="865080"/>
          </a:xfrm>
          <a:custGeom>
            <a:avLst/>
            <a:gdLst>
              <a:gd name="textAreaLeft" fmla="*/ 84960 w 289080"/>
              <a:gd name="textAreaRight" fmla="*/ 289080 w 28908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556000" y="3933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627280" y="4724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7"/>
          <p:cNvSpPr/>
          <p:nvPr/>
        </p:nvSpPr>
        <p:spPr>
          <a:xfrm>
            <a:off x="619200" y="1862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1-101229201P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4360" y="549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默读课文，了解课文主要写了什么？并说说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03280" y="2421000"/>
            <a:ext cx="67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、一心向着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有异常强大的团结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5003640" y="407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黄山奇石松树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95280" y="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细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79280" y="692280"/>
            <a:ext cx="896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山松生长在怎么的环境里？它生长的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2007122595234693_2"/>
          <p:cNvPicPr/>
          <p:nvPr/>
        </p:nvPicPr>
        <p:blipFill>
          <a:blip r:embed="rId1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284720" y="36684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山的松树也许是吃石而长大起来的吧？长得那么苍翠，那么坚劲，那么窈窕，真是不可思议更有不可思议的呢：文殊院窗前有一株松树，由于石头崩裂，松根一大半长在空中，象须蔓一般摇曳着而这株松树照样长得郁郁苍苍，娉娉婷婷。这样看来，黄山的松树不一定要餐石髓，似乎呼吸空气呼吸雨露和阳光，也会长大的。这真是一种生命力顽  强的生物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黄山迎客松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547640" y="5300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迎客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292720" y="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。体会作者又是样描写黄山松的另外个特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08000" y="333360"/>
            <a:ext cx="878508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黄山松更有一种奇特的姿态：如果这株松树长在悬崖旁边，一面靠近岩壁，一面向着空中，那么它的枝条就全部向空中生长，靠岩壁的一面一根枝条也不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姿态就很奇特，好象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很疏的木梳，又象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“习”字。显然，它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肯面壁，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肯置身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壑中，而一心倾向着阳光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05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5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