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a0c6ea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a0c6e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A842-8A75-4514-834A-298A2EEBA8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1EC8-384C-4CB9-B7E0-E0F9E4644E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6CF-1918-48F7-A410-747938AA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E39-0803-4913-A8BF-D3FFBAA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45051-7474-49B0-9D40-37001ED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09236-3067-4B8D-94D5-65B6D5DA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AA309-2E83-4881-A062-B397165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2CCA5-7E81-46EC-97C7-9F439C01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6CA5B-6D11-4A77-96F5-11AA59E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74D1E-E5A0-45DF-AC2F-9920006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E4A13-222A-419B-9EE2-C9D4F038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6C87F-7F24-4D35-9F2B-DA63FEE4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35A46-3FF0-4DFA-BBE0-5C2FFA76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CA680-3902-4B56-B74E-C75D56F3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3D7-C95E-43DB-AFFE-85A69071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0470C-D77B-410F-84BF-233D83E5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A6EF2-6C76-403C-AD3E-A7733149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A8DB4-6EAF-4D82-A363-B7BDC885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F1591-A395-4BAD-813A-504A0704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F8500-3B79-4B01-B121-657E0FA5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88B9A-46C7-4540-8E4C-9D3F3C8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716B6-3720-4D52-8572-8F6DE6D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3241A-F685-42B8-B40B-D350F6A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C9F70-4F46-4028-A9E5-35DAB1DA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FA4E7-E843-4029-9B15-1CCAB196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CCD-6881-4C00-9987-52A16502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CB141-1399-4B6C-B356-FE1FA0F2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749D6-D29A-4872-AED6-28CF0CE7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384D0-AF1B-41AF-87FE-EBB12B22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CE07F-1D13-413F-AD98-0C1F1823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BD6AE-4A9E-443F-9157-7B293FD7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FCFA1-9084-453E-90E6-8CEB4120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2D794-CF99-4790-913B-CBB1B85C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26C61-9A34-4CF0-83FE-DB5B619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EB943-4BA4-46D2-9F2D-A1FF1BE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0180B-D18C-4647-841D-9F737F13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2603-F4EE-4AA5-8F5D-D0A880E7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C034E-40EE-4A8B-9D77-EB48B444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5A23C-BB83-407B-AF18-2063A793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275F4-AB35-4403-BB4A-6104727A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E33A2-3951-4716-8F60-84C087B5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BD659-172F-40B6-AE94-E767203E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072DC-1ABE-4FE6-911D-6718D979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CB602-DFD5-4DA1-954C-755FC314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A983D-ED47-48C7-85B6-C05F1C7D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C82D5-EE62-4458-9301-D6C91CF5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88E66-2E1E-403E-BFB6-C589A02E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485C-DD7A-4E21-9E51-60FB5132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CC95B-D37F-4A2C-BA90-AFE7B18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DCDD3-AE7A-4226-B3AC-917D418B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46FCD-1A09-4FE4-A1EB-A5DFC0F6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AAC10-B514-4D6D-ADD6-023F3DFF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CE915-C60E-4A9A-8CF8-435C538E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7502B-4A53-4C1A-AD62-056F8131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EAD9D-7BB8-4377-A9EE-D0FCB3CF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F3751-5887-4514-9A87-97955BFD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C301D-6C77-47C1-864E-54C428C5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F70B3-4C32-464D-9996-3CE18C96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5908-9476-4C45-BE21-96D6AD86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3A5C1-A520-45EF-A7BE-8B22EEDB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8FB39-8691-40B3-AA30-99E388DF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4BF03-2A25-4B98-8718-6C49A46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F92C7-10AC-403C-8D9B-E901B78A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84CF0-3C78-4CBB-9070-7EBED3FE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74EB1-E532-414D-98C4-FF4735BD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83128-DB18-484D-AA5B-02BBA8A5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8AB-2991-466C-9362-29376890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6FAF-791A-45CA-8A0E-9701AF8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E5DB-4ACB-4F4B-832C-E38982AF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8E8D-9B36-49DB-A8FE-ADD3C13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EBF-FA8D-4DDD-B637-84F6728E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B92E-FAE8-4161-A059-0A64DDFE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0FB6-EE69-48A1-B7CC-DE1EDAF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B1F4-38A6-4390-A174-B5937EF5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08FF-5B78-4370-B15A-F86182AB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0904-140D-436C-B9B6-7A3917C1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0312-C230-4FF3-B340-A4D20F3F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7E70-F15B-47FB-926C-A66C4F7A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B173-7828-43DE-9071-AF2D2E63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80DD-99F8-45F6-BBE1-56E2706C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471E-2064-4856-B1E5-E5CD6592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A62-6B6B-4620-82D3-45BD88A4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C922-8A60-4D6D-9F0A-2A3555A7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8B12-FFD7-4FED-BC30-34B37EFC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D341-B740-4701-9081-14137CF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161E-AC52-44F7-A625-55E61C1A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B60E-A1B6-4DCE-BD8B-DA0EA9CE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92BB-E62F-4245-A41F-ABD1D3E0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DF3F-8267-406A-B28C-07E56772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B900-C7BB-4580-AF7C-C653B753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2C04-2E3B-4345-B397-D8AB1576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7354-06EB-489C-B38A-7B705878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819-5EEC-462C-8A13-FA74DC8C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3B2B-3BE6-46AB-A929-4DDAD651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2C86-5400-47F6-8EBD-69A3252F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87B92-09A2-4DAE-910D-ADB30B10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CFED-85DB-47DF-A923-C95C34C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8DF1-FC0C-4D68-AEF6-B1A47DBC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4C3F-8949-4CE9-B32E-7FFB09EF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CB0D-1818-457C-B320-C75E9D72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66BF-8A2D-424C-8B49-7DEBF2DF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5E1C-D8F9-4F5B-B66C-C50AF381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5173-07F3-4A27-925F-58F0538C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C13-79E0-4B8D-82B7-9642366F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36037-6217-4046-B41B-E0ADEDE6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6ED71-48A5-46FB-B13E-939EBC52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00987-4857-4C89-B32E-2463E25D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1CCA7-5D8F-4EAE-83FA-36DBD7AF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FF0A-00A7-4DD9-8146-23A7B473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1D45E-18C5-4B5A-8EE1-908EC35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4B28-BC93-44B8-ACC8-273DF00B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EFD8B-115C-414B-90CB-D5DA5BD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E9C2-E5AF-40BC-9B40-6ABEC0D1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06B6-438A-44DF-AB7D-470FDAE4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434-34BD-4E00-A33A-245B308C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0FBC-D01D-484B-9A0B-59BD62AC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1509-1299-41FA-895A-051F8ECA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0A96-4CC7-45F7-BAB1-11334BF7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743B-B3C6-44DC-8FE6-0E73F82E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8D349-302E-4E3B-AD44-EE67FAAB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8B19-7E3E-4915-998D-5CF621F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F1D4-C62C-4936-9256-D3B5182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60756-6D81-4497-B2B1-D070BD9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0B4F6-F05C-4136-A4D9-7F857DF7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23CB9-90E7-4EC2-84D5-BFFEE62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258-1E41-46A9-85B2-0CB79C1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6BF2-1DB5-4D60-8678-E9C0A9B7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EDEB-7E1E-41B0-B3D7-71BA6966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B461D-E2AE-4D79-A896-2200A1FA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01C8-458E-4E9B-B22D-FF0FA779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2857F-CF8F-4235-BFD9-E162F8A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FFF7C-D91A-41CD-ABD2-AC4CBD7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5179C-E681-479A-B669-9CDE15B0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122C-47D0-43BD-A801-09027DD6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95C1B-B320-4F0D-B458-A027A4A0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49B5A-09FE-40AF-BAB0-DC52E320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2D3-D1BA-4189-B8ED-C99C90E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16B2F-C0CF-4EE3-9A68-7A49BA08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1BA6-D8E3-4198-933E-9A555159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2169A-DCF0-4FF3-BF3D-A3DF7C57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E9820-82A0-4DF9-BA4A-F3BE2551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9B9B-ADF4-4BC2-BD85-6AA9C96D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6B02-4AE5-4A27-B4FD-075E5C99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C23A-4054-4662-B8E7-7219B905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34A3E-B094-448B-9A57-886116FD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96F1E-83F2-4F35-BA9A-3F934183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60C8B-83C4-47FE-AF52-A4BFFE0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8F5-8793-4AFA-839B-1C1BE315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840A3-D772-4CE9-BE5B-4B40AF83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24DFF-D102-455B-B0F4-6B76C40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30639-8B1A-4742-84C6-5D782F0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971D0-A760-4C8B-BE42-A4071D37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C8473-91A9-406A-8A6A-278EB900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284E2-FB6F-40D4-ACC8-312CF266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F603-695D-4681-9DEB-3998A775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98DF3-B030-404D-8CDC-A49C58F6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0D679-E659-45B4-B3AF-E7B49A5A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CF18C-956C-448C-8608-CF59B925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69920" y="274320"/>
            <a:ext cx="671688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a0c6ea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a0c6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69920" y="1599840"/>
            <a:ext cx="6718320" cy="4527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451"/>
              </a:spcBef>
              <a:buClr>
                <a:srgbClr val="a0c6ea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800" spc="-1" strike="noStrike">
                <a:solidFill>
                  <a:srgbClr val="a0c6ea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a0c6ea"/>
              </a:solidFill>
              <a:latin typeface="Arial"/>
            </a:endParaRPr>
          </a:p>
          <a:p>
            <a:pPr lvl="1" marL="698400" indent="-269640">
              <a:spcBef>
                <a:spcPts val="451"/>
              </a:spcBef>
              <a:buClr>
                <a:srgbClr val="a0c6ea"/>
              </a:buClr>
              <a:buFont typeface="Arial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8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a0c6ea"/>
              </a:solidFill>
              <a:latin typeface="Arial"/>
            </a:endParaRPr>
          </a:p>
          <a:p>
            <a:pPr lvl="2" marL="1073160" indent="-214200">
              <a:spcBef>
                <a:spcPts val="451"/>
              </a:spcBef>
              <a:buClr>
                <a:srgbClr val="a0c6ea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800" spc="-1" strike="noStrike">
                <a:solidFill>
                  <a:srgbClr val="a0c6ea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a0c6ea"/>
              </a:solidFill>
              <a:latin typeface="Arial"/>
            </a:endParaRPr>
          </a:p>
          <a:p>
            <a:pPr lvl="3" marL="1503360" indent="-214200">
              <a:spcBef>
                <a:spcPts val="451"/>
              </a:spcBef>
              <a:buClr>
                <a:srgbClr val="a0c6ea"/>
              </a:buClr>
              <a:buFont typeface="Arial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800" spc="-1" strike="noStrike">
                <a:solidFill>
                  <a:srgbClr val="a0c6ea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a0c6ea"/>
              </a:solidFill>
              <a:latin typeface="Arial"/>
            </a:endParaRPr>
          </a:p>
          <a:p>
            <a:pPr lvl="4" marL="1933560" indent="-216000">
              <a:spcBef>
                <a:spcPts val="451"/>
              </a:spcBef>
              <a:buClr>
                <a:srgbClr val="a0c6ea"/>
              </a:buClr>
              <a:buFont typeface="Arial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800" spc="-1" strike="noStrike">
                <a:solidFill>
                  <a:srgbClr val="a0c6ea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0c6ea"/>
              </a:solidFill>
              <a:latin typeface="Arial"/>
            </a:endParaRPr>
          </a:p>
          <a:p>
            <a:pPr lvl="5" marL="1933560" indent="-2160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800" spc="-1" strike="noStrike">
                <a:solidFill>
                  <a:srgbClr val="a0c6ea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0c6ea"/>
              </a:solidFill>
              <a:latin typeface="Arial"/>
            </a:endParaRPr>
          </a:p>
          <a:p>
            <a:pPr lvl="6" marL="1933560" indent="-2160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800" spc="-1" strike="noStrike">
                <a:solidFill>
                  <a:srgbClr val="a0c6ea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0c6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a0c6ea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0D73-900A-4C58-82C9-6C095365C90B}" type="slidenum">
              <a:rPr b="0" lang="zh-CN" sz="800" spc="-1" strike="noStrike">
                <a:solidFill>
                  <a:srgbClr val="a0c6ea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A2C8-25A4-4B24-B45F-31316FC9BB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28A6-E56B-4F53-86A0-E8EE59FC0C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FEBA-B008-49CA-99E0-4155384E3A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26FB-D8B8-44EC-95AD-61BFB2C1A4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A5A4-C043-43A4-8B0E-F3E210B163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32F5-7849-403C-A269-F15D626CC0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10DF-39D5-405A-85E6-831E9B7B72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1C4-441A-48B3-B5DC-F8BE7138C1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C1A8-48FC-4624-9B18-CCE3702403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D757-BA13-4A3D-BEC9-B044D952D8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FA5A-E742-4278-AEEE-742CD5F60D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DCC-43B2-4DC0-8FFE-AFA2B10474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3"/>
          <p:cNvSpPr/>
          <p:nvPr/>
        </p:nvSpPr>
        <p:spPr>
          <a:xfrm>
            <a:off x="3251880" y="19890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微软雅黑"/>
                <a:ea typeface="微软雅黑"/>
              </a:rPr>
              <a:t>湖上杂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2004480" y="559116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2988360" y="620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冀教版六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100B-F9F0-4328-AB1E-92AE1C3533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作家作品</a:t>
            </a:r>
            <a:endParaRPr b="0" lang="en-US" sz="6600" spc="-1" strike="noStrike">
              <a:solidFill>
                <a:srgbClr val="a0c6ea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方正卡通简体"/>
                <a:ea typeface="方正卡通简体"/>
              </a:rPr>
              <a:t>袁枚（</a:t>
            </a:r>
            <a:r>
              <a:rPr b="0" lang="en-US" sz="4800" spc="-1" strike="noStrike">
                <a:solidFill>
                  <a:srgbClr val="002060"/>
                </a:solidFill>
                <a:latin typeface="方正卡通简体"/>
                <a:ea typeface="方正卡通简体"/>
              </a:rPr>
              <a:t>1716</a:t>
            </a:r>
            <a:r>
              <a:rPr b="0" lang="zh-CN" sz="4800" spc="-1" strike="noStrike">
                <a:solidFill>
                  <a:srgbClr val="002060"/>
                </a:solidFill>
                <a:latin typeface="方正卡通简体"/>
                <a:ea typeface="方正卡通简体"/>
              </a:rPr>
              <a:t>－</a:t>
            </a:r>
            <a:r>
              <a:rPr b="0" lang="en-US" sz="4800" spc="-1" strike="noStrike">
                <a:solidFill>
                  <a:srgbClr val="002060"/>
                </a:solidFill>
                <a:latin typeface="方正卡通简体"/>
                <a:ea typeface="方正卡通简体"/>
              </a:rPr>
              <a:t>1797</a:t>
            </a:r>
            <a:r>
              <a:rPr b="0" lang="zh-CN" sz="4800" spc="-1" strike="noStrike">
                <a:solidFill>
                  <a:srgbClr val="002060"/>
                </a:solidFill>
                <a:latin typeface="方正卡通简体"/>
                <a:ea typeface="方正卡通简体"/>
              </a:rPr>
              <a:t>年），清代诗人、诗论家。字子才，号简斋，晚年自号仓山居士，随园主人，随园老人。</a:t>
            </a:r>
            <a:endParaRPr b="0" lang="en-US" sz="4800" spc="-1" strike="noStrike">
              <a:solidFill>
                <a:srgbClr val="a0c6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500120" y="2257560"/>
            <a:ext cx="631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葛岭花开二月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人来往说神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夫心与游人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羡神仙羡少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3683880" y="447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上杂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5508000" y="1557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清）袁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411280" y="2279160"/>
            <a:ext cx="4321440" cy="3444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葛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岭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花开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二月天，</a:t>
            </a:r>
            <a:endParaRPr b="0" lang="en-US" sz="3600" spc="-1" strike="noStrike">
              <a:solidFill>
                <a:srgbClr val="a0c6ea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游人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来往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说神仙。</a:t>
            </a:r>
            <a:endParaRPr b="0" lang="en-US" sz="3600" spc="-1" strike="noStrike">
              <a:solidFill>
                <a:srgbClr val="a0c6ea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老夫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心与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游人异，</a:t>
            </a:r>
            <a:endParaRPr b="0" lang="en-US" sz="3600" spc="-1" strike="noStrike">
              <a:solidFill>
                <a:srgbClr val="a0c6ea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不羡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神仙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a0c6ea"/>
                </a:solidFill>
                <a:latin typeface="Arial"/>
              </a:rPr>
              <a:t>羡少年。</a:t>
            </a:r>
            <a:endParaRPr b="0" lang="en-US" sz="3600" spc="-1" strike="noStrike">
              <a:solidFill>
                <a:srgbClr val="a0c6ea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979640" y="1638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gé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1403280" y="22068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1405080" y="350352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1069200" y="2428920"/>
            <a:ext cx="911880" cy="1231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游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433520" y="3764160"/>
            <a:ext cx="546120" cy="1337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/>
          <p:cNvSpPr/>
          <p:nvPr/>
        </p:nvSpPr>
        <p:spPr>
          <a:xfrm>
            <a:off x="6445080" y="2494080"/>
            <a:ext cx="90720" cy="914400"/>
          </a:xfrm>
          <a:custGeom>
            <a:avLst/>
            <a:gdLst>
              <a:gd name="textAreaLeft" fmla="*/ 0 w 90720"/>
              <a:gd name="textAreaRight" fmla="*/ 32760 w 90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9"/>
          <p:cNvSpPr/>
          <p:nvPr/>
        </p:nvSpPr>
        <p:spPr>
          <a:xfrm>
            <a:off x="6445080" y="3790800"/>
            <a:ext cx="90720" cy="914400"/>
          </a:xfrm>
          <a:custGeom>
            <a:avLst/>
            <a:gdLst>
              <a:gd name="textAreaLeft" fmla="*/ 0 w 90720"/>
              <a:gd name="textAreaRight" fmla="*/ 32760 w 90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6855480" y="2494080"/>
            <a:ext cx="5464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神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6855480" y="3790800"/>
            <a:ext cx="5464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7956720" y="2495520"/>
            <a:ext cx="91800" cy="2211480"/>
          </a:xfrm>
          <a:custGeom>
            <a:avLst/>
            <a:gdLst>
              <a:gd name="textAreaLeft" fmla="*/ 0 w 91800"/>
              <a:gd name="textAreaRight" fmla="*/ 33120 w 91800"/>
              <a:gd name="textAreaTop" fmla="*/ 57600 h 2211480"/>
              <a:gd name="textAreaBottom" fmla="*/ 2153880 h 22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8051040" y="2347920"/>
            <a:ext cx="911880" cy="2581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年轻的希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春的渴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4"/>
          <p:cNvSpPr/>
          <p:nvPr/>
        </p:nvSpPr>
        <p:spPr>
          <a:xfrm>
            <a:off x="2050920" y="1920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96720" y="333360"/>
            <a:ext cx="81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葛岭花开二月天，游人来往说神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396720" y="159372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写出了游人的表现。作者闲来无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湖滨郊游踏青，一路上游人来往不绝，都说想做神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08000" y="2970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老夫心与游人异，不羡神仙羡少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24000" y="166860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作者表明自己的态度，一点也不羡慕神仙，只羡慕那些年轻的少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396720" y="477720"/>
            <a:ext cx="82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羡神仙羡少年”这句诗，流露出作者怎样的情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396720" y="2276640"/>
            <a:ext cx="828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流露出作者对青春的渴盼，希冀中又隐藏着一股难言的惆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69920" y="274320"/>
            <a:ext cx="671688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3000" spc="-1" strike="noStrike">
                <a:solidFill>
                  <a:srgbClr val="a0c6ea"/>
                </a:solidFill>
                <a:latin typeface="Arial"/>
              </a:rPr>
              <a:t>Full Of Water</a:t>
            </a:r>
            <a:endParaRPr b="0" lang="en-US" sz="3000" spc="-1" strike="noStrike">
              <a:solidFill>
                <a:srgbClr val="a0c6ea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80720" y="275760"/>
            <a:ext cx="8505720" cy="5851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总结：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a0c6ea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000" spc="-1" strike="noStrike">
              <a:solidFill>
                <a:srgbClr val="a0c6ea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是一首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写景抒情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的诗，诗人采用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对比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的写法，写出了郊游踏青的闲情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表达出作者对青春的渴盼，对年轻的希冀。</a:t>
            </a:r>
            <a:endParaRPr b="0" lang="en-US" sz="4000" spc="-1" strike="noStrike">
              <a:solidFill>
                <a:srgbClr val="a0c6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5:03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0:36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