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4116-44C8-4D83-8A68-CB77137B769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8148-8BFC-4FD8-8056-4F7E163E1D2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1F7E-4776-4F62-AB29-EB59F7F7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D1FA-2861-4371-98B4-544B73E7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EF49-68A1-40A5-B962-FE6512EB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E5D9-5AF3-4463-A1B9-EE6A925F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C74A-25BD-4644-BC91-C5401908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B1C-9846-430A-9BA4-D5448A2E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D158-97ED-4D4B-AE66-BFD1E681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B04-1093-40EC-84D7-171BF352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C558-B6FB-44CE-9A08-73704B27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C0DE-A610-4C19-BF6B-6C7F4453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2E8-EAE2-4228-8CEC-C2B20D75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CC4-B7E0-41D0-BE78-C9C47DE8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CE61-5EBC-4F57-8BA8-1BBC00E98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198440" y="1600200"/>
            <a:ext cx="674856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隶书"/>
              </a:rPr>
              <a:t>好心的小雪人</a:t>
            </a:r>
            <a:endParaRPr b="1" lang="en-US" sz="6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827000" y="57913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0" y="114480"/>
            <a:ext cx="883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两只小鸟飞来，站在小雪人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肩上直打哆嗦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：“好冷啊，好冷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小雪人问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：“你们为什么不回家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　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“我们的鸟巢都没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把我的绒帽带去，做个鸟窝吧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“谢谢你，小雪人，你真好！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两只小鸟衔着绒帽飞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2057400" y="1066680"/>
            <a:ext cx="67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这时候，一位老奶奶从树林里走出来，看着小雪人说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0000cc"/>
                </a:solidFill>
                <a:latin typeface="宋体"/>
              </a:rPr>
              <a:t>“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你的模样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变了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，但是，你身体里的那颗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水晶心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没有变。</a:t>
            </a:r>
            <a:r>
              <a:rPr b="1" lang="zh-CN" sz="5400" spc="-1" strike="noStrike">
                <a:solidFill>
                  <a:srgbClr val="0000cc"/>
                </a:solidFill>
                <a:latin typeface="宋体"/>
              </a:rPr>
              <a:t>”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E74F-1314-444D-8029-90BF28BC4F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00812120652652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2224440" y="685800"/>
            <a:ext cx="454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桂圆  绒帽  松鼠  咖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224080" y="2209680"/>
            <a:ext cx="45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谢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谢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  哆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嗦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  奶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奶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  肚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066680" y="35211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模样</a:t>
            </a:r>
            <a:r>
              <a:rPr b="1" lang="zh-CN" sz="5400" spc="-1" strike="noStrike">
                <a:solidFill>
                  <a:srgbClr val="6d47d9"/>
                </a:solidFill>
                <a:latin typeface="宋体"/>
              </a:rPr>
              <a:t>儿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   一点</a:t>
            </a:r>
            <a:r>
              <a:rPr b="1" lang="zh-CN" sz="5400" spc="-1" strike="noStrike">
                <a:solidFill>
                  <a:srgbClr val="6d47d9"/>
                </a:solidFill>
                <a:latin typeface="宋体"/>
              </a:rPr>
              <a:t>儿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425760" y="4800600"/>
            <a:ext cx="38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惹人喜欢  天寒地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20093310185071447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57" name="WordArt 5"/>
          <p:cNvSpPr txBox="1"/>
          <p:nvPr/>
        </p:nvSpPr>
        <p:spPr>
          <a:xfrm>
            <a:off x="2743200" y="914400"/>
            <a:ext cx="3429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会归纳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533520" y="22860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这篇童话故事主要讲了小雪人（     ）次把自己身体上的物品送给别人，老奶奶夸他有（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950280" y="30481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029280" y="47242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颗水晶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200812120652652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4092840" y="4096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文中写的小雪人长什么样？请你在文中找一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609480" y="838080"/>
            <a:ext cx="8153640" cy="4038840"/>
          </a:xfrm>
          <a:prstGeom prst="cloudCallout">
            <a:avLst>
              <a:gd name="adj1" fmla="val -28814"/>
              <a:gd name="adj2" fmla="val 7272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她有两只桂圆做的眼睛，一根胡萝卜做的长鼻子，还有一顶咖啡色的绒帽，模样儿真惹人喜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6"/>
          <p:cNvSpPr/>
          <p:nvPr/>
        </p:nvSpPr>
        <p:spPr>
          <a:xfrm>
            <a:off x="1219320" y="373392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暴风截图2014113329387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0" y="0"/>
            <a:ext cx="90676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有两只桂圆做的眼睛，一根胡萝卜做的长鼻子，还有一顶咖啡色的绒帽，模样儿真惹人喜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课文朗读视频_20141162147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5721480" y="92160"/>
            <a:ext cx="3346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想一想，小雪人发生了什么变化？跟你的同桌说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0" y="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　         一只小松鼠来了。雪地里找不到一点儿吃的东西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小松鼠很饿很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小雪人把做眼睛的桂圆给了小松鼠。小松鼠吃下桂圆，肚子不饿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谢谢你，小雪人，你真好！”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小松鼠一蹦一蹦地走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3"/>
          <p:cNvSpPr txBox="1"/>
          <p:nvPr/>
        </p:nvSpPr>
        <p:spPr>
          <a:xfrm>
            <a:off x="2286000" y="685800"/>
            <a:ext cx="4114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比一比，读一读：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2255400"/>
            <a:ext cx="914400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雪地里找不到一点儿吃的东西，小松鼠很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雪地里找不到一点儿吃的东西，小松鼠很饿很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6"/>
          <p:cNvSpPr/>
          <p:nvPr/>
        </p:nvSpPr>
        <p:spPr>
          <a:xfrm>
            <a:off x="1308960" y="17604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一想，说一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003320" y="1295280"/>
            <a:ext cx="6892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松鼠摸着肚子说：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哪里有吃的东西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松鼠轻轻地说：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松鼠有气无力地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3505320" y="2895480"/>
            <a:ext cx="4952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380880" y="3581280"/>
            <a:ext cx="8229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228600" y="5791320"/>
            <a:ext cx="8534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4495680" y="5105520"/>
            <a:ext cx="4343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"/>
          <p:cNvSpPr/>
          <p:nvPr/>
        </p:nvSpPr>
        <p:spPr>
          <a:xfrm>
            <a:off x="2228760" y="6342120"/>
            <a:ext cx="54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2:47:5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1:41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