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wmf" ContentType="image/x-wmf"/>
  <Override PartName="/ppt/media/image11.png" ContentType="image/png"/>
  <Override PartName="/ppt/media/image19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10.jpeg" ContentType="image/jpeg"/>
  <Override PartName="/ppt/media/image9.wmf" ContentType="image/x-wmf"/>
  <Override PartName="/ppt/media/image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2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E71D-9291-41B2-9382-F1CBCCF54A5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9775-54E6-4BD4-ACA9-6F4E595250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8A3-0923-4B78-B22C-A79F627B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14D4-5D49-47C5-885B-7F1F55F4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0910-24E1-4893-905B-9D95381E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559-D6FC-4948-BE9B-454303BE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BB4C-3810-4A9C-A874-5947B890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9609-3F80-48BB-A056-991A7F08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613F-E914-4034-83A5-A8512147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EE96-0D22-4652-95D2-936F90A4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CCE5-82A4-4D3B-8A90-F251D3BE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C4AF-50E4-48CE-83CE-F98D528A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A16F-C655-46B0-8A94-1F63D8E6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5EB-A60C-428A-9206-F397B9DB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66DB-86B1-43E7-AA50-B287D5F3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1596-2BA9-4952-BD08-817AF39A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0C59-E104-4803-A03A-6E305B76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A87A-533A-4052-B0A5-FBB69FE3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0131-2C0A-43A1-81FD-C4F84E94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9EC-3C66-4369-B203-C5093D23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B6E-3744-46D4-9509-54DEE42F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B3B6-72EB-43DB-819B-AD40E662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AAF-163B-44B2-A010-BCC758B3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523E-D3DA-4070-8556-7810C9AA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66EA-D94E-4AA6-B9BB-E5B4D257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81E4-6745-40E0-B2A5-6283022C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D9FD-E339-4895-863F-01978680D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012000" y="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E256-4698-4B9F-B3D5-FD79B9EB2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012000" y="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1523880" y="251460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5050"/>
                </a:solidFill>
                <a:latin typeface="华文隶书"/>
                <a:ea typeface="华文隶书"/>
              </a:rPr>
              <a:t>会植树的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1827000" y="54864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505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762120" y="121932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楷体_GB2312"/>
              </a:rPr>
              <a:t>它们全身披着灰色的羽毛，尖尖的喙像一根铁钉，尾羽有一尺长，像半开的纸扇，两只黑黝黝的爪子特别粗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1066680" y="2057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小卡西目送着远去的鸟群，对爸爸说：“这些鸟的样子并不好看，但是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我特别喜欢它们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2590920" y="1447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楷体_GB2312"/>
              </a:rPr>
              <a:t>小鸟是怎样植树的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65825a8967c35d930e244466"/>
          <p:cNvPicPr/>
          <p:nvPr/>
        </p:nvPicPr>
        <p:blipFill>
          <a:blip r:embed="rId2"/>
          <a:stretch/>
        </p:blipFill>
        <p:spPr>
          <a:xfrm>
            <a:off x="4267080" y="2971800"/>
            <a:ext cx="3353040" cy="269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886200" y="16765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小鸟在一只鸟的领导下，均匀、整齐地排列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用嘴啄，用爪子刨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，不一会儿，每只鸟都在沙滩上挖了个小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371600" y="114300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楷体_GB2312"/>
              </a:rPr>
              <a:t>当鸟群又飞回来时，每只鸟的嘴里都衔着一根带绿叶的树枝。它们把树枝放在自己挖的坑里，再用松软的土盖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447920" y="190512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爸爸说：“这些鸟的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寿命只有三年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。明年它们再来的时候，会有三分之一的鸟死去。可是，老的一代死去了，新的一代又会跟着来种树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"/>
          <p:cNvSpPr/>
          <p:nvPr/>
        </p:nvSpPr>
        <p:spPr>
          <a:xfrm>
            <a:off x="1146240" y="5084640"/>
            <a:ext cx="52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762120" y="20574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这些会植树的鸟的寿命只有三年，但老的一代死去了，新的一代又会跟来种树，这些鸟为大自然作出了如此大的贡献，你想说点什么吗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776680" y="6094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课外拓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4"/>
          <p:cNvSpPr txBox="1"/>
          <p:nvPr/>
        </p:nvSpPr>
        <p:spPr>
          <a:xfrm>
            <a:off x="1295280" y="3048120"/>
            <a:ext cx="26672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再见</a:t>
            </a:r>
            <a:endParaRPr b="0" lang="en-US" sz="60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blinds dir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DC22-DA6E-4544-82A8-DAB0CD717EC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10143311222"/>
          <p:cNvPicPr/>
          <p:nvPr/>
        </p:nvPicPr>
        <p:blipFill>
          <a:blip r:embed="rId2"/>
          <a:stretch/>
        </p:blipFill>
        <p:spPr>
          <a:xfrm>
            <a:off x="3581280" y="990720"/>
            <a:ext cx="4286520" cy="321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b29f82829d2b8bac6c8119a3"/>
          <p:cNvPicPr/>
          <p:nvPr/>
        </p:nvPicPr>
        <p:blipFill>
          <a:blip r:embed="rId3"/>
          <a:stretch/>
        </p:blipFill>
        <p:spPr>
          <a:xfrm>
            <a:off x="990720" y="1295280"/>
            <a:ext cx="2133360" cy="1781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981080" y="47242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3.12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中国植树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DY024"/>
          <p:cNvPicPr/>
          <p:nvPr/>
        </p:nvPicPr>
        <p:blipFill>
          <a:blip r:embed="rId2"/>
          <a:stretch/>
        </p:blipFill>
        <p:spPr>
          <a:xfrm>
            <a:off x="0" y="0"/>
            <a:ext cx="4419720" cy="3137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DY109"/>
          <p:cNvPicPr/>
          <p:nvPr/>
        </p:nvPicPr>
        <p:blipFill>
          <a:blip r:embed="rId3"/>
          <a:stretch/>
        </p:blipFill>
        <p:spPr>
          <a:xfrm>
            <a:off x="0" y="3666960"/>
            <a:ext cx="4495680" cy="31910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5029200" y="48769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鸟会植树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133720" y="213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114800" y="15238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yu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905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m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943600" y="15238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f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4191120" y="213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095880" y="213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2209680" y="403848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ff"/>
                </a:solidFill>
                <a:latin typeface="Arial"/>
                <a:ea typeface="楷体_GB2312"/>
              </a:rPr>
              <a:t>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191120" y="3429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楷体_GB2312"/>
              </a:rPr>
              <a:t>gà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1981080" y="34290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楷体_GB2312"/>
              </a:rPr>
              <a:t>zhu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6019920" y="34290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楷体_GB2312"/>
              </a:rPr>
              <a:t>xu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4267080" y="403848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ff"/>
                </a:solidFill>
                <a:latin typeface="Arial"/>
                <a:ea typeface="楷体_GB2312"/>
              </a:rPr>
              <a:t>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6172200" y="40384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ff"/>
                </a:solidFill>
                <a:latin typeface="Arial"/>
                <a:ea typeface="楷体_GB2312"/>
              </a:rPr>
              <a:t>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20"/>
          <p:cNvSpPr/>
          <p:nvPr/>
        </p:nvSpPr>
        <p:spPr>
          <a:xfrm>
            <a:off x="3851280" y="256212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8"/>
          <p:cNvSpPr/>
          <p:nvPr/>
        </p:nvSpPr>
        <p:spPr>
          <a:xfrm>
            <a:off x="4191120" y="44467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2232000" cy="1959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3"/>
          <a:stretch/>
        </p:blipFill>
        <p:spPr>
          <a:xfrm>
            <a:off x="3635280" y="4076640"/>
            <a:ext cx="2232000" cy="1959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2232000" cy="1959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5"/>
          <a:stretch/>
        </p:blipFill>
        <p:spPr>
          <a:xfrm>
            <a:off x="3562200" y="1628640"/>
            <a:ext cx="2232000" cy="1959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6"/>
          <a:stretch/>
        </p:blipFill>
        <p:spPr>
          <a:xfrm>
            <a:off x="6443640" y="4076640"/>
            <a:ext cx="1862280" cy="195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7"/>
          <a:stretch/>
        </p:blipFill>
        <p:spPr>
          <a:xfrm>
            <a:off x="6442200" y="1628640"/>
            <a:ext cx="1863720" cy="19591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755640" y="198900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楷体_GB2312"/>
              </a:rPr>
              <a:t>茂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6400800" y="441972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大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6172200" y="1981080"/>
            <a:ext cx="23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Arial"/>
                <a:ea typeface="楷体_GB2312"/>
              </a:rPr>
              <a:t>黑黝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3851280" y="4292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翻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826920" y="436572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爪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778200" y="198900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盘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6" descr=""/>
          <p:cNvPicPr/>
          <p:nvPr/>
        </p:nvPicPr>
        <p:blipFill>
          <a:blip r:embed="rId8"/>
          <a:stretch/>
        </p:blipFill>
        <p:spPr>
          <a:xfrm>
            <a:off x="0" y="0"/>
            <a:ext cx="1763640" cy="1341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7"/>
          <p:cNvSpPr/>
          <p:nvPr/>
        </p:nvSpPr>
        <p:spPr>
          <a:xfrm>
            <a:off x="2843280" y="260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Arial"/>
                <a:ea typeface="楷体_GB2312"/>
              </a:rPr>
              <a:t>词语花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762120" y="2057400"/>
            <a:ext cx="41907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知道会植树的鸟在哪里植树吗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它什么时间会去那里植树</a:t>
            </a:r>
            <a:r>
              <a:rPr b="1" lang="en-US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8"/>
          <p:cNvSpPr/>
          <p:nvPr/>
        </p:nvSpPr>
        <p:spPr>
          <a:xfrm>
            <a:off x="2666880" y="12952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美国北部的纳得华地区，是一片茫茫的沙漠</a:t>
            </a:r>
            <a:r>
              <a:rPr b="1" lang="en-US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沙漠中有一块绿洲，绿洲上生长着茂密的树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9"/>
          <p:cNvSpPr txBox="1"/>
          <p:nvPr/>
        </p:nvSpPr>
        <p:spPr>
          <a:xfrm rot="5400000">
            <a:off x="0" y="2819520"/>
            <a:ext cx="27432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我知道</a:t>
            </a:r>
            <a:endParaRPr b="0" i="1" lang="en-US" sz="4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30" name="Picture 11" descr="图片2"/>
          <p:cNvPicPr/>
          <p:nvPr/>
        </p:nvPicPr>
        <p:blipFill>
          <a:blip r:embed="rId2"/>
          <a:stretch/>
        </p:blipFill>
        <p:spPr>
          <a:xfrm>
            <a:off x="3429000" y="4191120"/>
            <a:ext cx="4876920" cy="18968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2"/>
          <p:cNvSpPr/>
          <p:nvPr/>
        </p:nvSpPr>
        <p:spPr>
          <a:xfrm>
            <a:off x="4191120" y="4724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这些树是由一种可爱的鸟一棵一棵种植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981080" y="17524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年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月雨季到来的前几天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这种鸟都要在这里进行一次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植树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828800" y="320040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楷体_GB2312"/>
              </a:rPr>
              <a:t>会植树的小鸟长什么样子，你知道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12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9:44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