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281480" y="0"/>
            <a:ext cx="327672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6640" y="801360"/>
            <a:ext cx="5346720" cy="4010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5302"/>
                </a:solidFill>
                <a:latin typeface="微软雅黑"/>
              </a:rPr>
              <a:t>Click to move the slide</a:t>
            </a: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2C60-AFA7-439A-99D6-83ED7465D1F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2BE5-A387-4A98-B5AD-D99F0776ADF1}" type="slidenum">
              <a:rPr b="0" lang="zh-CN" sz="1200" spc="-1" strike="noStrike">
                <a:solidFill>
                  <a:srgbClr val="494b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EC9-D2BB-426C-A5D4-C0B15E92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7520" y="1146240"/>
            <a:ext cx="832644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7520" y="3910680"/>
            <a:ext cx="832644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EEE-DAE2-4ADB-817F-C3E184B2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7520" y="1146240"/>
            <a:ext cx="406296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146240"/>
            <a:ext cx="406296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07520" y="3910680"/>
            <a:ext cx="406296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910680"/>
            <a:ext cx="406296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B19-9C88-4001-8A60-705809D0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7520" y="1146240"/>
            <a:ext cx="268092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720" y="1146240"/>
            <a:ext cx="268092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8280" y="1146240"/>
            <a:ext cx="268092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07520" y="3910680"/>
            <a:ext cx="268092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720" y="3910680"/>
            <a:ext cx="268092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8280" y="3910680"/>
            <a:ext cx="268092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ADA-0C19-41E5-AA86-CFFA66C4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25D7-3F29-4B56-A950-BEAF915C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07520" y="1146240"/>
            <a:ext cx="8326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1CEF-946A-4FF4-ADA2-D54A48C9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7520" y="1146240"/>
            <a:ext cx="832644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6542-9686-4AF6-9286-4DFC6DF2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07520" y="1146240"/>
            <a:ext cx="4062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46240"/>
            <a:ext cx="4062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CCDF-6DC1-45C9-BA1D-B6AD2C0E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75EC-B144-43FB-9969-4AC2B60A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7520" y="262080"/>
            <a:ext cx="832644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F337-96BA-4E31-B36D-9A118584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7520" y="1146240"/>
            <a:ext cx="406296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146240"/>
            <a:ext cx="4062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07520" y="3910680"/>
            <a:ext cx="406296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7B2B-4290-4E8A-AA7F-B010FC40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07520" y="1146240"/>
            <a:ext cx="83264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52A-F8BE-4321-83B6-36F95888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07520" y="1146240"/>
            <a:ext cx="4062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146240"/>
            <a:ext cx="406296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880" y="3910680"/>
            <a:ext cx="406296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1CF9-A02C-4A2D-9911-5B59D8BD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7520" y="1146240"/>
            <a:ext cx="406296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880" y="1146240"/>
            <a:ext cx="406296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7520" y="3910680"/>
            <a:ext cx="832644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58A1-62BA-49E5-9953-B5BF0FE2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7520" y="1146240"/>
            <a:ext cx="832644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7520" y="3910680"/>
            <a:ext cx="832644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1B5B-BC8A-46B3-9FC3-A52FC768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7520" y="1146240"/>
            <a:ext cx="406296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880" y="1146240"/>
            <a:ext cx="406296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7520" y="3910680"/>
            <a:ext cx="406296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880" y="3910680"/>
            <a:ext cx="406296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F37B-FBAC-4C37-9A64-A28E2052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7520" y="1146240"/>
            <a:ext cx="268092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720" y="1146240"/>
            <a:ext cx="268092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8280" y="1146240"/>
            <a:ext cx="268092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07520" y="3910680"/>
            <a:ext cx="268092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720" y="3910680"/>
            <a:ext cx="268092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8280" y="3910680"/>
            <a:ext cx="268092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E2C5-1F2A-43CD-B9AA-44E5121D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07520" y="1146240"/>
            <a:ext cx="832644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B27-697A-4E40-A236-54AC2938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07520" y="1146240"/>
            <a:ext cx="4062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146240"/>
            <a:ext cx="4062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D48-B1BB-49C3-A886-31467395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38ED-06B0-453D-B4E4-9328D936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7520" y="262080"/>
            <a:ext cx="832644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3489-1303-4EF0-AA07-CADC2E43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07520" y="1146240"/>
            <a:ext cx="406296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146240"/>
            <a:ext cx="4062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7520" y="3910680"/>
            <a:ext cx="406296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A868-C442-481D-841B-1C37AABD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7520" y="1146240"/>
            <a:ext cx="4062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146240"/>
            <a:ext cx="406296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910680"/>
            <a:ext cx="406296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FF0-C495-451F-B980-2F0F7D0E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7520" y="1146240"/>
            <a:ext cx="406296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146240"/>
            <a:ext cx="406296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7520" y="3910680"/>
            <a:ext cx="8326440" cy="25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1FF-0A9B-47CF-AC92-4A38D3D9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54" descr=""/>
          <p:cNvPicPr/>
          <p:nvPr/>
        </p:nvPicPr>
        <p:blipFill>
          <a:blip r:embed="rId2"/>
          <a:srcRect l="472" t="1694" r="0" b="0"/>
          <a:stretch/>
        </p:blipFill>
        <p:spPr>
          <a:xfrm>
            <a:off x="0" y="0"/>
            <a:ext cx="913932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3A48-8DAE-44AB-B053-9C3701A1DA0A}" type="slidenum">
              <a:rPr b="0" lang="zh-CN" sz="1200" spc="-1" strike="noStrike">
                <a:solidFill>
                  <a:srgbClr val="95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07520" y="1146240"/>
            <a:ext cx="832644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d5302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5302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2bd7b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5302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494b4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5302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494b4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5302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494b4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5302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494b4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5302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494b4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5302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5302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2"/>
          <a:srcRect l="0" t="114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5302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07520" y="1146240"/>
            <a:ext cx="832644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d5302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5302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2bd7b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5302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494b4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5302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494b4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5302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494b4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5302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494b4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5302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494b4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5302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5471-7329-46C3-9524-834D307ED98B}" type="slidenum">
              <a:rPr b="0" lang="zh-CN" sz="1200" spc="-1" strike="noStrike">
                <a:solidFill>
                  <a:srgbClr val="95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4268880"/>
            <a:ext cx="6540480" cy="7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dd5302"/>
                </a:solidFill>
                <a:latin typeface="微软雅黑"/>
              </a:rPr>
              <a:t>尖尖的草帽</a:t>
            </a:r>
            <a:endParaRPr b="1" lang="en-US" sz="80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1006200" y="55418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5302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dd5302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5302"/>
                </a:solidFill>
                <a:latin typeface="微软雅黑"/>
              </a:rPr>
              <a:t>字词冲关——第</a:t>
            </a:r>
            <a:r>
              <a:rPr b="1" lang="zh-CN" sz="2800" spc="-1" strike="noStrike">
                <a:solidFill>
                  <a:srgbClr val="dd5302"/>
                </a:solidFill>
                <a:latin typeface="微软雅黑"/>
              </a:rPr>
              <a:t>1</a:t>
            </a:r>
            <a:r>
              <a:rPr b="1" lang="zh-CN" sz="2800" spc="-1" strike="noStrike">
                <a:solidFill>
                  <a:srgbClr val="dd5302"/>
                </a:solidFill>
                <a:latin typeface="微软雅黑"/>
              </a:rPr>
              <a:t>关</a:t>
            </a: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07520" y="1146240"/>
            <a:ext cx="83264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d5302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尖刀  草帽  雷阵雨  一阵   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d5302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可以  以后  得分  得到  高层   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d5302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可怕  扇动  扇子  猜想  一定  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d5302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把手  当心  上当   停住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d5302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等待  可惜  爱惜  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5302"/>
                </a:solidFill>
                <a:latin typeface="微软雅黑"/>
              </a:rPr>
              <a:t>字词冲关——第</a:t>
            </a:r>
            <a:r>
              <a:rPr b="1" lang="zh-CN" sz="2800" spc="-1" strike="noStrike">
                <a:solidFill>
                  <a:srgbClr val="dd5302"/>
                </a:solidFill>
                <a:latin typeface="微软雅黑"/>
              </a:rPr>
              <a:t>2</a:t>
            </a:r>
            <a:r>
              <a:rPr b="1" lang="zh-CN" sz="2800" spc="-1" strike="noStrike">
                <a:solidFill>
                  <a:srgbClr val="dd5302"/>
                </a:solidFill>
                <a:latin typeface="微软雅黑"/>
              </a:rPr>
              <a:t>关</a:t>
            </a: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07520" y="1146240"/>
            <a:ext cx="83264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d5302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尖  帽   阵   以   得   层   怕   扇   猜   定  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d5302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把  当   停   等   待   惜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7520" y="31284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5302"/>
                </a:solidFill>
                <a:latin typeface="微软雅黑"/>
              </a:rPr>
              <a:t>字词冲关——第</a:t>
            </a:r>
            <a:r>
              <a:rPr b="1" lang="zh-CN" sz="2800" spc="-1" strike="noStrike">
                <a:solidFill>
                  <a:srgbClr val="dd5302"/>
                </a:solidFill>
                <a:latin typeface="微软雅黑"/>
              </a:rPr>
              <a:t>3</a:t>
            </a:r>
            <a:r>
              <a:rPr b="1" lang="zh-CN" sz="2800" spc="-1" strike="noStrike">
                <a:solidFill>
                  <a:srgbClr val="dd5302"/>
                </a:solidFill>
                <a:latin typeface="微软雅黑"/>
              </a:rPr>
              <a:t>关</a:t>
            </a: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07520" y="1146240"/>
            <a:ext cx="83264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d5302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尖刀  笔尖  尖锐  以前  以后  可以 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d5302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看着  想着  沉着  着重  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d5302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害怕  可怕  伯伯  停泊  迫切  急迫 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d5302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想要  不要  摘要  简要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d5302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把手  把握  好吧  篱笆   尾巴  结巴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99" name="文本框 1"/>
          <p:cNvSpPr/>
          <p:nvPr/>
        </p:nvSpPr>
        <p:spPr>
          <a:xfrm>
            <a:off x="1577880" y="5083200"/>
            <a:ext cx="55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94b4d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494b4d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494b4d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494b4d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5302"/>
                </a:solidFill>
                <a:latin typeface="微软雅黑"/>
              </a:rPr>
              <a:t>思考：</a:t>
            </a: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07520" y="1146240"/>
            <a:ext cx="83264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d5302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1</a:t>
            </a: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、当我看见一只蜻蜓在阳光里飞翔的时候是什么样的心情？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d5302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2</a:t>
            </a: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、这只蜻蜓为什么要追着我飞，我当时是怎么做的？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d5302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3</a:t>
            </a: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、“我”猜想他一定是要落在我尖尖的草帽上，表达了我怎么样的心情？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d5302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4</a:t>
            </a: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、我在草帽下微笑着。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“</a:t>
            </a: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我”为什么要微笑？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d5302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5</a:t>
            </a: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、我等待着它落在我尖尖的草帽上。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“</a:t>
            </a: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我”在等待时想些什么？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6</a:t>
            </a: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、当蜻蜓飞走的时候，我是怎么想的？心情如何？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7520" y="262080"/>
            <a:ext cx="832644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5302"/>
                </a:solidFill>
                <a:latin typeface="微软雅黑"/>
              </a:rPr>
              <a:t>讨论：</a:t>
            </a: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07520" y="1146240"/>
            <a:ext cx="83264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d5302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1</a:t>
            </a: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、从这篇课文中，你能看出作者是一个怎样的人？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d5302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2</a:t>
            </a:r>
            <a:r>
              <a:rPr b="0" lang="zh-CN" sz="2400" spc="-1" strike="noStrike">
                <a:solidFill>
                  <a:srgbClr val="dd5302"/>
                </a:solidFill>
                <a:latin typeface="幼圆"/>
              </a:rPr>
              <a:t>、你和小动物发生过什么事，和大家分享一下吧！ </a:t>
            </a:r>
            <a:endParaRPr b="0" lang="en-US" sz="2400" spc="-1" strike="noStrike">
              <a:solidFill>
                <a:srgbClr val="dd5302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5302"/>
                </a:solidFill>
                <a:latin typeface="微软雅黑"/>
              </a:rPr>
              <a:t>使用规范说明</a:t>
            </a:r>
            <a:endParaRPr b="1" lang="en-US" sz="2800" spc="-1" strike="noStrike">
              <a:solidFill>
                <a:srgbClr val="dd5302"/>
              </a:solidFill>
              <a:latin typeface="微软雅黑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站点介绍：</a:t>
            </a:r>
            <a:endParaRPr b="0" lang="en-US" sz="10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幼圆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幼圆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幼圆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幼圆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幼圆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幼圆"/>
              </a:rPr>
              <a:t> </a:t>
            </a:r>
            <a:r>
              <a:rPr b="0" lang="zh-CN" sz="1000" spc="-1" strike="noStrike" u="sng">
                <a:solidFill>
                  <a:srgbClr val="00b0f0"/>
                </a:solidFill>
                <a:uFillTx/>
                <a:latin typeface="幼圆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b0f0"/>
                </a:solidFill>
                <a:uFillTx/>
                <a:latin typeface="幼圆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 </a:t>
            </a:r>
            <a:endParaRPr b="0" lang="en-US" sz="10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特别说明：</a:t>
            </a:r>
            <a:endParaRPr b="0" lang="en-US" sz="10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幼圆"/>
              </a:rPr>
              <a:t>栏目推荐：</a:t>
            </a:r>
            <a:endParaRPr b="0" lang="en-US" sz="10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           </a:t>
            </a: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dongtai/</a:t>
            </a:r>
            <a:endParaRPr b="0" lang="en-US" sz="9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           </a:t>
            </a: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chuangyi/</a:t>
            </a:r>
            <a:endParaRPr b="0" lang="en-US" sz="9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gongzuo/</a:t>
            </a:r>
            <a:endParaRPr b="0" lang="en-US" sz="9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10"/>
              </a:rPr>
              <a:t>课件ppt模板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</a:t>
            </a:r>
            <a:r>
              <a:rPr b="0" lang="en-US" sz="900" spc="-1" strike="noStrike">
                <a:solidFill>
                  <a:srgbClr val="ededed"/>
                </a:solidFill>
                <a:latin typeface="幼圆"/>
              </a:rPr>
              <a:t>/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kejian/</a:t>
            </a:r>
            <a:endParaRPr b="0" lang="en-US" sz="9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shangwu/</a:t>
            </a:r>
            <a:endParaRPr b="0" lang="en-US" sz="9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sucai/</a:t>
            </a:r>
            <a:endParaRPr b="0" lang="en-US" sz="9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fengjing/</a:t>
            </a:r>
            <a:endParaRPr b="0" lang="en-US" sz="9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b0f0"/>
                </a:solidFill>
                <a:uFillTx/>
                <a:latin typeface="幼圆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jianjie/</a:t>
            </a:r>
            <a:endParaRPr b="0" lang="en-US" sz="9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jiaoyu/</a:t>
            </a:r>
            <a:endParaRPr b="0" lang="en-US" sz="9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lunwen/</a:t>
            </a:r>
            <a:endParaRPr b="0" lang="en-US" sz="9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幼圆"/>
              </a:rPr>
              <a:t>http://www.eeppt.com/moban/yiliao/</a:t>
            </a:r>
            <a:endParaRPr b="0" lang="en-US" sz="9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dd5302"/>
              </a:solidFill>
              <a:latin typeface="幼圆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dd5302"/>
              </a:solidFill>
              <a:latin typeface="幼圆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94b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10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3775-C3FA-44A2-AA70-E806912BCC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12:53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8:08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