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09B2-7D03-44D8-8668-CC8E499528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3EEC-F58C-4440-BF72-2E684FA84B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FE4-18C2-4472-9DD2-34FFA916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28A-2103-4D4B-9D5B-56D3B6AD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481-A19A-4FE4-A499-CDD4C29F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337-7847-461A-A118-51012B91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5DC-7CF8-4744-B162-DC270122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B71-40DD-49CC-A038-D7BFDDB1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089-2C77-42CC-851A-AE224D94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3CD-AA4A-4BBF-9B73-00273D54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CB7-D1CC-4847-8F15-D2567F6E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D9F-3FA2-48C6-93FC-15540595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1FB-6D99-4490-815C-1B813A5E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8E6-734E-497C-89E3-103FB4E3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4A37-BEDC-47FE-9141-31DB395120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a59590d9a98755cfb4e668a29855b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2661480" y="14842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华文琥珀"/>
                <a:ea typeface="华文琥珀"/>
              </a:rPr>
              <a:t>尖尖的草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52200" y="5373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525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课文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96472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你从那些段中感受到蜻蜓可爱，  请读给大家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qingting2_001"/>
          <p:cNvPicPr/>
          <p:nvPr/>
        </p:nvPicPr>
        <p:blipFill>
          <a:blip r:embed="rId1"/>
          <a:stretch/>
        </p:blipFill>
        <p:spPr>
          <a:xfrm>
            <a:off x="4643280" y="692280"/>
            <a:ext cx="4064040" cy="5505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468360" y="476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从哪儿可以看出来小男孩很喜欢小蜻蜓？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35733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6560" y="31417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如果你是那个小男孩会怎样想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f75622ae2c3516fe3465407e4a7171e"/>
          <p:cNvPicPr/>
          <p:nvPr/>
        </p:nvPicPr>
        <p:blipFill>
          <a:blip r:embed="rId1"/>
          <a:stretch/>
        </p:blipFill>
        <p:spPr>
          <a:xfrm>
            <a:off x="-611280" y="-601560"/>
            <a:ext cx="10223640" cy="8207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重点语句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我在草帽下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微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692360" y="249228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我”为什么要微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66200" y="3181320"/>
            <a:ext cx="497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e4908"/>
                </a:solidFill>
                <a:latin typeface="Arial"/>
              </a:rPr>
              <a:t>（“微笑”是表达对蜻蜓的喜爱，表示欢迎小蜻蜓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e4908"/>
                </a:solidFill>
                <a:latin typeface="Arial"/>
              </a:rPr>
              <a:t>在自己的草帽上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f75622ae2c3516fe3465407e4a7171e"/>
          <p:cNvPicPr/>
          <p:nvPr/>
        </p:nvPicPr>
        <p:blipFill>
          <a:blip r:embed="rId1"/>
          <a:stretch/>
        </p:blipFill>
        <p:spPr>
          <a:xfrm>
            <a:off x="-539640" y="-530280"/>
            <a:ext cx="10007640" cy="7775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我等待着它落在我尖尖的草帽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49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4908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be4908"/>
                </a:solidFill>
                <a:latin typeface="Arial"/>
              </a:rPr>
              <a:t>我”在等待时会想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49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“等待”小蜻蜓时肯定会想让小蜻蜓赶快来和自己一起游戏、嬉戏，和小蜻蜓交朋友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79e1245a1ff4248f9932035dff3c27f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340000" y="141300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了这篇课文之后，我们知道了作者是一个拥有一腔热爱，赞美自然，赞美生命，赞美童真，赞美纯净的心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以作为一名小学生我们更应该去爱护大自然，学会和大自然的动物们和谐相处，珍惜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6a35a6030f2324aefaa07b7f32bce0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2915ff9851583619f3ed55dc57c48df"/>
          <p:cNvPicPr/>
          <p:nvPr/>
        </p:nvPicPr>
        <p:blipFill>
          <a:blip r:embed="rId1"/>
          <a:stretch/>
        </p:blipFill>
        <p:spPr>
          <a:xfrm>
            <a:off x="-189000" y="0"/>
            <a:ext cx="95234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81279aedcffbf4470cb7db26207fa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9b51a808a3d63bd3de327d0595216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e6c8c4bb36601ff7e4f59ec81755ab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95f4acf8984042e56d5e447e1a45b7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4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116000" y="54936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116000" y="198900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你喜欢那些小动物，想和它做朋友吗？请在你的小本本上或贴上它的图片在对它写几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讨论怎样保护小动物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971640" y="765000"/>
            <a:ext cx="7200720" cy="381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大家一起来认字</a:t>
            </a:r>
            <a:endParaRPr b="1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尖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15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"/>
            <p:cNvSpPr/>
            <p:nvPr/>
          </p:nvSpPr>
          <p:spPr>
            <a:xfrm>
              <a:off x="1187280" y="393228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6"/>
            <p:cNvSpPr/>
            <p:nvPr/>
          </p:nvSpPr>
          <p:spPr>
            <a:xfrm>
              <a:off x="356364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矩形 8"/>
          <p:cNvSpPr/>
          <p:nvPr/>
        </p:nvSpPr>
        <p:spPr>
          <a:xfrm>
            <a:off x="2195640" y="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ji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尖尖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笔尖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22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1187280" y="393228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356364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矩形 8"/>
          <p:cNvSpPr/>
          <p:nvPr/>
        </p:nvSpPr>
        <p:spPr>
          <a:xfrm>
            <a:off x="2195640" y="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以后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以前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着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29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1187280" y="393228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356364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8"/>
          <p:cNvSpPr/>
          <p:nvPr/>
        </p:nvSpPr>
        <p:spPr>
          <a:xfrm>
            <a:off x="2195640" y="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看着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听着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怕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36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"/>
            <p:cNvSpPr/>
            <p:nvPr/>
          </p:nvSpPr>
          <p:spPr>
            <a:xfrm>
              <a:off x="1187280" y="393228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>
              <a:off x="356364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矩形 8"/>
          <p:cNvSpPr/>
          <p:nvPr/>
        </p:nvSpPr>
        <p:spPr>
          <a:xfrm>
            <a:off x="2195640" y="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害怕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可怕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3683160" y="911160"/>
            <a:ext cx="54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要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44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1187280" y="393228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356364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矩形 8"/>
          <p:cNvSpPr/>
          <p:nvPr/>
        </p:nvSpPr>
        <p:spPr>
          <a:xfrm>
            <a:off x="2195640" y="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要好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需要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把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51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>
              <a:off x="1187280" y="393228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>
              <a:off x="356364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矩形 8"/>
          <p:cNvSpPr/>
          <p:nvPr/>
        </p:nvSpPr>
        <p:spPr>
          <a:xfrm>
            <a:off x="2195640" y="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一把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三把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83D7-2DA0-4CDE-9D6A-6869160FFC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4dbe09e6d9c33ad4ddc57c21976ee275"/>
          <p:cNvPicPr/>
          <p:nvPr/>
        </p:nvPicPr>
        <p:blipFill>
          <a:blip r:embed="rId1"/>
          <a:stretch/>
        </p:blipFill>
        <p:spPr>
          <a:xfrm>
            <a:off x="-303120" y="-222120"/>
            <a:ext cx="9752040" cy="7304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be27069bc6f2bcd4a10b3d8e257e66b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4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2720" y="1773000"/>
            <a:ext cx="8458200" cy="29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流利的朗读课文，背诵课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会小主人公在尖尖的草帽下微笑着等待蜻蜓飞落的心情，学会亲近自然、关爱万物生灵的感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认读本课十六生字，会写六个生字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48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比一比，看谁读的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4840" y="162828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 mào z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  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ǐ    de 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g   pà   sh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尖     帽     阵     以     得     层     怕     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āi  dìng   bǎ  dàng  tíng  děng   dài     x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猜    定     把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当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停      等      待      惜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6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43923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重点词语我知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尖尖    草帽   以后   扇动   猜想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定  等待  可惜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6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你认识它们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阵雨     一只蜻蜓    一层金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来飞去    尖尖的草帽      尖尖的屋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6:17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8:03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