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6C4A-967C-41AE-BC4C-DF62856298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E599-9304-4A54-9A92-4AD0132E17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6E1-BE64-4B1F-B9C2-D5262FCE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198-303E-45D6-8942-7D13EA3C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127-057A-4E86-B966-BE88D420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DD6-21BB-499A-9D28-43DA7441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DB2-E585-4BEF-BDE1-6144829B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250-6BA7-4368-8CAD-09848750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310-8BF0-411C-896A-D9CB800D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787-C7C0-4CF2-A2B6-AFA9E699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8E7-257D-47BD-BB36-A83D24C5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949-CF48-47FB-B32F-F5EA898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662-805F-4761-BDA6-656630C0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2ED-0FEC-4AA9-985E-08886081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20FC-B21A-43D2-8000-8D625B56F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743200" y="990720"/>
            <a:ext cx="46353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京剧</a:t>
            </a:r>
            <a:endParaRPr b="1" lang="en-US" sz="1800" spc="-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49984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1"/>
          <p:cNvSpPr/>
          <p:nvPr/>
        </p:nvSpPr>
        <p:spPr>
          <a:xfrm>
            <a:off x="4167360" y="318780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030"/>
          <p:cNvSpPr txBox="1"/>
          <p:nvPr/>
        </p:nvSpPr>
        <p:spPr>
          <a:xfrm>
            <a:off x="3048120" y="685800"/>
            <a:ext cx="2819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文场</a:t>
            </a:r>
            <a:endParaRPr b="0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9" name="Picture 1035" descr="京二胡"/>
          <p:cNvPicPr/>
          <p:nvPr/>
        </p:nvPicPr>
        <p:blipFill>
          <a:blip r:embed="rId1"/>
          <a:stretch/>
        </p:blipFill>
        <p:spPr>
          <a:xfrm>
            <a:off x="6324480" y="2514600"/>
            <a:ext cx="191772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37" descr="月琴"/>
          <p:cNvPicPr/>
          <p:nvPr/>
        </p:nvPicPr>
        <p:blipFill>
          <a:blip r:embed="rId2"/>
          <a:stretch/>
        </p:blipFill>
        <p:spPr>
          <a:xfrm>
            <a:off x="380880" y="2362320"/>
            <a:ext cx="2514600" cy="2266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42"/>
          <p:cNvSpPr/>
          <p:nvPr/>
        </p:nvSpPr>
        <p:spPr>
          <a:xfrm>
            <a:off x="6629400" y="5334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二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46"/>
          <p:cNvSpPr/>
          <p:nvPr/>
        </p:nvSpPr>
        <p:spPr>
          <a:xfrm>
            <a:off x="914400" y="5410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47"/>
          <p:cNvSpPr/>
          <p:nvPr/>
        </p:nvSpPr>
        <p:spPr>
          <a:xfrm>
            <a:off x="3962520" y="5334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53" descr="京胡"/>
          <p:cNvPicPr/>
          <p:nvPr/>
        </p:nvPicPr>
        <p:blipFill>
          <a:blip r:embed="rId3"/>
          <a:stretch/>
        </p:blipFill>
        <p:spPr>
          <a:xfrm>
            <a:off x="3505320" y="1752480"/>
            <a:ext cx="19335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3124080" y="533520"/>
            <a:ext cx="2667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武场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6" name="武场伴奏   准确.mp3" descr=""/>
          <p:cNvPicPr/>
          <p:nvPr/>
        </p:nvPicPr>
        <p:blipFill>
          <a:blip r:embed="rId1"/>
          <a:stretch/>
        </p:blipFill>
        <p:spPr>
          <a:xfrm>
            <a:off x="64771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板"/>
          <p:cNvPicPr/>
          <p:nvPr/>
        </p:nvPicPr>
        <p:blipFill>
          <a:blip r:embed="rId2"/>
          <a:stretch/>
        </p:blipFill>
        <p:spPr>
          <a:xfrm>
            <a:off x="1523880" y="2057400"/>
            <a:ext cx="628920" cy="822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大锣"/>
          <p:cNvPicPr/>
          <p:nvPr/>
        </p:nvPicPr>
        <p:blipFill>
          <a:blip r:embed="rId3"/>
          <a:stretch/>
        </p:blipFill>
        <p:spPr>
          <a:xfrm>
            <a:off x="1219320" y="4495680"/>
            <a:ext cx="1523880" cy="1163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堂鼓"/>
          <p:cNvPicPr/>
          <p:nvPr/>
        </p:nvPicPr>
        <p:blipFill>
          <a:blip r:embed="rId4"/>
          <a:stretch/>
        </p:blipFill>
        <p:spPr>
          <a:xfrm>
            <a:off x="6781680" y="43434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小锣"/>
          <p:cNvPicPr/>
          <p:nvPr/>
        </p:nvPicPr>
        <p:blipFill>
          <a:blip r:embed="rId5"/>
          <a:stretch/>
        </p:blipFill>
        <p:spPr>
          <a:xfrm>
            <a:off x="4343400" y="4648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钹"/>
          <p:cNvPicPr/>
          <p:nvPr/>
        </p:nvPicPr>
        <p:blipFill>
          <a:blip r:embed="rId6"/>
          <a:stretch/>
        </p:blipFill>
        <p:spPr>
          <a:xfrm>
            <a:off x="6477120" y="2057400"/>
            <a:ext cx="1314360" cy="89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鼓"/>
          <p:cNvPicPr/>
          <p:nvPr/>
        </p:nvPicPr>
        <p:blipFill>
          <a:blip r:embed="rId7"/>
          <a:stretch/>
        </p:blipFill>
        <p:spPr>
          <a:xfrm>
            <a:off x="4114800" y="2133720"/>
            <a:ext cx="903240" cy="696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152388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267080" y="3276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6781680" y="3200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1523880" y="5791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4267080" y="5715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6781680" y="5715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堂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671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4267080" y="914400"/>
            <a:ext cx="4114800" cy="66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起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场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唱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脸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 rot="5400000">
            <a:off x="-152640" y="2438280"/>
            <a:ext cx="4648320" cy="19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3300"/>
                  </a:solidFill>
                  <a:round/>
                </a:ln>
                <a:gradFill rotWithShape="0">
                  <a:gsLst>
                    <a:gs pos="0">
                      <a:srgbClr val="5c0000"/>
                    </a:gs>
                    <a:gs pos="100000">
                      <a:srgbClr val="ffcc00"/>
                    </a:gs>
                  </a:gsLst>
                  <a:lin ang="0"/>
                </a:gradFill>
                <a:latin typeface="华文行楷"/>
              </a:rPr>
              <a:t>京剧</a:t>
            </a:r>
            <a:endParaRPr b="0" lang="en-US" sz="1800" spc="1" strike="noStrike">
              <a:ln w="9360">
                <a:solidFill>
                  <a:srgbClr val="993300"/>
                </a:solidFill>
                <a:round/>
              </a:ln>
              <a:gradFill rotWithShape="0">
                <a:gsLst>
                  <a:gs pos="0">
                    <a:srgbClr val="5c0000"/>
                  </a:gs>
                  <a:gs pos="100000">
                    <a:srgbClr val="ffcc00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4343400" y="32767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京剧的行当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657440" y="304920"/>
            <a:ext cx="74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京剧中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般指剧中扮演男子的演员，其中又可细分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武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524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京剧中把女性统称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中按照人物的年龄、性格又可细分为许多行当， 如正旦（青衣）、花旦、刀马旦、武旦和老旦几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752480" y="31240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脸部化妆最为丰富多彩，一般扮演品貌或者性格有特点的男子，在京剧中多为将军、神化人物或有一定社会地位的人，性格气质上都近乎粗犷、豪迈，演唱上用真声演唱，音色粗壮浑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828800" y="4952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演员又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花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的化妆虽与大花脸有点相象，可是他的表演风格却完全不同，有点像夸张的漫画。丑角的出场常会带来满堂的笑声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1936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533520" y="5334120"/>
            <a:ext cx="761760" cy="838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4"/>
          <p:cNvSpPr/>
          <p:nvPr/>
        </p:nvSpPr>
        <p:spPr>
          <a:xfrm>
            <a:off x="7696080" y="990720"/>
            <a:ext cx="685800" cy="30456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7206" y="1400"/>
                </a:lnTo>
                <a:lnTo>
                  <a:pt x="1400" y="140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7206" y="20200"/>
                </a:lnTo>
                <a:lnTo>
                  <a:pt x="47206" y="140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6" y="202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6" h="21600">
                <a:moveTo>
                  <a:pt x="17297" y="7301"/>
                </a:moveTo>
                <a:lnTo>
                  <a:pt x="18211" y="7301"/>
                </a:lnTo>
                <a:lnTo>
                  <a:pt x="18594" y="7667"/>
                </a:lnTo>
                <a:lnTo>
                  <a:pt x="27802" y="7667"/>
                </a:lnTo>
                <a:lnTo>
                  <a:pt x="28359" y="8224"/>
                </a:lnTo>
                <a:lnTo>
                  <a:pt x="28359" y="8772"/>
                </a:lnTo>
                <a:lnTo>
                  <a:pt x="30204" y="8772"/>
                </a:lnTo>
                <a:lnTo>
                  <a:pt x="30570" y="8224"/>
                </a:lnTo>
                <a:lnTo>
                  <a:pt x="31310" y="8224"/>
                </a:lnTo>
                <a:lnTo>
                  <a:pt x="31310" y="13376"/>
                </a:lnTo>
                <a:lnTo>
                  <a:pt x="30570" y="13376"/>
                </a:lnTo>
                <a:lnTo>
                  <a:pt x="30204" y="12828"/>
                </a:lnTo>
                <a:lnTo>
                  <a:pt x="28359" y="12828"/>
                </a:lnTo>
                <a:lnTo>
                  <a:pt x="28359" y="14107"/>
                </a:lnTo>
                <a:lnTo>
                  <a:pt x="18776" y="14107"/>
                </a:lnTo>
                <a:lnTo>
                  <a:pt x="18776" y="9877"/>
                </a:lnTo>
                <a:lnTo>
                  <a:pt x="18594" y="9877"/>
                </a:lnTo>
                <a:lnTo>
                  <a:pt x="18211" y="10243"/>
                </a:lnTo>
                <a:lnTo>
                  <a:pt x="172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7696080" y="2666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301"/>
                </a:moveTo>
                <a:lnTo>
                  <a:pt x="18182" y="7301"/>
                </a:lnTo>
                <a:lnTo>
                  <a:pt x="18565" y="7667"/>
                </a:lnTo>
                <a:lnTo>
                  <a:pt x="27773" y="7667"/>
                </a:lnTo>
                <a:lnTo>
                  <a:pt x="28330" y="8224"/>
                </a:lnTo>
                <a:lnTo>
                  <a:pt x="28330" y="8772"/>
                </a:lnTo>
                <a:lnTo>
                  <a:pt x="30176" y="8772"/>
                </a:lnTo>
                <a:lnTo>
                  <a:pt x="30541" y="8224"/>
                </a:lnTo>
                <a:lnTo>
                  <a:pt x="31281" y="8224"/>
                </a:lnTo>
                <a:lnTo>
                  <a:pt x="31281" y="13376"/>
                </a:lnTo>
                <a:lnTo>
                  <a:pt x="30541" y="13376"/>
                </a:lnTo>
                <a:lnTo>
                  <a:pt x="30176" y="12828"/>
                </a:lnTo>
                <a:lnTo>
                  <a:pt x="28330" y="12828"/>
                </a:lnTo>
                <a:lnTo>
                  <a:pt x="28330" y="14107"/>
                </a:lnTo>
                <a:lnTo>
                  <a:pt x="18748" y="14107"/>
                </a:lnTo>
                <a:lnTo>
                  <a:pt x="18748" y="9877"/>
                </a:lnTo>
                <a:lnTo>
                  <a:pt x="18565" y="9877"/>
                </a:lnTo>
                <a:lnTo>
                  <a:pt x="18182" y="10243"/>
                </a:lnTo>
                <a:lnTo>
                  <a:pt x="1726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7696080" y="480060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301"/>
                </a:moveTo>
                <a:lnTo>
                  <a:pt x="18182" y="7301"/>
                </a:lnTo>
                <a:lnTo>
                  <a:pt x="18565" y="7667"/>
                </a:lnTo>
                <a:lnTo>
                  <a:pt x="27773" y="7667"/>
                </a:lnTo>
                <a:lnTo>
                  <a:pt x="28330" y="8224"/>
                </a:lnTo>
                <a:lnTo>
                  <a:pt x="28330" y="8772"/>
                </a:lnTo>
                <a:lnTo>
                  <a:pt x="30176" y="8772"/>
                </a:lnTo>
                <a:lnTo>
                  <a:pt x="30541" y="8224"/>
                </a:lnTo>
                <a:lnTo>
                  <a:pt x="31281" y="8224"/>
                </a:lnTo>
                <a:lnTo>
                  <a:pt x="31281" y="13376"/>
                </a:lnTo>
                <a:lnTo>
                  <a:pt x="30541" y="13376"/>
                </a:lnTo>
                <a:lnTo>
                  <a:pt x="30176" y="12828"/>
                </a:lnTo>
                <a:lnTo>
                  <a:pt x="28330" y="12828"/>
                </a:lnTo>
                <a:lnTo>
                  <a:pt x="28330" y="14107"/>
                </a:lnTo>
                <a:lnTo>
                  <a:pt x="18748" y="14107"/>
                </a:lnTo>
                <a:lnTo>
                  <a:pt x="18748" y="9877"/>
                </a:lnTo>
                <a:lnTo>
                  <a:pt x="18565" y="9877"/>
                </a:lnTo>
                <a:lnTo>
                  <a:pt x="18182" y="10243"/>
                </a:lnTo>
                <a:lnTo>
                  <a:pt x="1726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7696080" y="63244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301"/>
                </a:moveTo>
                <a:lnTo>
                  <a:pt x="18182" y="7301"/>
                </a:lnTo>
                <a:lnTo>
                  <a:pt x="18565" y="7667"/>
                </a:lnTo>
                <a:lnTo>
                  <a:pt x="27773" y="7667"/>
                </a:lnTo>
                <a:lnTo>
                  <a:pt x="28330" y="8224"/>
                </a:lnTo>
                <a:lnTo>
                  <a:pt x="28330" y="8772"/>
                </a:lnTo>
                <a:lnTo>
                  <a:pt x="30176" y="8772"/>
                </a:lnTo>
                <a:lnTo>
                  <a:pt x="30541" y="8224"/>
                </a:lnTo>
                <a:lnTo>
                  <a:pt x="31281" y="8224"/>
                </a:lnTo>
                <a:lnTo>
                  <a:pt x="31281" y="13376"/>
                </a:lnTo>
                <a:lnTo>
                  <a:pt x="30541" y="13376"/>
                </a:lnTo>
                <a:lnTo>
                  <a:pt x="30176" y="12828"/>
                </a:lnTo>
                <a:lnTo>
                  <a:pt x="28330" y="12828"/>
                </a:lnTo>
                <a:lnTo>
                  <a:pt x="28330" y="14107"/>
                </a:lnTo>
                <a:lnTo>
                  <a:pt x="18748" y="14107"/>
                </a:lnTo>
                <a:lnTo>
                  <a:pt x="18748" y="9877"/>
                </a:lnTo>
                <a:lnTo>
                  <a:pt x="18565" y="9877"/>
                </a:lnTo>
                <a:lnTo>
                  <a:pt x="18182" y="10243"/>
                </a:lnTo>
                <a:lnTo>
                  <a:pt x="1726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 rot="5400000">
            <a:off x="-152280" y="259092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3300"/>
                  </a:solidFill>
                  <a:round/>
                </a:ln>
                <a:gradFill rotWithShape="0">
                  <a:gsLst>
                    <a:gs pos="0">
                      <a:srgbClr val="5c0000"/>
                    </a:gs>
                    <a:gs pos="100000">
                      <a:srgbClr val="ffcc00"/>
                    </a:gs>
                  </a:gsLst>
                  <a:lin ang="0"/>
                </a:gradFill>
                <a:latin typeface="华文行楷"/>
              </a:rPr>
              <a:t>京剧</a:t>
            </a:r>
            <a:endParaRPr b="0" lang="en-US" sz="1800" spc="1" strike="noStrike">
              <a:ln w="9360">
                <a:solidFill>
                  <a:srgbClr val="993300"/>
                </a:solidFill>
                <a:round/>
              </a:ln>
              <a:gradFill rotWithShape="0">
                <a:gsLst>
                  <a:gs pos="0">
                    <a:srgbClr val="5c0000"/>
                  </a:gs>
                  <a:gs pos="100000">
                    <a:srgbClr val="ffcc00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267080" y="914400"/>
            <a:ext cx="4114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起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场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行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脸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5486400" y="4343400"/>
            <a:ext cx="25146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京剧的唱腔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501480" y="3348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1371600" y="114300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京剧的唱腔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2895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京剧的唱腔的种类颇多。如：二黄、西皮、吹腔、四平调、高拔子、南梆子、昆曲等等。其中，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二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和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西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是京剧的主要声腔是两种声腔的总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609480" y="2057400"/>
            <a:ext cx="1828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solidFill>
                    <a:srgbClr val="000000"/>
                  </a:solidFill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二黄</a:t>
            </a:r>
            <a:endParaRPr b="0" lang="en-US" sz="1800" spc="-1" strike="noStrike">
              <a:ln w="0">
                <a:solidFill>
                  <a:srgbClr val="000000"/>
                </a:solidFill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685800" y="4419720"/>
            <a:ext cx="1676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西皮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971800" y="1905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二黄的唱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流畅、舒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，是一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平和、稳重、深沉、抒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的腔调，很适合表现沉思、忧伤、感叹、悲愤、压抑的情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895480" y="44197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西皮的唱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流畅、活泼、跳动、有力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是一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明朗、刚劲、激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的腔调，很适合表现喜悦、激动、高昂及愤怒的情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267080" y="914400"/>
            <a:ext cx="411480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起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场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行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唱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3"/>
          <p:cNvSpPr txBox="1"/>
          <p:nvPr/>
        </p:nvSpPr>
        <p:spPr>
          <a:xfrm rot="5400000">
            <a:off x="-152640" y="2438280"/>
            <a:ext cx="4648320" cy="19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3300"/>
                  </a:solidFill>
                  <a:round/>
                </a:ln>
                <a:gradFill rotWithShape="0">
                  <a:gsLst>
                    <a:gs pos="0">
                      <a:srgbClr val="5c0000"/>
                    </a:gs>
                    <a:gs pos="100000">
                      <a:srgbClr val="ffcc00"/>
                    </a:gs>
                  </a:gsLst>
                  <a:lin ang="0"/>
                </a:gradFill>
                <a:latin typeface="华文行楷"/>
              </a:rPr>
              <a:t>京剧</a:t>
            </a:r>
            <a:endParaRPr b="0" lang="en-US" sz="1800" spc="1" strike="noStrike">
              <a:ln w="9360">
                <a:solidFill>
                  <a:srgbClr val="993300"/>
                </a:solidFill>
                <a:round/>
              </a:ln>
              <a:gradFill rotWithShape="0">
                <a:gsLst>
                  <a:gs pos="0">
                    <a:srgbClr val="5c0000"/>
                  </a:gs>
                  <a:gs pos="100000">
                    <a:srgbClr val="ffcc00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4343400" y="541008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京剧的脸谱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066680" y="762120"/>
            <a:ext cx="350532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京剧的脸谱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57200" y="2286000"/>
            <a:ext cx="84582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国传统戏曲的脸谱，是演员面部化妆的一种程式。一般应用于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净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丑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两个行当，其中各种人物大都有自己特定的谱式和色彩，借以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突出人物的性格特征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具有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褒贬、别善、寓恶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艺术功能，使观众能目视外表，窥其心胸。因而，脸谱被誉为角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心灵的画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红脸"/>
          <p:cNvPicPr/>
          <p:nvPr/>
        </p:nvPicPr>
        <p:blipFill>
          <a:blip r:embed="rId1"/>
          <a:stretch/>
        </p:blipFill>
        <p:spPr>
          <a:xfrm>
            <a:off x="380880" y="0"/>
            <a:ext cx="3657600" cy="3251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黄脸"/>
          <p:cNvPicPr/>
          <p:nvPr/>
        </p:nvPicPr>
        <p:blipFill>
          <a:blip r:embed="rId2"/>
          <a:stretch/>
        </p:blipFill>
        <p:spPr>
          <a:xfrm>
            <a:off x="4876920" y="0"/>
            <a:ext cx="3429000" cy="3182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白脸"/>
          <p:cNvPicPr/>
          <p:nvPr/>
        </p:nvPicPr>
        <p:blipFill>
          <a:blip r:embed="rId3"/>
          <a:stretch/>
        </p:blipFill>
        <p:spPr>
          <a:xfrm>
            <a:off x="380880" y="3505320"/>
            <a:ext cx="3657600" cy="3352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黑脸"/>
          <p:cNvPicPr/>
          <p:nvPr/>
        </p:nvPicPr>
        <p:blipFill>
          <a:blip r:embed="rId4"/>
          <a:stretch/>
        </p:blipFill>
        <p:spPr>
          <a:xfrm>
            <a:off x="4876920" y="3505320"/>
            <a:ext cx="3429000" cy="3352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3966840" y="685800"/>
            <a:ext cx="7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8233920" y="380880"/>
            <a:ext cx="729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典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66840" y="4191120"/>
            <a:ext cx="7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曹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8233920" y="4267080"/>
            <a:ext cx="729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京剧又称平剧、京戏，是中国影响最大的戏曲剧种，分布地以北京为中心，遍及全国。清代乾隆五十五年起，原在南方演出的三庆、四喜、春台、和春四大徽班陆续进入北京，他们与来自湖北的汉调艺人合作，同时接受了昆曲、秦腔的部分剧目、曲调和表演方法，又吸收了一些地方民间曲调，通过不断的交流、融合，最终形成京剧。京剧流播全国，影响甚广，有“国剧”之称。它走遍世界各地，成为介绍、传播中国传统文化的重要手段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743200" y="30492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京剧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白脸"/>
          <p:cNvPicPr/>
          <p:nvPr/>
        </p:nvPicPr>
        <p:blipFill>
          <a:blip r:embed="rId1"/>
          <a:stretch/>
        </p:blipFill>
        <p:spPr>
          <a:xfrm>
            <a:off x="685800" y="42670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黑脸"/>
          <p:cNvPicPr/>
          <p:nvPr/>
        </p:nvPicPr>
        <p:blipFill>
          <a:blip r:embed="rId2"/>
          <a:stretch/>
        </p:blipFill>
        <p:spPr>
          <a:xfrm>
            <a:off x="685800" y="56386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红脸"/>
          <p:cNvPicPr/>
          <p:nvPr/>
        </p:nvPicPr>
        <p:blipFill>
          <a:blip r:embed="rId3"/>
          <a:stretch/>
        </p:blipFill>
        <p:spPr>
          <a:xfrm>
            <a:off x="685800" y="1676520"/>
            <a:ext cx="1066680" cy="99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黄脸"/>
          <p:cNvPicPr/>
          <p:nvPr/>
        </p:nvPicPr>
        <p:blipFill>
          <a:blip r:embed="rId4"/>
          <a:stretch/>
        </p:blipFill>
        <p:spPr>
          <a:xfrm>
            <a:off x="685800" y="297180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蓝脸"/>
          <p:cNvPicPr/>
          <p:nvPr/>
        </p:nvPicPr>
        <p:blipFill>
          <a:blip r:embed="rId5"/>
          <a:stretch/>
        </p:blipFill>
        <p:spPr>
          <a:xfrm>
            <a:off x="685800" y="38088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2514600" y="5943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烈或鲁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5146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忠义刚烈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51460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凶狠残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514600" y="685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粗豪暴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25146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奸臣、坏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1756800" y="5562720"/>
            <a:ext cx="60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1756800" y="4191120"/>
            <a:ext cx="60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1756800" y="2895480"/>
            <a:ext cx="60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典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1466280" y="380880"/>
            <a:ext cx="91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窦尔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1330200" y="1676520"/>
            <a:ext cx="103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410080" y="914400"/>
            <a:ext cx="304812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蓝脸的窦尔墩盗御马，红脸的关公战沙场。黄脸的典韦，白脸的曹操，黑脸的张飞叫喳喳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51D1-9057-4102-A3F9-18130BA0FA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地方的剧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京剧起源于四个地方的剧种：一是原来流行于安徽省一带的徽剧；二是流行于湖北的汉剧；三是流行于江苏一带的昆曲；四是流行于陕西的秦腔，又叫梆子。清乾隆末期、嘉庆初期四大徽班进北京后，于嘉庆、道光年间同来自湖北的汉调艺人合作，互相影响，逐渐接受了昆曲、秦腔的部分剧目、曲调和表演方法，并吸收了一些民间曲调、北京土语，逐渐融合发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板腔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京剧音乐属于板腔体，用锣鼓、胡琴（京胡）、京二胡、月琴等伴奏。主要唱腔有二黄、西皮两个系统，声腔为主的“三庆”，所以京剧也称“皮黄”。京剧常用唱腔还有南梆子、四平调、高拔子和昆腔、吹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唱、念、做、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唱指歌唱，念指具有音乐性的念白，二者相辅相成，构成歌舞化的京剧表演艺术两大要素之一的 “歌”，做指舞蹈化的形体动作，打指武打和翻跌的技艺，二者相互结合，构成歌舞化的京剧表演艺术两大要素之一的“舞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戏曲演员从小就要从这四个方面进行训练，虽然有的演员擅长唱功（唱功老生），有的行当以做功（花旦）为主，有的以武打为主（武净）。但是要求每一个演员必须有过硬的唱、念、做、打四种基本功。只有这样才能充分地发挥京剧的艺术特色。更好地表现和刻画戏中的各种人物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16"/>
          <p:cNvSpPr txBox="1"/>
          <p:nvPr/>
        </p:nvSpPr>
        <p:spPr>
          <a:xfrm rot="5400000">
            <a:off x="-647640" y="2324160"/>
            <a:ext cx="548640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3300"/>
                  </a:solidFill>
                  <a:round/>
                </a:ln>
                <a:gradFill rotWithShape="0">
                  <a:gsLst>
                    <a:gs pos="0">
                      <a:srgbClr val="5c0000"/>
                    </a:gs>
                    <a:gs pos="100000">
                      <a:srgbClr val="ffcc00"/>
                    </a:gs>
                  </a:gsLst>
                  <a:lin ang="0"/>
                </a:gradFill>
                <a:latin typeface="华文行楷"/>
              </a:rPr>
              <a:t>梨园金曲</a:t>
            </a:r>
            <a:endParaRPr b="0" lang="en-US" sz="1800" spc="1" strike="noStrike">
              <a:ln w="9360">
                <a:solidFill>
                  <a:srgbClr val="993300"/>
                </a:solidFill>
                <a:round/>
              </a:ln>
              <a:gradFill rotWithShape="0">
                <a:gsLst>
                  <a:gs pos="0">
                    <a:srgbClr val="5c0000"/>
                  </a:gs>
                  <a:gs pos="100000">
                    <a:srgbClr val="ffcc00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4267080" y="914400"/>
            <a:ext cx="4114800" cy="66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起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场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行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唱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脸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609480" y="83808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京剧的起源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33520" y="236232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京剧是我国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国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迄今已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历史。清乾隆五十五年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原来在南方演出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庆、四喜、春台、合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个徽调班社，陆续进京演出，同来自湖北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汉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艺人合作，相互影响，又接受了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昆曲、秦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部分剧目、曲调和表演方法，并吸收了一些民间曲调，逐渐融合、演变，发展成为京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 rot="5400000">
            <a:off x="-152280" y="259092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3300"/>
                  </a:solidFill>
                  <a:round/>
                </a:ln>
                <a:gradFill rotWithShape="0">
                  <a:gsLst>
                    <a:gs pos="0">
                      <a:srgbClr val="5c0000"/>
                    </a:gs>
                    <a:gs pos="100000">
                      <a:srgbClr val="ffcc00"/>
                    </a:gs>
                  </a:gsLst>
                  <a:lin ang="0"/>
                </a:gradFill>
                <a:latin typeface="华文行楷"/>
              </a:rPr>
              <a:t>京剧</a:t>
            </a:r>
            <a:endParaRPr b="0" lang="en-US" sz="1800" spc="1" strike="noStrike">
              <a:ln w="9360">
                <a:solidFill>
                  <a:srgbClr val="993300"/>
                </a:solidFill>
                <a:round/>
              </a:ln>
              <a:gradFill rotWithShape="0">
                <a:gsLst>
                  <a:gs pos="0">
                    <a:srgbClr val="5c0000"/>
                  </a:gs>
                  <a:gs pos="100000">
                    <a:srgbClr val="ffcc00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267080" y="914400"/>
            <a:ext cx="4114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起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行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唱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京剧的脸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5334120" y="2209680"/>
            <a:ext cx="22860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4c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京剧的场面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4c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1600200" y="144792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京剧的场面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762120" y="31240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京剧的乐队称作“场面”或“文武场”。其中， 又分为“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文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和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武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10:12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8:38Z</dcterms:modified>
  <cp:revision>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