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41DF-A265-4F71-AA05-295362F99C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4920" y="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40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93F-DABF-4C1F-A797-953CAA5D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B50-496C-42CF-B071-00A41CFF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D24-AB9F-47F3-879B-4C645BF8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A68-8880-4FB2-957D-2AF927CB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59A-0A36-4F00-B0CB-A25D1D0F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64D-DB73-42FD-A6FB-83D9258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8E2-8ACB-4992-A156-D167D88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EFE-A4F2-4951-A32F-02AFD6A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9DC-BD8A-45C6-9FC5-BE1449C1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68D-E2BD-4DBF-85DB-A282B1F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601-B7E8-4152-8D61-1E0E9C4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EFE-6B58-4B91-AB3C-8CFD2C7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90AA-44D5-49BE-B88F-C232F77322D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1693800" y="2205000"/>
            <a:ext cx="601812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江南第一楼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547280" y="46594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" name="Picture 3" descr="u=3884972269,633332514&amp;fm=21&amp;gp=0[1]"/>
          <p:cNvPicPr/>
          <p:nvPr/>
        </p:nvPicPr>
        <p:blipFill>
          <a:blip r:embed="rId1"/>
          <a:stretch/>
        </p:blipFill>
        <p:spPr>
          <a:xfrm>
            <a:off x="0" y="7920"/>
            <a:ext cx="9217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142920" y="47628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“建筑呈正方形，三层三檐，用四根大柱支撑，十二个琉璃瓦飞檐高高翘起，好似飞凤展翅，闪烁着金色的光彩。”这一句用了哪两种方法来描写阁楼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" name="Picture 8" descr="u=2277072316,2715447815&amp;fm=23&amp;gp=0[1]"/>
          <p:cNvPicPr/>
          <p:nvPr/>
        </p:nvPicPr>
        <p:blipFill>
          <a:blip r:embed="rId1"/>
          <a:stretch/>
        </p:blipFill>
        <p:spPr>
          <a:xfrm>
            <a:off x="4865760" y="1989000"/>
            <a:ext cx="4278240" cy="4319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1546920" y="29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列数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546920" y="42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打比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2040" y="9075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踏进岳阳楼大门，迎面是用十二块紫檀木拼成的巨幅屏风，上面刻着宋代范仲淹的《岳阳楼记》，苍劲有力的字一个个比拳头还大。爸爸说，文章中“先天下之忧而忧，后天下之乐而乐”是千古传诵的名句。我站在屏前默读几遍，将这两句话记在心里。爸爸还告诉我，历代很多诗人、画家都来过岳阳楼，李白、杜甫、白居易这些大诗人都曾为它写下优美的诗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11280" y="5013360"/>
            <a:ext cx="77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能说一说你是怎样理解“先天下之忧而忧，后天下之乐而乐”这句话的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u=3748582130,3936731391&amp;fm=23&amp;gp=0[1]"/>
          <p:cNvPicPr/>
          <p:nvPr/>
        </p:nvPicPr>
        <p:blipFill>
          <a:blip r:embed="rId1"/>
          <a:stretch/>
        </p:blipFill>
        <p:spPr>
          <a:xfrm>
            <a:off x="1332000" y="476280"/>
            <a:ext cx="7812000" cy="5848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96960" y="1006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8320" y="1868040"/>
            <a:ext cx="72900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范仲淹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的《岳阳楼记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8360" y="836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10540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从屏风后的楼梯登楼，就看到四面窗格上都雕着各种花卉图案，十分精美。楼四周回廊环绕，凭栏远眺，洞庭湖水天一色，碧波万顷，使人心境格外开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95280" y="285444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从屏风后的楼梯登楼，可以看到什么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7880" y="458136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“水天一色”是什么意思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00000" y="371808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窗格上的雕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44640" y="371628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天一色，碧波万顷”的洞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8360" y="53020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水天一色：水光与天色相浑。形容水天相接的辽阔景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u=59770232,3545513658&amp;fm=23&amp;gp=0[1]"/>
          <p:cNvPicPr/>
          <p:nvPr/>
        </p:nvPicPr>
        <p:blipFill>
          <a:blip r:embed="rId1"/>
          <a:stretch/>
        </p:blipFill>
        <p:spPr>
          <a:xfrm>
            <a:off x="3132000" y="260280"/>
            <a:ext cx="4302360" cy="6094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07040" y="147312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窗格上的雕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水天一色c10f90033ae5f7dab03e23064fde2458[1]"/>
          <p:cNvPicPr/>
          <p:nvPr/>
        </p:nvPicPr>
        <p:blipFill>
          <a:blip r:embed="rId1"/>
          <a:stretch/>
        </p:blipFill>
        <p:spPr>
          <a:xfrm>
            <a:off x="1547640" y="836640"/>
            <a:ext cx="7056720" cy="504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235400" y="371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水天一色，碧波万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11280" y="620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爸爸指着湖中一座翡翠似的小山说：“你看那小山，犹如白银盘中的青螺，这就是著名的君山。相传古时的舜帝到南方巡视，在湖南的九嶷山病逝。他的妃子娥皇和女英寻到这里，面对阻住去路的茫茫湖水，泪如雨下，双双跳入了洞庭湖。人们为了纪念她们，把娥皇和女英尊为湘水之神，叫湘君，称这山为君山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00000" y="4076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看那小山，犹如白银盘中的青螺”这一句让你想起我们刚学过的哪句古诗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620720" y="5445000"/>
            <a:ext cx="60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遥望洞庭山水翠，白银盘里一青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71640" y="1989000"/>
            <a:ext cx="79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       ）的平台        （        ）的色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       ）的楼阁        （        ）的诗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       ）的洞庭        （        ）的传说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71640" y="126828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填一填，读一读</a:t>
            </a:r>
            <a:r>
              <a:rPr b="1" i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47640" y="26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宽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47640" y="3429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壮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47640" y="414972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浩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65164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明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508720" y="342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58000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动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71640" y="76500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读一读，记一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71440" y="2133720"/>
            <a:ext cx="74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金碧辉煌    飞凤展翅  苍劲有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古传诵    水天一色  碧波万顷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泪如雨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天下之忧而忧  后天下之乐而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1312920" y="399960"/>
            <a:ext cx="65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岳阳楼2"/>
          <p:cNvPicPr/>
          <p:nvPr/>
        </p:nvPicPr>
        <p:blipFill>
          <a:blip r:embed="rId1"/>
          <a:stretch/>
        </p:blipFill>
        <p:spPr>
          <a:xfrm>
            <a:off x="1368360" y="2394000"/>
            <a:ext cx="6408720" cy="4464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70836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岳阳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11174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dc59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岳阳楼耸立在湖南省岳阳市西门城头、紧靠洞庭湖畔。自古有“洞庭天下水，岳阳天下楼”之誉，与江西南昌的滕王阁、湖北武汉的黄鹤楼并称为江南三大名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58920" y="21398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课后自己找一些关于岳阳楼的诗歌词句，加深和充实对这“江南第一名楼”的了解。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16000" y="852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拓展学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8F1D-4C5C-4A0F-BE2E-5DC83C94CF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70836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滕王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" name="Picture 3" descr="滕王阁"/>
          <p:cNvPicPr/>
          <p:nvPr/>
        </p:nvPicPr>
        <p:blipFill>
          <a:blip r:embed="rId1"/>
          <a:stretch/>
        </p:blipFill>
        <p:spPr>
          <a:xfrm>
            <a:off x="1332000" y="1484280"/>
            <a:ext cx="661824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70836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黄鹤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" name="Picture 3" descr="黄鹤楼"/>
          <p:cNvPicPr/>
          <p:nvPr/>
        </p:nvPicPr>
        <p:blipFill>
          <a:blip r:embed="rId1"/>
          <a:stretch/>
        </p:blipFill>
        <p:spPr>
          <a:xfrm>
            <a:off x="1619280" y="1268280"/>
            <a:ext cx="5981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岳阳楼4"/>
          <p:cNvPicPr/>
          <p:nvPr/>
        </p:nvPicPr>
        <p:blipFill>
          <a:blip r:embed="rId1"/>
          <a:stretch/>
        </p:blipFill>
        <p:spPr>
          <a:xfrm>
            <a:off x="971640" y="981000"/>
            <a:ext cx="7226280" cy="4556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68360" y="33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黑体"/>
              </a:rPr>
              <a:t>岳阳楼景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68360" y="3284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(2)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请大家从文中找出表示作者移步观察变换的提示语，画上“————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83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初读感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71640" y="450864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沿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348000" y="458136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穿过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435640" y="4653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9640" y="53020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踏进岳阳楼大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500720" y="53020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屏风后的楼梯登楼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68360" y="1989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(1)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为什么人们称岳阳楼为“天下第一楼”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11280" y="191772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沿着弯曲的小路，穿过一座牌楼，来到了宽阔的平台，绿阴丛中三座金碧辉煌的楼阁，品字形排列在我们面前。左右是副楼，一座叫“仙梅亭”，一座叫“三醉楼”。中间是主楼，正上方一块大匾，刻着“岳阳楼”三字。建筑呈正方形，三层三檐，用四根大柱支撑，十二个琉璃瓦飞檐高高翘起，好似飞凤展翅，闪烁着金色的光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477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精读片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=32牌楼07909226,1367515688&amp;fm=23&amp;gp=0[1]"/>
          <p:cNvPicPr/>
          <p:nvPr/>
        </p:nvPicPr>
        <p:blipFill>
          <a:blip r:embed="rId1"/>
          <a:stretch/>
        </p:blipFill>
        <p:spPr>
          <a:xfrm>
            <a:off x="900000" y="1106640"/>
            <a:ext cx="7667640" cy="5751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041640" y="2667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708360" y="33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牌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82600" y="17748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你能结合课文理解“金碧辉煌”“品字形”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69228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思 考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76040" y="4149720"/>
            <a:ext cx="90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品字形：左右是副楼，一座叫“仙梅亭”，一座叫“三醉楼”。中间是主楼，正上方一块大匾，刻着“岳阳楼”三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571280" y="33577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金碧辉煌：形容建筑物异常华丽，光彩夺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7:43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