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AF9B-A541-476D-BF8A-27FED9F525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DF56-A10F-4607-8EBE-D12AE2E2BC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049-2AE0-45C0-BE23-B47B601F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5EC-3D25-4D6C-9C61-E798CA2E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1A9-AACB-4D3D-A5D3-386CFAF7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E4A-9BA2-4612-B719-715AA7F2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AC8-814D-4ABA-A4E8-9A9AA9F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21C-B802-4160-9C37-6F4F1F37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92D-09EE-4F7B-9B33-7F41D4B0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F47-2C68-4076-AAE5-AD84B79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A00-CACB-462F-9707-B309460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1CF-0BCD-452D-97E8-4E335294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27A-0024-4671-AB18-7C6C460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7A0-D3F1-4B13-B2C3-1D180A8B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CC8-F93E-441E-B520-02C492C2C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3520" y="95868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1824120" y="56386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800600" y="609480"/>
            <a:ext cx="3886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地底下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泥洞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蚂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和兔子的家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5257800" y="20574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5638680" y="2514600"/>
            <a:ext cx="838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685800" y="1295280"/>
            <a:ext cx="3733920" cy="2133720"/>
          </a:xfrm>
          <a:prstGeom prst="wedgeEllipseCallout">
            <a:avLst>
              <a:gd name="adj1" fmla="val -49449"/>
              <a:gd name="adj2" fmla="val 6518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泥洞是蚂蚁和兔子的家，小朋友想一想：蚂蚁和小兔在自己的家里，会做些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733920" y="3352680"/>
            <a:ext cx="160020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3357720" y="2305080"/>
            <a:ext cx="2357280" cy="1047600"/>
          </a:xfrm>
          <a:prstGeom prst="triangle">
            <a:avLst>
              <a:gd name="adj" fmla="val 50000"/>
            </a:avLst>
          </a:prstGeom>
          <a:solidFill>
            <a:srgbClr val="ff2f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9880" y="9907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鸟和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144440" y="2346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和小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39880" y="3733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鱼和小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39880" y="502920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蚂蚁和兔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012080" y="990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树杈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7012080" y="2346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房子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7012080" y="37339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荷叶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012080" y="50292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泥洞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2514600" y="137160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2438280" y="266688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 flipV="1">
            <a:off x="2514600" y="34286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2514600" y="342864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6019920" y="1371600"/>
            <a:ext cx="76176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01956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H="1" flipV="1">
            <a:off x="6019560" y="34286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H="1" flipV="1">
            <a:off x="6019560" y="3429000"/>
            <a:ext cx="68580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818160" y="990720"/>
            <a:ext cx="1552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地球妈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真好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让她的孩子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都有一个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791320" y="457200"/>
            <a:ext cx="2971800" cy="1905120"/>
          </a:xfrm>
          <a:prstGeom prst="cloudCallout">
            <a:avLst>
              <a:gd name="adj1" fmla="val 55074"/>
              <a:gd name="adj2" fmla="val 6933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你还知道在什么样的地方，还会有谁的家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98600" y="2041560"/>
            <a:ext cx="8146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大树下面的（         ）里，有（         ）和（           ）的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51600" y="3794040"/>
            <a:ext cx="807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__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，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____________________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的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2438280" y="304920"/>
            <a:ext cx="4267440" cy="3200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怎样保护我们的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怎样保护我们的地球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8"/>
          <p:cNvPicPr/>
          <p:nvPr/>
        </p:nvPicPr>
        <p:blipFill>
          <a:blip r:embed="rId1"/>
          <a:stretch/>
        </p:blipFill>
        <p:spPr>
          <a:xfrm>
            <a:off x="3144960" y="2133720"/>
            <a:ext cx="1198440" cy="2133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763560" y="533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8"/>
          <p:cNvPicPr/>
          <p:nvPr/>
        </p:nvPicPr>
        <p:blipFill>
          <a:blip r:embed="rId2"/>
          <a:stretch/>
        </p:blipFill>
        <p:spPr>
          <a:xfrm>
            <a:off x="4897440" y="2133720"/>
            <a:ext cx="1198440" cy="2133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425040" y="3184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185800" y="3184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08"/>
          <p:cNvPicPr/>
          <p:nvPr/>
        </p:nvPicPr>
        <p:blipFill>
          <a:blip r:embed="rId1"/>
          <a:stretch/>
        </p:blipFill>
        <p:spPr>
          <a:xfrm>
            <a:off x="3144960" y="2133720"/>
            <a:ext cx="1198440" cy="2133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63560" y="533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8"/>
          <p:cNvPicPr/>
          <p:nvPr/>
        </p:nvPicPr>
        <p:blipFill>
          <a:blip r:embed="rId2"/>
          <a:stretch/>
        </p:blipFill>
        <p:spPr>
          <a:xfrm>
            <a:off x="4897440" y="2133720"/>
            <a:ext cx="1198440" cy="2133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3425760" y="3184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185800" y="3184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763560" y="533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07"/>
          <p:cNvPicPr/>
          <p:nvPr/>
        </p:nvPicPr>
        <p:blipFill>
          <a:blip r:embed="rId1"/>
          <a:stretch/>
        </p:blipFill>
        <p:spPr>
          <a:xfrm>
            <a:off x="3124080" y="2154240"/>
            <a:ext cx="1241640" cy="2362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478320" y="333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07"/>
          <p:cNvPicPr/>
          <p:nvPr/>
        </p:nvPicPr>
        <p:blipFill>
          <a:blip r:embed="rId2"/>
          <a:stretch/>
        </p:blipFill>
        <p:spPr>
          <a:xfrm>
            <a:off x="4778280" y="2133720"/>
            <a:ext cx="1241640" cy="23619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126040" y="3352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763560" y="533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一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07"/>
          <p:cNvPicPr/>
          <p:nvPr/>
        </p:nvPicPr>
        <p:blipFill>
          <a:blip r:embed="rId1"/>
          <a:stretch/>
        </p:blipFill>
        <p:spPr>
          <a:xfrm>
            <a:off x="3200400" y="2154240"/>
            <a:ext cx="1241280" cy="2362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54280" y="3336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07"/>
          <p:cNvPicPr/>
          <p:nvPr/>
        </p:nvPicPr>
        <p:blipFill>
          <a:blip r:embed="rId2"/>
          <a:stretch/>
        </p:blipFill>
        <p:spPr>
          <a:xfrm>
            <a:off x="4854600" y="2133720"/>
            <a:ext cx="1241280" cy="2361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202360" y="3352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49280" y="228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背诵指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91520" y="1523880"/>
            <a:ext cx="69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半空中的（      ），有（      ）和（      ）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2720" y="2666880"/>
            <a:ext cx="795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地面上的（      ），有（      ）和（      ）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12720" y="3733920"/>
            <a:ext cx="795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（      ），有（      ）和（      ）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12720" y="4876920"/>
            <a:ext cx="795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地底下的（      ），有（      ）和（      ）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276720" y="152280"/>
            <a:ext cx="48006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半空中的树杈上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小鸟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hé)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宋体"/>
                <a:ea typeface="楷体_GB2312"/>
                <a:hlinkClick r:id="rId3" action="ppaction://hlinksldjump"/>
              </a:rPr>
              <a:t>松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sōnɡ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鼠的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地面上的房子里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我和小狗的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荷叶边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小鱼和小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虾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xiā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的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地底下的泥洞里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蚂蚁和兔子的家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球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(qiú)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妈妈真好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让她的孩子们都有一个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第四课 家.mp3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853560" y="152388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98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xique"/>
          <p:cNvPicPr/>
          <p:nvPr/>
        </p:nvPicPr>
        <p:blipFill>
          <a:blip r:embed="rId1"/>
          <a:stretch/>
        </p:blipFill>
        <p:spPr>
          <a:xfrm>
            <a:off x="5181480" y="3657600"/>
            <a:ext cx="3962520" cy="2581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1952_1244958237hbSw"/>
          <p:cNvPicPr/>
          <p:nvPr/>
        </p:nvPicPr>
        <p:blipFill>
          <a:blip r:embed="rId2"/>
          <a:stretch/>
        </p:blipFill>
        <p:spPr>
          <a:xfrm>
            <a:off x="457200" y="7621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257040" y="15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665680" y="6400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喜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230560" y="3886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鸟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847800" y="168120"/>
            <a:ext cx="56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3511498408_6e1cf6b79a"/>
          <p:cNvPicPr/>
          <p:nvPr/>
        </p:nvPicPr>
        <p:blipFill>
          <a:blip r:embed="rId1"/>
          <a:stretch/>
        </p:blipFill>
        <p:spPr>
          <a:xfrm>
            <a:off x="45720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m"/>
          <p:cNvPicPr/>
          <p:nvPr/>
        </p:nvPicPr>
        <p:blipFill>
          <a:blip r:embed="rId2"/>
          <a:stretch/>
        </p:blipFill>
        <p:spPr>
          <a:xfrm>
            <a:off x="304920" y="228600"/>
            <a:ext cx="3943080" cy="2957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"/>
          <p:cNvSpPr/>
          <p:nvPr/>
        </p:nvSpPr>
        <p:spPr>
          <a:xfrm>
            <a:off x="4446720" y="2666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兔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957840" y="6172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uwo"/>
          <p:cNvPicPr/>
          <p:nvPr/>
        </p:nvPicPr>
        <p:blipFill>
          <a:blip r:embed="rId1"/>
          <a:stretch/>
        </p:blipFill>
        <p:spPr>
          <a:xfrm>
            <a:off x="5181480" y="304920"/>
            <a:ext cx="3348000" cy="35049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4624560" y="5943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732720" y="3809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狗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狗"/>
          <p:cNvPicPr/>
          <p:nvPr/>
        </p:nvPicPr>
        <p:blipFill>
          <a:blip r:embed="rId2"/>
          <a:stretch/>
        </p:blipFill>
        <p:spPr>
          <a:xfrm>
            <a:off x="990720" y="2514600"/>
            <a:ext cx="329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5133-1606-4E73-9118-2440A0AB4C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276720" y="228600"/>
            <a:ext cx="45720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半空中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树杈上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小鸟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和松鼠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家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地面上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房子里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我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和小狗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家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荷叶边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小鱼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和小虾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家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地底下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泥洞里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有蚂蚁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和兔子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地球妈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真好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让她的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孩子们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都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一个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449720" y="3886200"/>
            <a:ext cx="147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半空中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树杈上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小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和松鼠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57200" y="2362320"/>
            <a:ext cx="2666880" cy="838080"/>
          </a:xfrm>
          <a:prstGeom prst="wedgeRoundRectCallout">
            <a:avLst>
              <a:gd name="adj1" fmla="val -59402"/>
              <a:gd name="adj2" fmla="val 13087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讨论：在什么地方，有谁的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1143000" y="487692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1295280" y="53341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1600200" y="579132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733920" y="3352680"/>
            <a:ext cx="160020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3357720" y="2305080"/>
            <a:ext cx="2357280" cy="1047600"/>
          </a:xfrm>
          <a:prstGeom prst="triangle">
            <a:avLst>
              <a:gd name="adj" fmla="val 50000"/>
            </a:avLst>
          </a:prstGeom>
          <a:solidFill>
            <a:srgbClr val="ff2f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839880" y="9907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鸟和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7012080" y="990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树杈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514600" y="137160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H="1">
            <a:off x="6019920" y="1371600"/>
            <a:ext cx="76176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3"/>
          <p:cNvSpPr/>
          <p:nvPr/>
        </p:nvSpPr>
        <p:spPr>
          <a:xfrm>
            <a:off x="5486400" y="3733920"/>
            <a:ext cx="2590920" cy="1447560"/>
          </a:xfrm>
          <a:prstGeom prst="wedgeEllipseCallout">
            <a:avLst>
              <a:gd name="adj1" fmla="val 71263"/>
              <a:gd name="adj2" fmla="val 74231"/>
            </a:avLst>
          </a:prstGeom>
          <a:solidFill>
            <a:srgbClr val="e0c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半空中的树杈上，还有谁的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276720" y="914400"/>
            <a:ext cx="3124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地面上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房子里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和小狗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733920" y="190512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733920" y="23623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4191120" y="28195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733920" y="3352680"/>
            <a:ext cx="160020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3357720" y="2305080"/>
            <a:ext cx="2357280" cy="1047600"/>
          </a:xfrm>
          <a:prstGeom prst="triangle">
            <a:avLst>
              <a:gd name="adj" fmla="val 50000"/>
            </a:avLst>
          </a:prstGeom>
          <a:solidFill>
            <a:srgbClr val="ff2f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39880" y="9907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鸟和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44440" y="2346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和小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012080" y="990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树杈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7012080" y="2346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房子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514600" y="137160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3"/>
          <p:cNvSpPr/>
          <p:nvPr/>
        </p:nvSpPr>
        <p:spPr>
          <a:xfrm>
            <a:off x="2438280" y="266688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H="1">
            <a:off x="6019920" y="1371600"/>
            <a:ext cx="76176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 flipH="1">
            <a:off x="601956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0"/>
          <p:cNvSpPr/>
          <p:nvPr/>
        </p:nvSpPr>
        <p:spPr>
          <a:xfrm>
            <a:off x="990720" y="3962520"/>
            <a:ext cx="2590560" cy="1447560"/>
          </a:xfrm>
          <a:prstGeom prst="wedgeEllipseCallout">
            <a:avLst>
              <a:gd name="adj1" fmla="val -77759"/>
              <a:gd name="adj2" fmla="val 6951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地面上的房子里，还有谁的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735720" y="762120"/>
            <a:ext cx="147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池塘里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荷叶边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有小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和小虾的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3581280" y="1752480"/>
            <a:ext cx="10670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581280" y="22096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733920" y="3352680"/>
            <a:ext cx="160020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3357720" y="2305080"/>
            <a:ext cx="2357280" cy="1047600"/>
          </a:xfrm>
          <a:prstGeom prst="triangle">
            <a:avLst>
              <a:gd name="adj" fmla="val 50000"/>
            </a:avLst>
          </a:prstGeom>
          <a:solidFill>
            <a:srgbClr val="ff2f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9880" y="9907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鸟和松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44440" y="2346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和小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39880" y="37339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鱼和小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012080" y="990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树杈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012080" y="23464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房子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012080" y="37339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荷叶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2514600" y="1371600"/>
            <a:ext cx="76212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2438280" y="266688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2514600" y="34286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 flipH="1">
            <a:off x="6019920" y="1371600"/>
            <a:ext cx="761760" cy="2057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 flipH="1">
            <a:off x="601956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 flipH="1" flipV="1">
            <a:off x="6019560" y="34286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3809880" y="304920"/>
            <a:ext cx="2590920" cy="1447560"/>
          </a:xfrm>
          <a:prstGeom prst="wedgeEllipseCallout">
            <a:avLst>
              <a:gd name="adj1" fmla="val 110782"/>
              <a:gd name="adj2" fmla="val -497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池塘里的荷叶边还有谁的家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13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32Z</dcterms:modified>
  <cp:revision>1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