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5ED3-842B-41CD-B68E-CA865E017F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6AE4-F932-418E-AF06-929D7994DB64}" type="slidenum"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F7C-D6FD-44C0-86B4-9F3C3201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9AF-F752-4F76-8018-03CBEEEB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457-2B74-4B4A-9182-D5DE74F4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0A2-102F-40B1-B306-83C2642A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9B35-5EC6-4E8C-A803-BF003933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E9F5-D834-4F5F-9DBE-8477C1D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6541-EF17-4941-B46E-ECAFAF6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F900-3B08-45D7-82F5-311958EF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C572-00BB-4A6F-A0A2-E0581E6D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1B09-4B9F-4361-ADB7-94398BDC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A958-DD7E-4E86-9479-8BF553D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0F7-E8BB-409E-961D-08E0EE43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2CA6-3D3D-4AF6-B07D-258A635D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BE54-4D49-4285-AA86-1F2F643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5DE7-77DB-435A-8D9E-A536638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9A69-EBB4-4D17-A0A7-7B85B552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1E02-E75D-4526-82C0-51292E84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9C7-6A5E-445E-9E39-B6B99F37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7DD-06E0-4E2C-8E11-AFA67E18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0EF-1599-478B-8F3F-34FFD8F8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301-5405-4502-B0C9-3C4D798E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4BD-1FD6-4CFB-A143-0FC7A59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30F-0866-41D2-A457-0DEB23C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CE4-8E89-4B51-8699-4FEAE4EC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BEDD-6E74-45D6-9DC6-4DF27FC7AC5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4876-4EA9-4FE2-BD04-82D63E251E1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332000" y="2349360"/>
            <a:ext cx="64767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14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巨人的花园</a:t>
            </a:r>
            <a:endParaRPr b="0" lang="en-US" sz="2400" spc="1" strike="noStrike">
              <a:ln w="414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3880" y="50292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hua"/>
          <p:cNvPicPr/>
          <p:nvPr/>
        </p:nvPicPr>
        <p:blipFill>
          <a:blip r:embed="rId1"/>
          <a:stretch/>
        </p:blipFill>
        <p:spPr>
          <a:xfrm>
            <a:off x="3348000" y="765000"/>
            <a:ext cx="4464000" cy="1447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581280" y="46483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20a2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c20a20"/>
                </a:solidFill>
                <a:latin typeface="Times New Roman"/>
              </a:rPr>
              <a:t>英</a:t>
            </a:r>
            <a:r>
              <a:rPr b="1" lang="zh-CN" sz="3200" spc="-1" strike="noStrike">
                <a:solidFill>
                  <a:srgbClr val="c20a20"/>
                </a:solidFill>
                <a:latin typeface="Times New Roman"/>
              </a:rPr>
              <a:t>]  </a:t>
            </a:r>
            <a:r>
              <a:rPr b="1" lang="zh-CN" sz="3200" spc="-1" strike="noStrike">
                <a:solidFill>
                  <a:srgbClr val="c20a20"/>
                </a:solidFill>
                <a:latin typeface="Times New Roman"/>
              </a:rPr>
              <a:t>王尔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61080" y="9810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c0b"/>
                </a:solidFill>
                <a:latin typeface="Times New Roman"/>
              </a:rPr>
              <a:t>冀教版三年级语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c0b"/>
                </a:solidFill>
                <a:latin typeface="Times New Roman"/>
              </a:rPr>
              <a:t>文下册第三单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7" descr="SC20110613134025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9" descr=""/>
          <p:cNvPicPr/>
          <p:nvPr/>
        </p:nvPicPr>
        <p:blipFill>
          <a:blip r:embed="rId3"/>
          <a:stretch/>
        </p:blipFill>
        <p:spPr>
          <a:xfrm>
            <a:off x="1778040" y="5010120"/>
            <a:ext cx="5670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03640" y="549000"/>
            <a:ext cx="32176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学习指南五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55640" y="14130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自由读课文第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自然段，想一想巨人的花园为什么会变成这样？巨人到底都做了些什么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你喜欢这样的巨人吗？为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小组交流讨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集体交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76360" y="693720"/>
            <a:ext cx="31446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学习指南六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55640" y="1628640"/>
            <a:ext cx="65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默读第三自然段最后一句话，思考：巨人现在的心情怎样？他可能在想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小组内交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集体交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9640" y="620280"/>
            <a:ext cx="321768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学习指南七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11280" y="148608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默读课文第四自然段，看看花园又发生了怎样的变化，把相关语句勾画下来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巨人有了什么变化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你喜欢现在的巨人吗？为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小组交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集体交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916360" y="1197000"/>
            <a:ext cx="59054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90807"/>
                </a:solidFill>
                <a:latin typeface="Times New Roman"/>
              </a:rPr>
              <a:t>春天为什么离开巨人的花园？后来为什么又回来了？你读了这篇课文受到了什么启发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文本框 1"/>
          <p:cNvSpPr/>
          <p:nvPr/>
        </p:nvSpPr>
        <p:spPr>
          <a:xfrm>
            <a:off x="2744640" y="4737240"/>
            <a:ext cx="75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16000" y="2208600"/>
            <a:ext cx="741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</a:t>
            </a:r>
            <a:r>
              <a:rPr b="1" lang="zh-CN" sz="3600" spc="-1" strike="noStrike">
                <a:solidFill>
                  <a:srgbClr val="eb1360"/>
                </a:solidFill>
                <a:latin typeface="Times New Roman"/>
                <a:ea typeface="隶书"/>
              </a:rPr>
              <a:t>拓展延伸</a:t>
            </a:r>
            <a:br>
              <a:rPr sz="36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　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巨人要和孩子们一起为花园起个好听的名字，请你也来参加吧！再为巨人花园里的告示牌上重新设计一句话吧！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3" descr="SC20110613134026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2700360" y="1484280"/>
            <a:ext cx="6048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　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20a2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20a2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20a20"/>
                </a:solidFill>
                <a:latin typeface="Times New Roman"/>
              </a:rPr>
              <a:t>巨人要和孩子们一起为花园起个好听的名字，请你也来参加吧！再为巨人花园里的告示牌上重新设计一句话吧！</a:t>
            </a: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788000" y="1052640"/>
            <a:ext cx="259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91b81"/>
                </a:solidFill>
                <a:latin typeface="Times New Roman"/>
              </a:rPr>
              <a:t>拓展卡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8AD-D6ED-44A8-B188-0E6EB1AE5F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484360" y="134136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我会认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缩  荒凉  惩  自私  雹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光顾  旅游  吼叫  吓跑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苦恼  违  告示牌  瓦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843280" y="1052640"/>
            <a:ext cx="54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我会写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旅   喊   吓   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私   顾   吼   瓦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807"/>
                </a:solidFill>
                <a:latin typeface="楷体_GB2312"/>
                <a:ea typeface="楷体_GB2312"/>
              </a:rPr>
              <a:t>恼   凉   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360" y="475920"/>
            <a:ext cx="263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2a3d7a"/>
                </a:solidFill>
                <a:latin typeface="Times New Roman"/>
              </a:rPr>
              <a:t>资料卡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10920" y="1701720"/>
            <a:ext cx="59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童话是儿童文学的一种。通过丰富的想象、幻想和夸张来塑造形象、反映生活，对儿童进行思想教育。其语言通俗生动，故事情节往往离奇曲折，引人入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523880" y="144792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495680" y="609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03640" y="83664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i="1" lang="zh-CN" sz="44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1" i="1" lang="zh-CN" sz="4400" spc="-1" strike="noStrike">
                <a:solidFill>
                  <a:srgbClr val="2a3d7a"/>
                </a:solidFill>
                <a:latin typeface="Times New Roman"/>
              </a:rPr>
              <a:t>资料卡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708360" y="191772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代表作品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《快乐王子》         《少年国王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《夜莺与玫瑰》 《星孩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47640" y="620640"/>
            <a:ext cx="3360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学习指南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10920" y="1486080"/>
            <a:ext cx="65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听写生字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结对子检查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小组长统计达到全对的人数并整理组 员易错的字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根据小组听写情况进行汇报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403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97d"/>
                </a:solidFill>
                <a:latin typeface="Times New Roman"/>
              </a:rPr>
              <a:t>学习指南二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00360" y="1701720"/>
            <a:ext cx="609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用自己喜欢的方式读课文，想想课文讲了一个怎样的童话故事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组内交流第一个问题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集体交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314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学习指南三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84360" y="148608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通过读课文，大家对这篇童话已经有了一定的了解了吧！在这篇童话故事中，巨人的花园发生了几次重大的变化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组内交流第二个问题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集体交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C20110613134026359"/>
          <p:cNvPicPr/>
          <p:nvPr/>
        </p:nvPicPr>
        <p:blipFill>
          <a:blip r:embed="rId1"/>
          <a:stretch/>
        </p:blipFill>
        <p:spPr>
          <a:xfrm>
            <a:off x="1440" y="-23760"/>
            <a:ext cx="9142560" cy="6883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24000" y="1342800"/>
            <a:ext cx="68421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d0c0b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d0c0b"/>
                </a:solidFill>
                <a:latin typeface="Times New Roman"/>
              </a:rPr>
              <a:t>、 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默读课文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自然段，想一想，巨人的花园一开始是怎样的？又一年春天来了，花园发生了哪些变化？在文中勾画出相应的语句，并在旁边写下你的感受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在小组内交流，每个组员把画下的句子都读一读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d0c0b"/>
                </a:solidFill>
                <a:latin typeface="Times New Roman"/>
              </a:rPr>
              <a:t>、集体交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33624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学习指南四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41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9:38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