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gif" ContentType="image/gif"/>
  <Override PartName="/ppt/media/image8.png" ContentType="image/png"/>
  <Override PartName="/ppt/media/image13.png" ContentType="image/png"/>
  <Override PartName="/ppt/media/image6.jpeg" ContentType="image/jpeg"/>
  <Override PartName="/ppt/media/image3.png" ContentType="image/png"/>
  <Override PartName="/ppt/media/click.wav" ContentType="audio/x-wav"/>
  <Override PartName="/ppt/media/image24.gif" ContentType="image/gif"/>
  <Override PartName="/ppt/media/image21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chimes.wav" ContentType="audio/x-wav"/>
  <Override PartName="/ppt/media/image14.gif" ContentType="image/gif"/>
  <Override PartName="/ppt/media/image17.png" ContentType="image/pn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27A2-C669-4CCD-AD06-519B55395A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8.xml"/><Relationship Id="rId24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B533-6CEF-42A6-9D0A-E7840DDF8B4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447-1053-44C5-82CF-AAB45B5F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3C6-F77D-4D49-83BE-9CB03666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F7E-6049-4E88-B45A-BD92A1AC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E0F-A537-4DB6-8116-7144ED21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4C2F-F8A5-4024-BE3B-A4A99F33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8222-2333-499A-B7BF-DE2B8D1A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BA4A-0FCE-4235-BD5A-24D44961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CB08-8603-4D99-BFAA-EFE5FF23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0CC9-8F88-4C91-9A74-D26CF280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C024-82A1-459D-A71B-B706B7B2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1A41-8436-421C-96CB-0FED16D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270-4572-4F9E-9A0F-911FD61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C14D-AB35-47C9-8483-D7DC9696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365D-CE28-4F82-98A8-DF316C7C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E3B2-7455-460B-9D4D-B4B5B32E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524E-9EF7-4003-9032-B69017D6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4BE8-5743-4D06-A4A6-4565BD6F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152-DDBB-4C05-92F7-8049B49D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6BF-437C-4340-86B2-13BA5C3E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88B-FD6B-4577-BA37-1DD17C09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6D4-B79F-4F51-92E6-D420B333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D59-869C-40DF-9BB7-7B23EB54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468-F750-48F5-8681-AF13C512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2DA-5D09-413A-920D-7CD6513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BF02-AC82-450F-8C65-8B48EE8E0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BE54-1026-4FA8-8F0B-F814E6E0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4.gif"/><Relationship Id="rId2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4.gif"/><Relationship Id="rId2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6.jpeg"/><Relationship Id="rId2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4.gif"/><Relationship Id="rId28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5.gif"/><Relationship Id="rId28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8.png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90" name="Group 3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91" name="Picture 4" descr="BGFL01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5" descr="BGFL016"/>
              <p:cNvPicPr/>
              <p:nvPr/>
            </p:nvPicPr>
            <p:blipFill>
              <a:blip r:embed="rId2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6" descr="BGFL016"/>
              <p:cNvPicPr/>
              <p:nvPr/>
            </p:nvPicPr>
            <p:blipFill>
              <a:blip r:embed="rId3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7" descr="BGFL016"/>
              <p:cNvPicPr/>
              <p:nvPr/>
            </p:nvPicPr>
            <p:blipFill>
              <a:blip r:embed="rId4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Group 8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96" name="Picture 9" descr="BGFL016"/>
              <p:cNvPicPr/>
              <p:nvPr/>
            </p:nvPicPr>
            <p:blipFill>
              <a:blip r:embed="rId5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0" descr="BGFL016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1" descr="BGFL016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2" descr="BGFL016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" name="Group 13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101" name="Picture 14" descr="BGFL016"/>
              <p:cNvPicPr/>
              <p:nvPr/>
            </p:nvPicPr>
            <p:blipFill>
              <a:blip r:embed="rId9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15" descr="BGFL016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16" descr="BGFL016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17" descr="BGFL016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" name="Group 18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106" name="Picture 19" descr="BGFL016"/>
              <p:cNvPicPr/>
              <p:nvPr/>
            </p:nvPicPr>
            <p:blipFill>
              <a:blip r:embed="rId13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20" descr="BGFL016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21" descr="BGFL016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22" descr="BGFL016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Group 23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111" name="Picture 24" descr="BGFL016"/>
              <p:cNvPicPr/>
              <p:nvPr/>
            </p:nvPicPr>
            <p:blipFill>
              <a:blip r:embed="rId17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25" descr="BGFL016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26" descr="BGFL016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27" descr="BGFL016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5" name="Picture 28" descr="未标题-1 拷贝"/>
          <p:cNvPicPr/>
          <p:nvPr/>
        </p:nvPicPr>
        <p:blipFill>
          <a:blip r:embed="rId21"/>
          <a:stretch/>
        </p:blipFill>
        <p:spPr>
          <a:xfrm>
            <a:off x="1324080" y="2060640"/>
            <a:ext cx="6267240" cy="4019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9"/>
          <p:cNvSpPr/>
          <p:nvPr/>
        </p:nvSpPr>
        <p:spPr>
          <a:xfrm>
            <a:off x="3110760" y="8938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金色的草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29"/>
          <p:cNvSpPr/>
          <p:nvPr/>
        </p:nvSpPr>
        <p:spPr>
          <a:xfrm>
            <a:off x="2189520" y="60800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72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73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0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81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8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00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3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04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1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12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9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1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2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钓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4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35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2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43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0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62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察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5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66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3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74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1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3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瓣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96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97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4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505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2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4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拢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7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528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5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536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3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55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58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559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4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567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2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4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86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趣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89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590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1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3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598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4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5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7" name="Picture 31" descr="21"/>
          <p:cNvPicPr/>
          <p:nvPr/>
        </p:nvPicPr>
        <p:blipFill>
          <a:blip r:embed="rId27"/>
          <a:stretch/>
        </p:blipFill>
        <p:spPr>
          <a:xfrm>
            <a:off x="755640" y="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2"/>
          <p:cNvSpPr/>
          <p:nvPr/>
        </p:nvSpPr>
        <p:spPr>
          <a:xfrm>
            <a:off x="2819880" y="260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比一比，辨一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3"/>
          <p:cNvSpPr/>
          <p:nvPr/>
        </p:nvSpPr>
        <p:spPr>
          <a:xfrm>
            <a:off x="2050920" y="1125360"/>
            <a:ext cx="5185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钓 </a:t>
            </a:r>
            <a:r>
              <a:rPr b="1" lang="en-US" sz="7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7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钩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拢</a:t>
            </a:r>
            <a:r>
              <a:rPr b="1" lang="en-US" sz="7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 </a:t>
            </a:r>
            <a:r>
              <a:rPr b="1" lang="zh-CN" sz="7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扰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瓣</a:t>
            </a:r>
            <a:r>
              <a:rPr b="1" lang="en-US" sz="7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 </a:t>
            </a:r>
            <a:r>
              <a:rPr b="1" lang="zh-CN" sz="7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辫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耍</a:t>
            </a:r>
            <a:r>
              <a:rPr b="1" lang="en-US" sz="7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 </a:t>
            </a:r>
            <a:r>
              <a:rPr b="1" lang="zh-CN" sz="7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要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4"/>
          <p:cNvSpPr/>
          <p:nvPr/>
        </p:nvSpPr>
        <p:spPr>
          <a:xfrm>
            <a:off x="212400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5"/>
          <p:cNvSpPr/>
          <p:nvPr/>
        </p:nvSpPr>
        <p:spPr>
          <a:xfrm>
            <a:off x="2195640" y="2708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同学们，你们见过蒲公英吗？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请介绍一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508720" y="1628640"/>
            <a:ext cx="3635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蒲公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多年生草本植物，全株含白色乳状汁液，叶子倒披针形，羽状分裂，花黄色，头状花序，结瘦果，褐色，有白色软毛。根茎都可入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pu gong ying"/>
          <p:cNvPicPr/>
          <p:nvPr/>
        </p:nvPicPr>
        <p:blipFill>
          <a:blip r:embed="rId1"/>
          <a:stretch/>
        </p:blipFill>
        <p:spPr>
          <a:xfrm>
            <a:off x="0" y="1628640"/>
            <a:ext cx="52196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蒲公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6" name="妙音鸟.mp3" descr=""/>
          <p:cNvPicPr/>
          <p:nvPr/>
        </p:nvPicPr>
        <p:blipFill>
          <a:blip r:embed="rId2"/>
          <a:stretch/>
        </p:blipFill>
        <p:spPr>
          <a:xfrm>
            <a:off x="766764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9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20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28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5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31" descr="21"/>
          <p:cNvPicPr/>
          <p:nvPr/>
        </p:nvPicPr>
        <p:blipFill>
          <a:blip r:embed="rId27"/>
          <a:stretch/>
        </p:blipFill>
        <p:spPr>
          <a:xfrm>
            <a:off x="838080" y="380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2"/>
          <p:cNvSpPr/>
          <p:nvPr/>
        </p:nvSpPr>
        <p:spPr>
          <a:xfrm>
            <a:off x="2133360" y="536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我会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826920" y="1341360"/>
            <a:ext cx="8317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盛开    玩耍   一本正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使劲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绒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毛    假装    朝向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这些  引人注目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钓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鱼  观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瓣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    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拢 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   手掌   有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5" descr="plants3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无标题6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3"/>
          <p:cNvSpPr/>
          <p:nvPr/>
        </p:nvSpPr>
        <p:spPr>
          <a:xfrm>
            <a:off x="1332000" y="2708280"/>
            <a:ext cx="71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592"/>
                </a:solidFill>
                <a:latin typeface="楷体_GB2312"/>
                <a:ea typeface="楷体_GB2312"/>
              </a:rPr>
              <a:t>（      ）的草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3"/>
          <p:cNvSpPr/>
          <p:nvPr/>
        </p:nvSpPr>
        <p:spPr>
          <a:xfrm>
            <a:off x="1332000" y="2708280"/>
            <a:ext cx="71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592"/>
                </a:solidFill>
                <a:latin typeface="楷体_GB2312"/>
                <a:ea typeface="楷体_GB2312"/>
              </a:rPr>
              <a:t>（      ）的草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2627280" y="1508040"/>
            <a:ext cx="25210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黑体"/>
              </a:rPr>
              <a:t>金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黑体"/>
              </a:rPr>
              <a:t>碧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黑体"/>
              </a:rPr>
              <a:t>可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黑体"/>
              </a:rPr>
              <a:t>无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803880" y="61956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色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942200" y="198792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色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3137400" y="335664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色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4331160" y="475344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色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6" descr="2"/>
          <p:cNvPicPr/>
          <p:nvPr/>
        </p:nvPicPr>
        <p:blipFill>
          <a:blip r:embed="rId1"/>
          <a:stretch/>
        </p:blipFill>
        <p:spPr>
          <a:xfrm>
            <a:off x="0" y="3257640"/>
            <a:ext cx="2720880" cy="360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7"/>
          <p:cNvSpPr/>
          <p:nvPr/>
        </p:nvSpPr>
        <p:spPr>
          <a:xfrm>
            <a:off x="3003120" y="61956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阳光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4082400" y="198792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麦浪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5277960" y="338508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童年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6460560" y="479628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草地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caoyuancaodi2_184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5"/>
          <p:cNvSpPr/>
          <p:nvPr/>
        </p:nvSpPr>
        <p:spPr>
          <a:xfrm>
            <a:off x="133200" y="0"/>
            <a:ext cx="9010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住在乡下，窗前是一大片草地。草地上长满了蒲公英。当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蒲公英盛开的时候，这片草地就变成了金色的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611280" y="60213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看看图中这两个娘子分别是谁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他们在做什么  看情况读课文    下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654" name="Group 3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655" name="Picture 4" descr="BGFL01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Picture 5" descr="BGFL016"/>
              <p:cNvPicPr/>
              <p:nvPr/>
            </p:nvPicPr>
            <p:blipFill>
              <a:blip r:embed="rId2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Picture 6" descr="BGFL016"/>
              <p:cNvPicPr/>
              <p:nvPr/>
            </p:nvPicPr>
            <p:blipFill>
              <a:blip r:embed="rId3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Picture 7" descr="BGFL016"/>
              <p:cNvPicPr/>
              <p:nvPr/>
            </p:nvPicPr>
            <p:blipFill>
              <a:blip r:embed="rId4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9" name="Group 8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660" name="Picture 9" descr="BGFL016"/>
              <p:cNvPicPr/>
              <p:nvPr/>
            </p:nvPicPr>
            <p:blipFill>
              <a:blip r:embed="rId5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1" name="Picture 10" descr="BGFL016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2" name="Picture 11" descr="BGFL016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3" name="Picture 12" descr="BGFL016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3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665" name="Picture 14" descr="BGFL016"/>
              <p:cNvPicPr/>
              <p:nvPr/>
            </p:nvPicPr>
            <p:blipFill>
              <a:blip r:embed="rId9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Picture 15" descr="BGFL016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Picture 16" descr="BGFL016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Picture 17" descr="BGFL016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9" name="Group 18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670" name="Picture 19" descr="BGFL016"/>
              <p:cNvPicPr/>
              <p:nvPr/>
            </p:nvPicPr>
            <p:blipFill>
              <a:blip r:embed="rId13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1" name="Picture 20" descr="BGFL016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" name="Picture 21" descr="BGFL016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Picture 22" descr="BGFL016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4" name="Group 23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675" name="Picture 24" descr="BGFL016"/>
              <p:cNvPicPr/>
              <p:nvPr/>
            </p:nvPicPr>
            <p:blipFill>
              <a:blip r:embed="rId17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Picture 25" descr="BGFL016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Picture 26" descr="BGFL016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Picture 27" descr="BGFL016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9" name="Picture 28" descr="未标题-1 拷贝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30"/>
          <p:cNvSpPr/>
          <p:nvPr/>
        </p:nvSpPr>
        <p:spPr>
          <a:xfrm>
            <a:off x="684360" y="59500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板书   玩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5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和弟弟常常在草地上玩耍。有一次，弟弟跑在我前面，我装着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本正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样子，喊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廖沙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回过头来，我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劲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吹，把蒲公英的绒毛吹到他脸上。弟弟也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装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哈欠，把蒲公英的绒毛朝我脸上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0" y="5373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宋体"/>
              </a:rPr>
              <a:t>一本正经：形容很规矩、很庄重的样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9051840" y="37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2987640" y="609300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宋体"/>
              </a:rPr>
              <a:t>我会说一句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2987640" y="508464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一本正经的表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3"/>
          <p:cNvSpPr/>
          <p:nvPr/>
        </p:nvSpPr>
        <p:spPr>
          <a:xfrm>
            <a:off x="6877080" y="6308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会演也会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1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52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60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7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Picture 31" descr="21"/>
          <p:cNvPicPr/>
          <p:nvPr/>
        </p:nvPicPr>
        <p:blipFill>
          <a:blip r:embed="rId27"/>
          <a:stretch/>
        </p:blipFill>
        <p:spPr>
          <a:xfrm>
            <a:off x="838080" y="380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2"/>
          <p:cNvSpPr/>
          <p:nvPr/>
        </p:nvSpPr>
        <p:spPr>
          <a:xfrm>
            <a:off x="2058840" y="662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1592640" y="2438280"/>
            <a:ext cx="589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钓   拢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2193840" y="1627200"/>
            <a:ext cx="4816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diào              lǒ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7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次，弟弟跑在我前面，我装着一本正经的样子，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           )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喊：“谢廖沙！”他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为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回过头来，我就使劲一吹，把蒲公英的绒毛吹到他脸上。他的脸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顿时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忍不住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250920" y="1773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大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332000" y="256536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我摔跤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900000" y="501336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他的脸上沾满了“雪花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1"/>
          <p:cNvSpPr/>
          <p:nvPr/>
        </p:nvSpPr>
        <p:spPr>
          <a:xfrm>
            <a:off x="1619280" y="5805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哈哈大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12"/>
          <p:cNvGrpSpPr/>
          <p:nvPr/>
        </p:nvGrpSpPr>
        <p:grpSpPr>
          <a:xfrm>
            <a:off x="5580000" y="5621400"/>
            <a:ext cx="2952720" cy="1236600"/>
            <a:chOff x="5580000" y="5621400"/>
            <a:chExt cx="2952720" cy="1236600"/>
          </a:xfrm>
        </p:grpSpPr>
        <p:pic>
          <p:nvPicPr>
            <p:cNvPr id="694" name="Picture 13" descr="3"/>
            <p:cNvPicPr/>
            <p:nvPr/>
          </p:nvPicPr>
          <p:blipFill>
            <a:blip r:embed="rId1"/>
            <a:stretch/>
          </p:blipFill>
          <p:spPr>
            <a:xfrm>
              <a:off x="5580000" y="5621400"/>
              <a:ext cx="10810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Text Box 14"/>
            <p:cNvSpPr/>
            <p:nvPr/>
          </p:nvSpPr>
          <p:spPr>
            <a:xfrm>
              <a:off x="6804000" y="5980320"/>
              <a:ext cx="17287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66ff"/>
                  </a:solidFill>
                  <a:latin typeface="Times New Roman"/>
                  <a:ea typeface="华文琥珀"/>
                </a:rPr>
                <a:t>我来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_2004615202317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4"/>
          <p:cNvSpPr/>
          <p:nvPr/>
        </p:nvSpPr>
        <p:spPr>
          <a:xfrm>
            <a:off x="0" y="4815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些并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引人注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蒲公英，给我们带来了不少快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5148360" y="1197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引人注目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引起人的注意，使人把视线集中在一点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先发现了什么，又发现了什么？两次发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哪些不同，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中受到了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4" descr="20055201593593940"/>
          <p:cNvPicPr/>
          <p:nvPr/>
        </p:nvPicPr>
        <p:blipFill>
          <a:blip r:embed="rId1"/>
          <a:stretch/>
        </p:blipFill>
        <p:spPr>
          <a:xfrm>
            <a:off x="4572000" y="2276640"/>
            <a:ext cx="4248000" cy="34160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20046516381372242"/>
          <p:cNvPicPr/>
          <p:nvPr/>
        </p:nvPicPr>
        <p:blipFill>
          <a:blip r:embed="rId2"/>
          <a:stretch/>
        </p:blipFill>
        <p:spPr>
          <a:xfrm>
            <a:off x="324000" y="2205000"/>
            <a:ext cx="3863880" cy="347364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7"/>
          <p:cNvSpPr/>
          <p:nvPr/>
        </p:nvSpPr>
        <p:spPr>
          <a:xfrm>
            <a:off x="34920" y="5734080"/>
            <a:ext cx="95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对周围的事物要多观察，多思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fffff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4"/>
          <p:cNvSpPr/>
          <p:nvPr/>
        </p:nvSpPr>
        <p:spPr>
          <a:xfrm>
            <a:off x="539640" y="0"/>
            <a:ext cx="81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天，我起得很早去钓鱼，发现草地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是金色的，而是</a:t>
            </a:r>
            <a:r>
              <a:rPr b="1" lang="zh-CN" sz="4800" spc="-1" strike="noStrike">
                <a:solidFill>
                  <a:srgbClr val="00cc66"/>
                </a:solidFill>
                <a:latin typeface="Times New Roman"/>
                <a:ea typeface="宋体"/>
              </a:rPr>
              <a:t>绿色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的。中午回家的时候，我看见草地是</a:t>
            </a: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宋体"/>
              </a:rPr>
              <a:t>金色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的。傍晚的时候，草地又变</a:t>
            </a:r>
            <a:r>
              <a:rPr b="1" lang="zh-CN" sz="4800" spc="-1" strike="noStrike">
                <a:solidFill>
                  <a:srgbClr val="00cc66"/>
                </a:solidFill>
                <a:latin typeface="Times New Roman"/>
                <a:ea typeface="宋体"/>
              </a:rPr>
              <a:t>绿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5"/>
          <p:cNvSpPr/>
          <p:nvPr/>
        </p:nvSpPr>
        <p:spPr>
          <a:xfrm>
            <a:off x="1332000" y="4149720"/>
            <a:ext cx="6912000" cy="1727280"/>
          </a:xfrm>
          <a:prstGeom prst="cloudCallout">
            <a:avLst>
              <a:gd name="adj1" fmla="val -49342"/>
              <a:gd name="adj2" fmla="val 8151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是为什么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"/>
          <p:cNvSpPr/>
          <p:nvPr/>
        </p:nvSpPr>
        <p:spPr>
          <a:xfrm>
            <a:off x="3780000" y="-243000"/>
            <a:ext cx="23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我来到草地上，仔细观察，发现蒲公英的花瓣是合拢的。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宋体"/>
              </a:rPr>
              <a:t>原来，蒲公英的花就像我们的手掌，可以张开、合上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花朵张开时，它是金色的，草地也是金色的；花朵合拢时，金色的花瓣被包住，草地就变成绿色的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Tears.mp3" descr=""/>
          <p:cNvPicPr/>
          <p:nvPr/>
        </p:nvPicPr>
        <p:blipFill>
          <a:blip r:embed="rId1"/>
          <a:stretch/>
        </p:blipFill>
        <p:spPr>
          <a:xfrm>
            <a:off x="84596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6"/>
          <p:cNvSpPr/>
          <p:nvPr/>
        </p:nvSpPr>
        <p:spPr>
          <a:xfrm>
            <a:off x="1870200" y="4581360"/>
            <a:ext cx="7273800" cy="1511640"/>
          </a:xfrm>
          <a:prstGeom prst="cloudCallout">
            <a:avLst>
              <a:gd name="adj1" fmla="val -36055"/>
              <a:gd name="adj2" fmla="val 10052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我知道这是为什么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30086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990720" y="1371600"/>
            <a:ext cx="815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250920" y="260280"/>
            <a:ext cx="90676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，蒲公英的花就像我们的手掌，可以（  ）、（  ）。花朵张开时，它是（     ），草地也是（   ）；花朵合拢时，金色的花瓣被（      ），草地就变成（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8" descr="蒲公英15"/>
          <p:cNvPicPr/>
          <p:nvPr/>
        </p:nvPicPr>
        <p:blipFill>
          <a:blip r:embed="rId1"/>
          <a:stretch/>
        </p:blipFill>
        <p:spPr>
          <a:xfrm>
            <a:off x="0" y="2540160"/>
            <a:ext cx="4572000" cy="86356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9" descr="蒲公英12"/>
          <p:cNvPicPr/>
          <p:nvPr/>
        </p:nvPicPr>
        <p:blipFill>
          <a:blip r:embed="rId2"/>
          <a:stretch/>
        </p:blipFill>
        <p:spPr>
          <a:xfrm>
            <a:off x="4716360" y="2565360"/>
            <a:ext cx="4427640" cy="484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3"/>
          <p:cNvSpPr/>
          <p:nvPr/>
        </p:nvSpPr>
        <p:spPr>
          <a:xfrm>
            <a:off x="3419640" y="549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蒲公英的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539640" y="1557360"/>
            <a:ext cx="14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0" y="27082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草地颜色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393372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花的形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1872720" y="1628640"/>
            <a:ext cx="15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早晨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3605040" y="1628640"/>
            <a:ext cx="13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中午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9"/>
          <p:cNvSpPr/>
          <p:nvPr/>
        </p:nvSpPr>
        <p:spPr>
          <a:xfrm>
            <a:off x="5262840" y="162864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傍晚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6732720" y="1341360"/>
            <a:ext cx="24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二天太阳    升上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1"/>
          <p:cNvSpPr/>
          <p:nvPr/>
        </p:nvSpPr>
        <p:spPr>
          <a:xfrm>
            <a:off x="2022480" y="270828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绿色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2"/>
          <p:cNvSpPr/>
          <p:nvPr/>
        </p:nvSpPr>
        <p:spPr>
          <a:xfrm>
            <a:off x="3604680" y="2708280"/>
            <a:ext cx="15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金色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3"/>
          <p:cNvSpPr/>
          <p:nvPr/>
        </p:nvSpPr>
        <p:spPr>
          <a:xfrm>
            <a:off x="5334120" y="270828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绿色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4"/>
          <p:cNvSpPr/>
          <p:nvPr/>
        </p:nvSpPr>
        <p:spPr>
          <a:xfrm>
            <a:off x="6896520" y="2708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金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5"/>
          <p:cNvSpPr/>
          <p:nvPr/>
        </p:nvSpPr>
        <p:spPr>
          <a:xfrm>
            <a:off x="190800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合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3052440" y="3860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张开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5262840" y="3860640"/>
            <a:ext cx="11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合拢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18" descr="0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62880" y="-243000"/>
            <a:ext cx="1581120" cy="158112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19"/>
          <p:cNvSpPr/>
          <p:nvPr/>
        </p:nvSpPr>
        <p:spPr>
          <a:xfrm>
            <a:off x="6804000" y="3933720"/>
            <a:ext cx="2160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张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5"/>
          <p:cNvSpPr/>
          <p:nvPr/>
        </p:nvSpPr>
        <p:spPr>
          <a:xfrm>
            <a:off x="4788000" y="6206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草地！多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蒲公英！从那时起，蒲公英成了我们最喜爱的一种花。它和我们一起睡觉，和我们一起起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6"/>
          <p:cNvSpPr/>
          <p:nvPr/>
        </p:nvSpPr>
        <p:spPr>
          <a:xfrm>
            <a:off x="7020000" y="4437000"/>
            <a:ext cx="1368360" cy="0"/>
          </a:xfrm>
          <a:prstGeom prst="line">
            <a:avLst/>
          </a:prstGeom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7"/>
          <p:cNvSpPr/>
          <p:nvPr/>
        </p:nvSpPr>
        <p:spPr>
          <a:xfrm>
            <a:off x="5003640" y="5013360"/>
            <a:ext cx="3313440" cy="0"/>
          </a:xfrm>
          <a:prstGeom prst="line">
            <a:avLst/>
          </a:prstGeom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>
            <a:off x="5003640" y="5661000"/>
            <a:ext cx="2808360" cy="0"/>
          </a:xfrm>
          <a:prstGeom prst="line">
            <a:avLst/>
          </a:prstGeom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9"/>
          <p:cNvSpPr/>
          <p:nvPr/>
        </p:nvSpPr>
        <p:spPr>
          <a:xfrm>
            <a:off x="250920" y="1557360"/>
            <a:ext cx="3456000" cy="1584360"/>
          </a:xfrm>
          <a:prstGeom prst="cloudCallout">
            <a:avLst>
              <a:gd name="adj1" fmla="val 74574"/>
              <a:gd name="adj2" fmla="val 17775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什么说蒲公英会和我们一起睡觉，一起起床呢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4"/>
          <p:cNvSpPr/>
          <p:nvPr/>
        </p:nvSpPr>
        <p:spPr>
          <a:xfrm>
            <a:off x="1476360" y="155736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课文的哪些地方可以看出草地的可爱、蒲公英的有趣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4"/>
          <p:cNvSpPr/>
          <p:nvPr/>
        </p:nvSpPr>
        <p:spPr>
          <a:xfrm>
            <a:off x="0" y="2602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我把下面的句子抄了下来，你抄了哪些？你想抄哪些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花朵张开时，它是金色的，草地也是金色的；花朵合拢时，金色的花瓣被包住，草地就变成绿色的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4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85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93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0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Picture 31" descr="book9"/>
          <p:cNvPicPr/>
          <p:nvPr/>
        </p:nvPicPr>
        <p:blipFill>
          <a:blip r:embed="rId27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2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057400" y="1295280"/>
          <a:ext cx="4952880" cy="447048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44"/>
          <p:cNvSpPr/>
          <p:nvPr/>
        </p:nvSpPr>
        <p:spPr>
          <a:xfrm>
            <a:off x="3354480" y="9144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耍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476360" y="141300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热爱大自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留心观察事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文本框 1"/>
          <p:cNvSpPr/>
          <p:nvPr/>
        </p:nvSpPr>
        <p:spPr>
          <a:xfrm>
            <a:off x="1166760" y="5586480"/>
            <a:ext cx="68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741" name="Group 3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742" name="Picture 4" descr="BGFL01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3" name="Picture 5" descr="BGFL016"/>
              <p:cNvPicPr/>
              <p:nvPr/>
            </p:nvPicPr>
            <p:blipFill>
              <a:blip r:embed="rId2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4" name="Picture 6" descr="BGFL016"/>
              <p:cNvPicPr/>
              <p:nvPr/>
            </p:nvPicPr>
            <p:blipFill>
              <a:blip r:embed="rId3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5" name="Picture 7" descr="BGFL016"/>
              <p:cNvPicPr/>
              <p:nvPr/>
            </p:nvPicPr>
            <p:blipFill>
              <a:blip r:embed="rId4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6" name="Group 8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747" name="Picture 9" descr="BGFL016"/>
              <p:cNvPicPr/>
              <p:nvPr/>
            </p:nvPicPr>
            <p:blipFill>
              <a:blip r:embed="rId5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Picture 10" descr="BGFL016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9" name="Picture 11" descr="BGFL016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" name="Picture 12" descr="BGFL016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1" name="Group 13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752" name="Picture 14" descr="BGFL016"/>
              <p:cNvPicPr/>
              <p:nvPr/>
            </p:nvPicPr>
            <p:blipFill>
              <a:blip r:embed="rId9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Picture 15" descr="BGFL016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4" name="Picture 16" descr="BGFL016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5" name="Picture 17" descr="BGFL016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6" name="Group 18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757" name="Picture 19" descr="BGFL016"/>
              <p:cNvPicPr/>
              <p:nvPr/>
            </p:nvPicPr>
            <p:blipFill>
              <a:blip r:embed="rId13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8" name="Picture 20" descr="BGFL016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9" name="Picture 21" descr="BGFL016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0" name="Picture 22" descr="BGFL016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1" name="Group 23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762" name="Picture 24" descr="BGFL016"/>
              <p:cNvPicPr/>
              <p:nvPr/>
            </p:nvPicPr>
            <p:blipFill>
              <a:blip r:embed="rId17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3" name="Picture 25" descr="BGFL016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" name="Picture 26" descr="BGFL016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5" name="Picture 27" descr="BGFL016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6" name="Text Box 28"/>
          <p:cNvSpPr/>
          <p:nvPr/>
        </p:nvSpPr>
        <p:spPr>
          <a:xfrm>
            <a:off x="503280" y="411120"/>
            <a:ext cx="813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活中什么地方给你带来了怎样的快乐？用几句话表达出快乐的心情及对这个地方的喜爱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02.mp3" descr=""/>
          <p:cNvPicPr/>
          <p:nvPr/>
        </p:nvPicPr>
        <p:blipFill>
          <a:blip r:embed="rId2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2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95861" fill="hold"/>
                                        <p:tgtEl>
                                          <p:spTgt spid="7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608C-832C-4B12-B59D-53C4C65EC7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7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18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5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26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3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45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装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48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49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6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57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76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劲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79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80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88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5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07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绒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0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11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8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19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6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38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41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42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9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50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7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69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4:28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7:13Z</dcterms:modified>
  <cp:revision>9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