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media/type.wav" ContentType="audio/x-wav"/>
  <Override PartName="/ppt/media/voltage.wav" ContentType="audio/x-wav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1805-0098-4AE0-88CD-DF0CD6A04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DCA6-8CD3-4DAF-8E96-5F8571E2B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39B4-7906-42D8-B80F-4E2996A9E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820-B39E-451B-8099-8D6E598E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9B9-2170-4D97-8EA7-F97BF652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A285-09CD-4183-AD39-0BE4EDA2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83F-6D07-4178-B280-9FB4AC6E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1633-8261-478F-9F0D-4BD72F32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7F88-3D8B-404C-B7ED-296C34D8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7347-F721-45B8-A6B3-D9FC047C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2269-B18C-49E1-A67C-0FA2D117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9ECB-DF5E-412D-B14B-0B815E3D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A8C3-D737-4627-949A-66B82F3D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E68B-FAC4-4828-BCE2-31ADB2F5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403-2086-4BC0-85BD-40736632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0CAE-79CE-4964-88BF-95C5462E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8A8C-B6D3-482A-A9A1-24D6B703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D3E8-FFC1-4EEA-B513-91A40990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0025-5D7E-466B-9A7F-37F72E17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2D91-AFE4-4E42-9701-67DE784C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8C080-4A46-4B63-861F-8DE41F14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BCE18-C3F7-4B75-A224-A77563FA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16AA4-35D2-4845-90C2-C84AD681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3622A-2484-4B49-8F63-FB075709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7502-277A-4211-91BA-2A239961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A16-A21A-4F4A-9518-407FD16F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01DA4-EECE-4BD0-8D33-8698F99F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BA2F5-74DC-4C53-AF9F-63430EA6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D38AF-D1F2-423E-B068-EA6F0B4D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08D12-0E6A-42CF-92D4-0E89D69D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216DE-6161-4517-98F7-A4D472F2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4C42-12F6-4B8C-8A38-34C2C2A9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E2BBD-95C0-4470-8CDD-38F9E5BF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31F-9555-4B23-9B45-9A97A2CB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E82-4AF4-4602-999B-BA856499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2C4-243F-4B64-AC10-8C236C2A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64D-8C5B-4FB3-809B-E4A6A498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182-2887-40A7-AFC1-6370F210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D9C-190C-4D7D-A522-81C34971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AFBA-C9F6-4143-97AB-F99FC9959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0D79-146D-41C3-B5C7-AB452D993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3FB8-46F7-49AE-9A8D-DAD5124D5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voltage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矩形 5" descr=""/>
          <p:cNvPicPr/>
          <p:nvPr/>
        </p:nvPicPr>
        <p:blipFill>
          <a:blip r:embed="rId3"/>
          <a:stretch/>
        </p:blipFill>
        <p:spPr>
          <a:xfrm>
            <a:off x="1343160" y="6021360"/>
            <a:ext cx="6573600" cy="5716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4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秋后，小兔藏起了三个玉米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那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黄澄澄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的玉米粒，真逗人喜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012000" y="292428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玉米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796000" y="530064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玉米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743120" y="336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2031840" y="307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6" descr="u=449777152,809280935&amp;fm=52&amp;gp=0"/>
          <p:cNvPicPr/>
          <p:nvPr/>
        </p:nvPicPr>
        <p:blipFill>
          <a:blip r:embed="rId2"/>
          <a:stretch/>
        </p:blipFill>
        <p:spPr>
          <a:xfrm>
            <a:off x="900000" y="4481640"/>
            <a:ext cx="38163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21"/>
          <p:cNvGrpSpPr/>
          <p:nvPr/>
        </p:nvGrpSpPr>
        <p:grpSpPr>
          <a:xfrm>
            <a:off x="0" y="2133720"/>
            <a:ext cx="5797440" cy="2263680"/>
            <a:chOff x="0" y="2133720"/>
            <a:chExt cx="5797440" cy="2263680"/>
          </a:xfrm>
        </p:grpSpPr>
        <p:pic>
          <p:nvPicPr>
            <p:cNvPr id="230" name="Picture 19" descr="20071010153116630_1"/>
            <p:cNvPicPr/>
            <p:nvPr/>
          </p:nvPicPr>
          <p:blipFill>
            <a:blip r:embed="rId3"/>
            <a:stretch/>
          </p:blipFill>
          <p:spPr>
            <a:xfrm>
              <a:off x="0" y="2133720"/>
              <a:ext cx="223344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8" descr="20071010153116630_1"/>
            <p:cNvPicPr/>
            <p:nvPr/>
          </p:nvPicPr>
          <p:blipFill>
            <a:blip r:embed="rId4"/>
            <a:stretch/>
          </p:blipFill>
          <p:spPr>
            <a:xfrm>
              <a:off x="1763640" y="2133720"/>
              <a:ext cx="223380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7" descr="20071010153116630_1"/>
            <p:cNvPicPr/>
            <p:nvPr/>
          </p:nvPicPr>
          <p:blipFill>
            <a:blip r:embed="rId5"/>
            <a:stretch/>
          </p:blipFill>
          <p:spPr>
            <a:xfrm>
              <a:off x="3564000" y="2133720"/>
              <a:ext cx="223344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609480" y="838080"/>
            <a:ext cx="7925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楷体"/>
                <a:ea typeface="楷体"/>
              </a:rPr>
              <a:t>   </a:t>
            </a:r>
            <a:r>
              <a:rPr b="1" lang="zh-CN" sz="5400" spc="-1" strike="noStrike">
                <a:solidFill>
                  <a:srgbClr val="ff0066"/>
                </a:solidFill>
                <a:latin typeface="楷体"/>
                <a:ea typeface="楷体"/>
              </a:rPr>
              <a:t>用自己喜欢的方式读</a:t>
            </a:r>
            <a:r>
              <a:rPr b="1" lang="en-US" sz="5400" spc="-1" strike="noStrike">
                <a:solidFill>
                  <a:srgbClr val="ff0066"/>
                </a:solidFill>
                <a:latin typeface="楷体"/>
                <a:ea typeface="楷体"/>
              </a:rPr>
              <a:t>2—10</a:t>
            </a:r>
            <a:r>
              <a:rPr b="1" lang="zh-CN" sz="5400" spc="-1" strike="noStrike">
                <a:solidFill>
                  <a:srgbClr val="ff0066"/>
                </a:solidFill>
                <a:latin typeface="楷体"/>
                <a:ea typeface="楷体"/>
              </a:rPr>
              <a:t>自然段，说说有哪些小动物向小兔子借玉米棒？结果怎么样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Object 3" descr=""/>
          <p:cNvPicPr/>
          <p:nvPr/>
        </p:nvPicPr>
        <p:blipFill>
          <a:blip r:embed="rId2"/>
          <a:stretch/>
        </p:blipFill>
        <p:spPr>
          <a:xfrm>
            <a:off x="411480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u=1496573543,3439217707&amp;fm=0&amp;gp=3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4"/>
          <p:cNvSpPr/>
          <p:nvPr/>
        </p:nvSpPr>
        <p:spPr>
          <a:xfrm>
            <a:off x="181080" y="1197000"/>
            <a:ext cx="18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8360" y="836640"/>
          <a:ext cx="8229600" cy="5205240"/>
        </p:xfrm>
        <a:graphic>
          <a:graphicData uri="http://schemas.openxmlformats.org/drawingml/2006/table">
            <a:tbl>
              <a:tblPr/>
              <a:tblGrid>
                <a:gridCol w="1450800"/>
                <a:gridCol w="1224000"/>
                <a:gridCol w="3084480"/>
                <a:gridCol w="24703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原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Text Box 32"/>
          <p:cNvSpPr/>
          <p:nvPr/>
        </p:nvSpPr>
        <p:spPr>
          <a:xfrm>
            <a:off x="2057400" y="2354400"/>
            <a:ext cx="685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3"/>
          <p:cNvSpPr/>
          <p:nvPr/>
        </p:nvSpPr>
        <p:spPr>
          <a:xfrm>
            <a:off x="2057400" y="1981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松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4"/>
          <p:cNvSpPr/>
          <p:nvPr/>
        </p:nvSpPr>
        <p:spPr>
          <a:xfrm>
            <a:off x="1981080" y="3886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松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5"/>
          <p:cNvSpPr/>
          <p:nvPr/>
        </p:nvSpPr>
        <p:spPr>
          <a:xfrm>
            <a:off x="10118880" y="41115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6"/>
          <p:cNvSpPr/>
          <p:nvPr/>
        </p:nvSpPr>
        <p:spPr>
          <a:xfrm>
            <a:off x="1981080" y="4952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刺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7"/>
          <p:cNvSpPr/>
          <p:nvPr/>
        </p:nvSpPr>
        <p:spPr>
          <a:xfrm>
            <a:off x="684360" y="206064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冬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8"/>
          <p:cNvSpPr/>
          <p:nvPr/>
        </p:nvSpPr>
        <p:spPr>
          <a:xfrm>
            <a:off x="3276720" y="2057400"/>
            <a:ext cx="2133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9"/>
          <p:cNvSpPr/>
          <p:nvPr/>
        </p:nvSpPr>
        <p:spPr>
          <a:xfrm>
            <a:off x="3200400" y="190512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家里的粮食不多了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0"/>
          <p:cNvSpPr/>
          <p:nvPr/>
        </p:nvSpPr>
        <p:spPr>
          <a:xfrm>
            <a:off x="6172200" y="1752480"/>
            <a:ext cx="21337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借玉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送一把干蘑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1"/>
          <p:cNvSpPr/>
          <p:nvPr/>
        </p:nvSpPr>
        <p:spPr>
          <a:xfrm>
            <a:off x="539640" y="3284640"/>
            <a:ext cx="15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雪花飘落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2"/>
          <p:cNvSpPr/>
          <p:nvPr/>
        </p:nvSpPr>
        <p:spPr>
          <a:xfrm>
            <a:off x="3505320" y="3581280"/>
            <a:ext cx="2057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3"/>
          <p:cNvSpPr/>
          <p:nvPr/>
        </p:nvSpPr>
        <p:spPr>
          <a:xfrm>
            <a:off x="3200400" y="3124080"/>
            <a:ext cx="295596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剩下的粮食不多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4"/>
          <p:cNvSpPr/>
          <p:nvPr/>
        </p:nvSpPr>
        <p:spPr>
          <a:xfrm>
            <a:off x="6248520" y="3352680"/>
            <a:ext cx="22860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借玉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送一碗豆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5"/>
          <p:cNvSpPr/>
          <p:nvPr/>
        </p:nvSpPr>
        <p:spPr>
          <a:xfrm>
            <a:off x="60948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春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6"/>
          <p:cNvSpPr/>
          <p:nvPr/>
        </p:nvSpPr>
        <p:spPr>
          <a:xfrm>
            <a:off x="3124080" y="5029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找不到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7"/>
          <p:cNvSpPr/>
          <p:nvPr/>
        </p:nvSpPr>
        <p:spPr>
          <a:xfrm>
            <a:off x="6248520" y="4800600"/>
            <a:ext cx="17524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借玉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送几颗红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94920" y="549360"/>
            <a:ext cx="8064360" cy="66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想一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兔为什么不借玉米棒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6920" y="2492280"/>
            <a:ext cx="735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把第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自然段连起来读读，看看你能发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84360" y="393372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兔在秋后藏起三个玉米棒是给第二年春天播种用的，以便收获更多的玉米棒，所以不借玉米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"/>
          <p:cNvSpPr/>
          <p:nvPr/>
        </p:nvSpPr>
        <p:spPr>
          <a:xfrm>
            <a:off x="1168560" y="583092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94920" y="549360"/>
            <a:ext cx="8064360" cy="66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想一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兔为什么不借玉米棒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6920" y="2492280"/>
            <a:ext cx="735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把第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自然段连起来读读，看看你能发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84360" y="393372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兔在秋后藏起三个玉米棒是给第二年春天播种用的，以便收获更多的玉米棒，所以不借玉米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一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淅淅沥沥的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春雨后，小兔在地里挖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个个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小坑。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剥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下玉米粒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颗颗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种下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743120" y="473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3"/>
          <p:cNvSpPr/>
          <p:nvPr/>
        </p:nvSpPr>
        <p:spPr>
          <a:xfrm>
            <a:off x="2843280" y="3573360"/>
            <a:ext cx="3504960" cy="3124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1332000" y="2349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个玉米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708360" y="220500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好多好多的玉米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6"/>
          <p:cNvSpPr/>
          <p:nvPr/>
        </p:nvSpPr>
        <p:spPr>
          <a:xfrm flipV="1">
            <a:off x="5651640" y="198900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6516720" y="170028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松鼠藏三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565164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6516720" y="2276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松鸡藏三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5651640" y="2781360"/>
            <a:ext cx="72072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2843280" y="220500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6372360" y="2924280"/>
            <a:ext cx="21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刺猬藏三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1116000" y="83664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秋后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755640" y="3924360"/>
            <a:ext cx="76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松鼠、松鸡、刺猬为什么也挑了三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大的玉米棒藏了起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539640" y="5229360"/>
            <a:ext cx="83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有留下种子，才会有足够的粮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41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0" y="5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好句品读</a:t>
            </a: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冬天，冷飕飕的北风吹在脸上，像针扎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116000" y="2930400"/>
            <a:ext cx="29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11280" y="3284640"/>
            <a:ext cx="772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里采用了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比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写作手法，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北风吹在脸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感觉比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针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感觉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826920" y="1916280"/>
            <a:ext cx="7535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         ）的北风      （                   ）的玉米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     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春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（         ）玉米棒                一（          ）干蘑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（         ）松鸡                   一（           ）红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（         ）豆子                   一（           ）小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（         ）春雨                   一（            ）玉米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509840" y="1131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76360" y="1773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冷飕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149800" y="1844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黄澄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621080" y="3573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1692720" y="4221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1621080" y="479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1765800" y="54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5797800" y="3573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725080" y="4221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5653440" y="486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5797800" y="54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1548000" y="234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淅淅沥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3706-F0B9-40B5-BC1C-4F51D6FC10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Arial"/>
                <a:ea typeface="楷体"/>
              </a:rPr>
              <a:t>谜语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47280" y="1844640"/>
            <a:ext cx="6480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一个老头子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长着长胡子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脱去绿袍子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满身金珠子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11280" y="476280"/>
            <a:ext cx="8785080" cy="62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读一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ù                lì           xiàng      li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玉 米     米 粒      好 像         粮 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ài      xíng           bì           kuā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口 袋     不行      必 定      一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棒     飕      免     挨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玉米棒  冷飕飕   免得     挨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掂     剩     枣     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掂掂     剩下    红枣     剥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187280" y="765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059280" y="765000"/>
            <a:ext cx="86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ō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643280" y="62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588000" y="620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258920" y="3284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843280" y="3203640"/>
            <a:ext cx="17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è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643280" y="3203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6443640" y="31114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口 袋     不行      必 定      一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4360" y="227628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玉米棒  冷飕飕  免得  挨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玉米   米粒   好像   粮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掂掂   剩下   红枣   剥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179280" y="0"/>
            <a:ext cx="1871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玉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2268360" y="0"/>
            <a:ext cx="2268720" cy="2565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2484360" y="115920"/>
            <a:ext cx="19432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粒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687564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7054920" y="115920"/>
            <a:ext cx="2089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粮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5"/>
          <a:stretch/>
        </p:blipFill>
        <p:spPr>
          <a:xfrm>
            <a:off x="457200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4643280" y="0"/>
            <a:ext cx="2052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像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6"/>
          <a:stretch/>
        </p:blipFill>
        <p:spPr>
          <a:xfrm>
            <a:off x="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2"/>
          <p:cNvSpPr/>
          <p:nvPr/>
        </p:nvSpPr>
        <p:spPr>
          <a:xfrm>
            <a:off x="179280" y="4005360"/>
            <a:ext cx="1944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袋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"/>
          <p:cNvPicPr/>
          <p:nvPr/>
        </p:nvPicPr>
        <p:blipFill>
          <a:blip r:embed="rId7"/>
          <a:stretch/>
        </p:blipFill>
        <p:spPr>
          <a:xfrm>
            <a:off x="2268360" y="4005360"/>
            <a:ext cx="2268720" cy="2565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"/>
          <p:cNvSpPr/>
          <p:nvPr/>
        </p:nvSpPr>
        <p:spPr>
          <a:xfrm>
            <a:off x="2448000" y="4194000"/>
            <a:ext cx="1979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行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5" descr=""/>
          <p:cNvPicPr/>
          <p:nvPr/>
        </p:nvPicPr>
        <p:blipFill>
          <a:blip r:embed="rId8"/>
          <a:stretch/>
        </p:blipFill>
        <p:spPr>
          <a:xfrm>
            <a:off x="457200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6"/>
          <p:cNvSpPr/>
          <p:nvPr/>
        </p:nvSpPr>
        <p:spPr>
          <a:xfrm>
            <a:off x="4751280" y="4194000"/>
            <a:ext cx="190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必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7" descr=""/>
          <p:cNvPicPr/>
          <p:nvPr/>
        </p:nvPicPr>
        <p:blipFill>
          <a:blip r:embed="rId9"/>
          <a:stretch/>
        </p:blipFill>
        <p:spPr>
          <a:xfrm>
            <a:off x="687564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8"/>
          <p:cNvSpPr/>
          <p:nvPr/>
        </p:nvSpPr>
        <p:spPr>
          <a:xfrm>
            <a:off x="6948360" y="4194000"/>
            <a:ext cx="2195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筐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059280" y="2781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文鼎齿轮体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24000" y="692280"/>
          <a:ext cx="887400" cy="1168200"/>
        </p:xfrm>
        <a:graphic>
          <a:graphicData uri="http://schemas.openxmlformats.org/drawingml/2006/table">
            <a:tbl>
              <a:tblPr/>
              <a:tblGrid>
                <a:gridCol w="444600"/>
                <a:gridCol w="4428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124080" y="685800"/>
          <a:ext cx="963720" cy="1168560"/>
        </p:xfrm>
        <a:graphic>
          <a:graphicData uri="http://schemas.openxmlformats.org/drawingml/2006/table">
            <a:tbl>
              <a:tblPr/>
              <a:tblGrid>
                <a:gridCol w="520560"/>
                <a:gridCol w="44316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6156360" y="692280"/>
          <a:ext cx="887400" cy="1168200"/>
        </p:xfrm>
        <a:graphic>
          <a:graphicData uri="http://schemas.openxmlformats.org/drawingml/2006/table">
            <a:tbl>
              <a:tblPr/>
              <a:tblGrid>
                <a:gridCol w="444600"/>
                <a:gridCol w="4428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24000" y="2852640"/>
          <a:ext cx="887400" cy="1168560"/>
        </p:xfrm>
        <a:graphic>
          <a:graphicData uri="http://schemas.openxmlformats.org/drawingml/2006/table">
            <a:tbl>
              <a:tblPr/>
              <a:tblGrid>
                <a:gridCol w="444600"/>
                <a:gridCol w="44280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348000" y="2781360"/>
          <a:ext cx="887400" cy="1168200"/>
        </p:xfrm>
        <a:graphic>
          <a:graphicData uri="http://schemas.openxmlformats.org/drawingml/2006/table">
            <a:tbl>
              <a:tblPr/>
              <a:tblGrid>
                <a:gridCol w="444600"/>
                <a:gridCol w="4428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227640" y="2852640"/>
          <a:ext cx="887400" cy="1168560"/>
        </p:xfrm>
        <a:graphic>
          <a:graphicData uri="http://schemas.openxmlformats.org/drawingml/2006/table">
            <a:tbl>
              <a:tblPr/>
              <a:tblGrid>
                <a:gridCol w="444600"/>
                <a:gridCol w="44280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52280" y="5334120"/>
          <a:ext cx="887400" cy="1168200"/>
        </p:xfrm>
        <a:graphic>
          <a:graphicData uri="http://schemas.openxmlformats.org/drawingml/2006/table">
            <a:tbl>
              <a:tblPr/>
              <a:tblGrid>
                <a:gridCol w="444600"/>
                <a:gridCol w="4428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284720" y="5373720"/>
          <a:ext cx="887400" cy="1101600"/>
        </p:xfrm>
        <a:graphic>
          <a:graphicData uri="http://schemas.openxmlformats.org/drawingml/2006/table">
            <a:tbl>
              <a:tblPr/>
              <a:tblGrid>
                <a:gridCol w="444600"/>
                <a:gridCol w="442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90"/>
          <p:cNvSpPr/>
          <p:nvPr/>
        </p:nvSpPr>
        <p:spPr>
          <a:xfrm>
            <a:off x="420120" y="692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1"/>
          <p:cNvSpPr/>
          <p:nvPr/>
        </p:nvSpPr>
        <p:spPr>
          <a:xfrm>
            <a:off x="3293280" y="6094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2"/>
          <p:cNvSpPr/>
          <p:nvPr/>
        </p:nvSpPr>
        <p:spPr>
          <a:xfrm>
            <a:off x="6189120" y="6094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3"/>
          <p:cNvSpPr/>
          <p:nvPr/>
        </p:nvSpPr>
        <p:spPr>
          <a:xfrm>
            <a:off x="420120" y="278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4"/>
          <p:cNvSpPr/>
          <p:nvPr/>
        </p:nvSpPr>
        <p:spPr>
          <a:xfrm>
            <a:off x="3445920" y="278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5"/>
          <p:cNvSpPr/>
          <p:nvPr/>
        </p:nvSpPr>
        <p:spPr>
          <a:xfrm>
            <a:off x="6325560" y="2852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6"/>
          <p:cNvSpPr/>
          <p:nvPr/>
        </p:nvSpPr>
        <p:spPr>
          <a:xfrm>
            <a:off x="0" y="525780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7"/>
          <p:cNvSpPr/>
          <p:nvPr/>
        </p:nvSpPr>
        <p:spPr>
          <a:xfrm>
            <a:off x="4380840" y="5300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8"/>
          <p:cNvSpPr/>
          <p:nvPr/>
        </p:nvSpPr>
        <p:spPr>
          <a:xfrm>
            <a:off x="425520" y="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y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9"/>
          <p:cNvSpPr/>
          <p:nvPr/>
        </p:nvSpPr>
        <p:spPr>
          <a:xfrm>
            <a:off x="3444840" y="0"/>
            <a:ext cx="7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ì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0"/>
          <p:cNvSpPr/>
          <p:nvPr/>
        </p:nvSpPr>
        <p:spPr>
          <a:xfrm>
            <a:off x="6034680" y="0"/>
            <a:ext cx="164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xià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1"/>
          <p:cNvSpPr/>
          <p:nvPr/>
        </p:nvSpPr>
        <p:spPr>
          <a:xfrm>
            <a:off x="309960" y="2209680"/>
            <a:ext cx="153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iá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2"/>
          <p:cNvSpPr/>
          <p:nvPr/>
        </p:nvSpPr>
        <p:spPr>
          <a:xfrm>
            <a:off x="3393360" y="2133720"/>
            <a:ext cx="11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à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3"/>
          <p:cNvSpPr/>
          <p:nvPr/>
        </p:nvSpPr>
        <p:spPr>
          <a:xfrm>
            <a:off x="6156360" y="21337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xí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4"/>
          <p:cNvSpPr/>
          <p:nvPr/>
        </p:nvSpPr>
        <p:spPr>
          <a:xfrm>
            <a:off x="3995640" y="4724280"/>
            <a:ext cx="155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Kuā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5"/>
          <p:cNvSpPr/>
          <p:nvPr/>
        </p:nvSpPr>
        <p:spPr>
          <a:xfrm>
            <a:off x="228600" y="47242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ì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6"/>
          <p:cNvSpPr/>
          <p:nvPr/>
        </p:nvSpPr>
        <p:spPr>
          <a:xfrm>
            <a:off x="1189080" y="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7"/>
          <p:cNvSpPr/>
          <p:nvPr/>
        </p:nvSpPr>
        <p:spPr>
          <a:xfrm>
            <a:off x="3853440" y="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8"/>
          <p:cNvSpPr/>
          <p:nvPr/>
        </p:nvSpPr>
        <p:spPr>
          <a:xfrm>
            <a:off x="7237800" y="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9"/>
          <p:cNvSpPr/>
          <p:nvPr/>
        </p:nvSpPr>
        <p:spPr>
          <a:xfrm>
            <a:off x="1478520" y="2205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0"/>
          <p:cNvSpPr/>
          <p:nvPr/>
        </p:nvSpPr>
        <p:spPr>
          <a:xfrm>
            <a:off x="4142520" y="213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1"/>
          <p:cNvSpPr/>
          <p:nvPr/>
        </p:nvSpPr>
        <p:spPr>
          <a:xfrm>
            <a:off x="7094880" y="20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2"/>
          <p:cNvSpPr/>
          <p:nvPr/>
        </p:nvSpPr>
        <p:spPr>
          <a:xfrm>
            <a:off x="902160" y="47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3"/>
          <p:cNvSpPr/>
          <p:nvPr/>
        </p:nvSpPr>
        <p:spPr>
          <a:xfrm>
            <a:off x="5366160" y="47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4"/>
          <p:cNvSpPr/>
          <p:nvPr/>
        </p:nvSpPr>
        <p:spPr>
          <a:xfrm>
            <a:off x="1713960" y="4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独体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5"/>
          <p:cNvSpPr/>
          <p:nvPr/>
        </p:nvSpPr>
        <p:spPr>
          <a:xfrm>
            <a:off x="4336920" y="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6"/>
          <p:cNvSpPr/>
          <p:nvPr/>
        </p:nvSpPr>
        <p:spPr>
          <a:xfrm>
            <a:off x="7865640" y="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7"/>
          <p:cNvSpPr/>
          <p:nvPr/>
        </p:nvSpPr>
        <p:spPr>
          <a:xfrm>
            <a:off x="2240280" y="22953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独 体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8"/>
          <p:cNvSpPr/>
          <p:nvPr/>
        </p:nvSpPr>
        <p:spPr>
          <a:xfrm>
            <a:off x="469728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上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9"/>
          <p:cNvSpPr/>
          <p:nvPr/>
        </p:nvSpPr>
        <p:spPr>
          <a:xfrm>
            <a:off x="7792920" y="220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0"/>
          <p:cNvSpPr/>
          <p:nvPr/>
        </p:nvSpPr>
        <p:spPr>
          <a:xfrm>
            <a:off x="1663200" y="465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独体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1"/>
          <p:cNvSpPr/>
          <p:nvPr/>
        </p:nvSpPr>
        <p:spPr>
          <a:xfrm>
            <a:off x="6065640" y="465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上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2"/>
          <p:cNvSpPr/>
          <p:nvPr/>
        </p:nvSpPr>
        <p:spPr>
          <a:xfrm>
            <a:off x="1312200" y="457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玉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玉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美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宝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3"/>
          <p:cNvSpPr/>
          <p:nvPr/>
        </p:nvSpPr>
        <p:spPr>
          <a:xfrm>
            <a:off x="4611960" y="476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米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饭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颗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一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4"/>
          <p:cNvSpPr/>
          <p:nvPr/>
        </p:nvSpPr>
        <p:spPr>
          <a:xfrm>
            <a:off x="7484400" y="476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好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相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画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图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5"/>
          <p:cNvSpPr/>
          <p:nvPr/>
        </p:nvSpPr>
        <p:spPr>
          <a:xfrm>
            <a:off x="1580760" y="2781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粮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粮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粮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粮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6"/>
          <p:cNvSpPr/>
          <p:nvPr/>
        </p:nvSpPr>
        <p:spPr>
          <a:xfrm>
            <a:off x="4604760" y="2637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口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袋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烟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布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7"/>
          <p:cNvSpPr/>
          <p:nvPr/>
        </p:nvSpPr>
        <p:spPr>
          <a:xfrm>
            <a:off x="7629120" y="2708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行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行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不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行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8"/>
          <p:cNvSpPr/>
          <p:nvPr/>
        </p:nvSpPr>
        <p:spPr>
          <a:xfrm>
            <a:off x="1066680" y="5410080"/>
            <a:ext cx="26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必须）（必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（必要）（必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9"/>
          <p:cNvSpPr/>
          <p:nvPr/>
        </p:nvSpPr>
        <p:spPr>
          <a:xfrm>
            <a:off x="5508720" y="5119560"/>
            <a:ext cx="268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箩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（竹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（筐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187280" y="549360"/>
            <a:ext cx="36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填词语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11280" y="1628640"/>
            <a:ext cx="9147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ōng  tiān       yù   mǐ        kǒu  dà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    )     (            )       (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áng  shi         bì  dìng      yì  kuā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   )       (            )    (  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971640" y="2565360"/>
            <a:ext cx="16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冬    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24360" y="2565360"/>
            <a:ext cx="15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玉   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732720" y="2565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口  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900000" y="530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粮   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924360" y="530064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必  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88000" y="537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    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8:40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7:05Z</dcterms:modified>
  <cp:revision>4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