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865C-D1C3-4A44-8604-271717BFA2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DE87-613B-4CBA-B735-7FD2737841A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CC1C-8D5C-4A34-AB44-F92DFAE1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B74E-9ACC-4340-B4C6-551A0301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1A82-8ADF-43EE-9E40-F7E2E9CA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39DD-1F3D-4945-9A1C-B72F9D98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A6FD-1F14-418E-A7AE-3CA8ACFE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B3E5-4422-4990-8BE7-B65C7157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488E-6836-4FED-A683-9E49B542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961B-5110-4681-8518-E5402096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3C1E-DA79-4963-B5F7-8B0A94A0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AFFB-3CD7-4F89-8543-1E4479A6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F38F-E8E2-4FB4-83D0-58CC1C0D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512F-8340-4175-8072-77D819D1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8B4D-1C13-4F53-9E35-A47B25D0B3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38745;&#22812;.swf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:\&#20248;&#31168;&#35838;&#20214;\&#26032;&#24314;&#25991;&#20214;&#22841;\&#12298;&#20061;&#26376;&#20061;&#26085;&#24518;&#23665;&#19996;&#20804;&#24351;&#12299;&#26391;&#35835;&#35838;&#20214;&#21046;&#20316;&#38899;&#39057;&#32032;&#26448;&#20043;&#19968;.MP3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1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789120" y="1413000"/>
            <a:ext cx="7527960" cy="97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3300"/>
                  </a:solidFill>
                  <a:round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隶书"/>
              </a:rPr>
              <a:t>九月九日忆山东兄弟</a:t>
            </a:r>
            <a:endParaRPr b="1" lang="en-US" sz="5400" spc="1" strike="noStrike">
              <a:ln w="19080">
                <a:solidFill>
                  <a:srgbClr val="993300"/>
                </a:solidFill>
                <a:round/>
              </a:ln>
              <a:solidFill>
                <a:srgbClr val="c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547080" y="3213000"/>
            <a:ext cx="20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[</a:t>
            </a:r>
            <a:r>
              <a:rPr b="1" lang="zh-CN" sz="3600" spc="-1" strike="noStrike">
                <a:solidFill>
                  <a:srgbClr val="996600"/>
                </a:solidFill>
                <a:latin typeface="Arial"/>
              </a:rPr>
              <a:t>唐</a:t>
            </a: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] </a:t>
            </a:r>
            <a:r>
              <a:rPr b="1" lang="zh-CN" sz="3600" spc="-1" strike="noStrike">
                <a:solidFill>
                  <a:srgbClr val="996600"/>
                </a:solidFill>
                <a:latin typeface="Arial"/>
              </a:rPr>
              <a:t>王  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836360" y="5229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967320" y="907920"/>
            <a:ext cx="184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选做题</a:t>
            </a: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283840" y="1989000"/>
            <a:ext cx="540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6600"/>
                </a:solidFill>
                <a:latin typeface="Arial"/>
              </a:rPr>
              <a:t>回忆学过的表达思念家乡和亲人的诗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Arial"/>
              </a:rPr>
              <a:t>并背诵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246760" y="3860640"/>
            <a:ext cx="7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人日思归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薛道衡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入春才七日，离家已二年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归落雁后，思发在花前。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5"/>
          <p:cNvGrpSpPr/>
          <p:nvPr/>
        </p:nvGrpSpPr>
        <p:grpSpPr>
          <a:xfrm>
            <a:off x="3635280" y="3842640"/>
            <a:ext cx="6153120" cy="1673640"/>
            <a:chOff x="3635280" y="3842640"/>
            <a:chExt cx="6153120" cy="1673640"/>
          </a:xfrm>
        </p:grpSpPr>
        <p:sp>
          <p:nvSpPr>
            <p:cNvPr id="124" name="Rectangle 6"/>
            <p:cNvSpPr/>
            <p:nvPr/>
          </p:nvSpPr>
          <p:spPr>
            <a:xfrm>
              <a:off x="6084720" y="3842640"/>
              <a:ext cx="855720" cy="10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静夜思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100"/>
              </a:br>
              <a:r>
                <a:rPr b="0" lang="zh-CN" sz="1800" spc="-1" strike="noStrike" u="sng">
                  <a:solidFill>
                    <a:srgbClr val="009999"/>
                  </a:solidFill>
                  <a:uFillTx/>
                  <a:latin typeface="Arial"/>
                  <a:hlinkClick r:id="rId1"/>
                </a:rPr>
                <a:t>李白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7"/>
            <p:cNvSpPr/>
            <p:nvPr/>
          </p:nvSpPr>
          <p:spPr>
            <a:xfrm>
              <a:off x="3635280" y="4724280"/>
              <a:ext cx="61531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ˎ̥"/>
                </a:rPr>
                <a:t>床前明月光，疑是地上霜。</a:t>
              </a:r>
              <a:br>
                <a:rPr sz="1800"/>
              </a:b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ˎ̥"/>
                </a:rPr>
                <a:t>举头望明月，低头思故乡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3635280" y="4724280"/>
            <a:ext cx="6153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3635280" y="5516640"/>
            <a:ext cx="6153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635280" y="4724280"/>
            <a:ext cx="0" cy="79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9788400" y="4724280"/>
            <a:ext cx="0" cy="79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153080" y="536400"/>
            <a:ext cx="21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拓展学习</a:t>
            </a: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50920" y="2060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请采访一下你的家人或亲友，他们外出学习、务工的时候，过节是否思念故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和亲人，请亲身体会一下“每逢佳节倍思亲”的感情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4336920" y="1700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</a:rPr>
              <a:t>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439880" y="1413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"/>
          <p:cNvSpPr/>
          <p:nvPr/>
        </p:nvSpPr>
        <p:spPr>
          <a:xfrm flipH="1">
            <a:off x="3635280" y="2492280"/>
            <a:ext cx="720720" cy="10810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302280" y="3645000"/>
            <a:ext cx="4550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4788000" y="2492280"/>
            <a:ext cx="647640" cy="1008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175360" y="3641760"/>
            <a:ext cx="4550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7535520" y="5516640"/>
            <a:ext cx="8514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返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1040400" y="536400"/>
            <a:ext cx="184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字结构</a:t>
            </a: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296600" y="19954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4142160" y="155736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é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"/>
          <p:cNvSpPr/>
          <p:nvPr/>
        </p:nvSpPr>
        <p:spPr>
          <a:xfrm flipH="1">
            <a:off x="3708360" y="2637000"/>
            <a:ext cx="720720" cy="10810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370320" y="3774960"/>
            <a:ext cx="4550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4572000" y="2708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362840" y="3786120"/>
            <a:ext cx="4550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4716360" y="2637000"/>
            <a:ext cx="719280" cy="1008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313600" y="3786120"/>
            <a:ext cx="4550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7535520" y="5516640"/>
            <a:ext cx="8514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返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1040400" y="536400"/>
            <a:ext cx="184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字结构</a:t>
            </a: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"/>
          <p:cNvSpPr/>
          <p:nvPr/>
        </p:nvSpPr>
        <p:spPr>
          <a:xfrm>
            <a:off x="2077920" y="481644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4207680" y="2276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4213440" y="197316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è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 flipH="1">
            <a:off x="3492360" y="3284640"/>
            <a:ext cx="719280" cy="10810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4500720" y="3284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4788000" y="3284640"/>
            <a:ext cx="647640" cy="1008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138840" y="4506840"/>
            <a:ext cx="4550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4362840" y="4506840"/>
            <a:ext cx="4550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5370840" y="4506840"/>
            <a:ext cx="4550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7535520" y="5516640"/>
            <a:ext cx="8514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返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1040400" y="536400"/>
            <a:ext cx="184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字结构</a:t>
            </a: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A2CA-7EE7-47DF-9A5F-028D5039279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056760" y="6192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九月九日忆山东兄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4311000" y="1411200"/>
            <a:ext cx="11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王   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1947960"/>
            <a:ext cx="90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独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异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异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-34920" y="2778120"/>
            <a:ext cx="916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佳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73080" y="349884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遥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兄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处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-34920" y="421956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遍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茱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>
            <a:hlinkClick r:id="rId1"/>
          </p:cNvPr>
          <p:cNvSpPr/>
          <p:nvPr/>
        </p:nvSpPr>
        <p:spPr>
          <a:xfrm>
            <a:off x="8282160" y="3570120"/>
            <a:ext cx="576000" cy="289080"/>
          </a:xfrm>
          <a:custGeom>
            <a:avLst/>
            <a:gdLst>
              <a:gd name="textAreaLeft" fmla="*/ 18720 w 576000"/>
              <a:gd name="textAreaRight" fmla="*/ 557280 w 576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3012" h="21600">
                <a:moveTo>
                  <a:pt x="0" y="0"/>
                </a:moveTo>
                <a:lnTo>
                  <a:pt x="43012" y="0"/>
                </a:lnTo>
                <a:lnTo>
                  <a:pt x="43012" y="21600"/>
                </a:lnTo>
                <a:lnTo>
                  <a:pt x="0" y="21600"/>
                </a:lnTo>
                <a:close/>
              </a:path>
              <a:path fill="lightenLess" w="43012" h="21600">
                <a:moveTo>
                  <a:pt x="0" y="0"/>
                </a:moveTo>
                <a:lnTo>
                  <a:pt x="43012" y="0"/>
                </a:lnTo>
                <a:lnTo>
                  <a:pt x="41612" y="1400"/>
                </a:lnTo>
                <a:lnTo>
                  <a:pt x="1400" y="1400"/>
                </a:lnTo>
                <a:close/>
              </a:path>
              <a:path fill="darken" w="43012" h="21600">
                <a:moveTo>
                  <a:pt x="43012" y="0"/>
                </a:moveTo>
                <a:lnTo>
                  <a:pt x="43012" y="21600"/>
                </a:lnTo>
                <a:lnTo>
                  <a:pt x="41612" y="20200"/>
                </a:lnTo>
                <a:lnTo>
                  <a:pt x="41612" y="1400"/>
                </a:lnTo>
                <a:close/>
              </a:path>
              <a:path fill="darkenLess" w="43012" h="21600">
                <a:moveTo>
                  <a:pt x="43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12" y="20200"/>
                </a:lnTo>
                <a:close/>
              </a:path>
              <a:path fill="lighten" w="43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12" h="21600">
                <a:moveTo>
                  <a:pt x="14499" y="8406"/>
                </a:moveTo>
                <a:lnTo>
                  <a:pt x="18930" y="8406"/>
                </a:lnTo>
                <a:lnTo>
                  <a:pt x="23351" y="3794"/>
                </a:lnTo>
                <a:lnTo>
                  <a:pt x="23351" y="17806"/>
                </a:lnTo>
                <a:lnTo>
                  <a:pt x="18930" y="13194"/>
                </a:lnTo>
                <a:lnTo>
                  <a:pt x="14499" y="13194"/>
                </a:lnTo>
                <a:close/>
              </a:path>
              <a:path fill="darken" w="43012" h="21600">
                <a:moveTo>
                  <a:pt x="25005" y="10800"/>
                </a:moveTo>
                <a:lnTo>
                  <a:pt x="28512" y="10800"/>
                </a:lnTo>
              </a:path>
              <a:path fill="darken" w="43012" h="21600">
                <a:moveTo>
                  <a:pt x="25005" y="8406"/>
                </a:moveTo>
                <a:lnTo>
                  <a:pt x="28512" y="5639"/>
                </a:lnTo>
              </a:path>
              <a:path fill="darken" w="43012" h="21600">
                <a:moveTo>
                  <a:pt x="25005" y="13194"/>
                </a:moveTo>
                <a:lnTo>
                  <a:pt x="28512" y="15961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760320" y="37288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u=689996551,2325183970&amp;gp=2"/>
          <p:cNvPicPr/>
          <p:nvPr/>
        </p:nvPicPr>
        <p:blipFill>
          <a:blip r:embed="rId1"/>
          <a:stretch/>
        </p:blipFill>
        <p:spPr>
          <a:xfrm>
            <a:off x="0" y="1197000"/>
            <a:ext cx="2987640" cy="3672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3697560" y="476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Arial"/>
                <a:ea typeface="楷体_GB2312"/>
              </a:rPr>
              <a:t>王维生平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022560" y="1377720"/>
            <a:ext cx="60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9966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996600"/>
                </a:solidFill>
                <a:latin typeface="Arial"/>
              </a:rPr>
              <a:t>王维，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701</a:t>
            </a:r>
            <a:r>
              <a:rPr b="1" lang="zh-CN" sz="2400" spc="-1" strike="noStrike">
                <a:solidFill>
                  <a:srgbClr val="996600"/>
                </a:solidFill>
                <a:latin typeface="Arial"/>
              </a:rPr>
              <a:t>年生，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761</a:t>
            </a:r>
            <a:r>
              <a:rPr b="1" lang="zh-CN" sz="2400" spc="-1" strike="noStrike">
                <a:solidFill>
                  <a:srgbClr val="996600"/>
                </a:solidFill>
                <a:latin typeface="Arial"/>
              </a:rPr>
              <a:t>年逝世，祁（今山西祁县）人。唐诗人、画家。字摩诘。北宋苏轼称赞他“诗中有画，画中有诗”</a:t>
            </a:r>
            <a:r>
              <a:rPr b="1" lang="zh-CN" sz="2000" spc="-1" strike="noStrike">
                <a:solidFill>
                  <a:srgbClr val="996600"/>
                </a:solidFill>
                <a:latin typeface="Arial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022560" y="285264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996600"/>
                </a:solidFill>
                <a:latin typeface="Arial"/>
              </a:rPr>
              <a:t>九月九日忆山东兄弟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996600"/>
                </a:solidFill>
                <a:latin typeface="Arial"/>
              </a:rPr>
              <a:t>是诗人在十几岁时离开故乡到长安参加科举考试，到二十岁考中进士，在这段时间内，他一直漂波在外，自然产生思乡念亲之情。特别是在尤其是佳节到来之际，这种情感更为强烈。这首诗就是在这种情况下创作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4562640" y="1844640"/>
            <a:ext cx="11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王   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771640" y="2405160"/>
            <a:ext cx="45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独在异乡为异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3060720" y="2894040"/>
            <a:ext cx="1942560" cy="953280"/>
            <a:chOff x="3060720" y="2894040"/>
            <a:chExt cx="1942560" cy="953280"/>
          </a:xfrm>
        </p:grpSpPr>
        <p:sp>
          <p:nvSpPr>
            <p:cNvPr id="66" name="Text Box 5"/>
            <p:cNvSpPr/>
            <p:nvPr/>
          </p:nvSpPr>
          <p:spPr>
            <a:xfrm>
              <a:off x="3060720" y="2909880"/>
              <a:ext cx="8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Arial"/>
                </a:rPr>
                <a:t>fé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6"/>
            <p:cNvSpPr/>
            <p:nvPr/>
          </p:nvSpPr>
          <p:spPr>
            <a:xfrm>
              <a:off x="4142160" y="289404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Arial"/>
                </a:rPr>
                <a:t>bè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3581640" y="3270240"/>
              <a:ext cx="142164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每</a:t>
              </a:r>
              <a:r>
                <a:rPr b="0" lang="zh-CN" sz="2800" spc="-1" strike="noStrike" u="sng">
                  <a:solidFill>
                    <a:srgbClr val="009999"/>
                  </a:solidFill>
                  <a:uFillTx/>
                  <a:latin typeface="Arial"/>
                  <a:hlinkClick r:id="rId1" action="ppaction://hlinksldjump"/>
                </a:rPr>
                <a:t>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佳节</a:t>
              </a:r>
              <a:r>
                <a:rPr b="0" lang="zh-CN" sz="2800" spc="-1" strike="noStrike" u="sng">
                  <a:solidFill>
                    <a:srgbClr val="009999"/>
                  </a:solidFill>
                  <a:uFillTx/>
                  <a:latin typeface="Arial"/>
                  <a:hlinkClick r:id="rId2" action="ppaction://hlinksldjump"/>
                </a:rPr>
                <a:t>倍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思亲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Rectangle 8"/>
          <p:cNvSpPr/>
          <p:nvPr/>
        </p:nvSpPr>
        <p:spPr>
          <a:xfrm>
            <a:off x="3348720" y="38606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遥知兄弟登高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9"/>
          <p:cNvGrpSpPr/>
          <p:nvPr/>
        </p:nvGrpSpPr>
        <p:grpSpPr>
          <a:xfrm>
            <a:off x="3311280" y="4365720"/>
            <a:ext cx="1920960" cy="865080"/>
            <a:chOff x="3311280" y="4365720"/>
            <a:chExt cx="1920960" cy="865080"/>
          </a:xfrm>
        </p:grpSpPr>
        <p:sp>
          <p:nvSpPr>
            <p:cNvPr id="71" name="Text Box 10"/>
            <p:cNvSpPr/>
            <p:nvPr/>
          </p:nvSpPr>
          <p:spPr>
            <a:xfrm>
              <a:off x="3311280" y="4365720"/>
              <a:ext cx="126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Arial"/>
                </a:rPr>
                <a:t>Zhū y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95600" y="4710240"/>
              <a:ext cx="173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遍插</a:t>
              </a:r>
              <a:r>
                <a:rPr b="1" lang="zh-CN" sz="2800" spc="-1" strike="noStrike">
                  <a:solidFill>
                    <a:srgbClr val="0066ff"/>
                  </a:solidFill>
                  <a:latin typeface="Arial"/>
                </a:rPr>
                <a:t>茱萸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少一人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2"/>
          <p:cNvGrpSpPr/>
          <p:nvPr/>
        </p:nvGrpSpPr>
        <p:grpSpPr>
          <a:xfrm>
            <a:off x="3224880" y="955800"/>
            <a:ext cx="2374920" cy="956880"/>
            <a:chOff x="3224880" y="955800"/>
            <a:chExt cx="2374920" cy="956880"/>
          </a:xfrm>
        </p:grpSpPr>
        <p:sp>
          <p:nvSpPr>
            <p:cNvPr id="74" name="Rectangle 13"/>
            <p:cNvSpPr/>
            <p:nvPr/>
          </p:nvSpPr>
          <p:spPr>
            <a:xfrm>
              <a:off x="3224880" y="1265400"/>
              <a:ext cx="23749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九月九日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Arial"/>
                  <a:hlinkClick r:id="rId3" action="ppaction://hlinksldjump"/>
                </a:rPr>
                <a:t>忆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山东兄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4"/>
            <p:cNvSpPr/>
            <p:nvPr/>
          </p:nvSpPr>
          <p:spPr>
            <a:xfrm>
              <a:off x="4212720" y="9558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Arial"/>
                </a:rPr>
                <a:t>y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15"/>
          <p:cNvSpPr/>
          <p:nvPr/>
        </p:nvSpPr>
        <p:spPr>
          <a:xfrm>
            <a:off x="3894120" y="4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课文朗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>
            <a:hlinkClick r:id="rId4" action="ppaction://hlinksldjump"/>
          </p:cNvPr>
          <p:cNvSpPr/>
          <p:nvPr/>
        </p:nvSpPr>
        <p:spPr>
          <a:xfrm>
            <a:off x="6598440" y="5877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朗读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594360" y="549360"/>
            <a:ext cx="218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00"/>
                </a:solidFill>
                <a:latin typeface="Arial"/>
              </a:rPr>
              <a:t>[</a:t>
            </a:r>
            <a:r>
              <a:rPr b="1" lang="zh-CN" sz="6000" spc="-1" strike="noStrike">
                <a:solidFill>
                  <a:srgbClr val="996600"/>
                </a:solidFill>
                <a:latin typeface="Arial"/>
              </a:rPr>
              <a:t>注释</a:t>
            </a:r>
            <a:r>
              <a:rPr b="1" lang="en-US" sz="6000" spc="-1" strike="noStrike">
                <a:solidFill>
                  <a:srgbClr val="996600"/>
                </a:solidFill>
                <a:latin typeface="Arial"/>
              </a:rPr>
              <a:t>]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870840" y="16876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九月九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539640" y="26798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748800" y="333216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山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748800" y="426708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异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10000" y="520236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为异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2415240" y="26701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Arial"/>
              </a:rPr>
              <a:t>想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898080" y="33066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Arial"/>
              </a:rPr>
              <a:t>指华山以东，作者家乡蒲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2755800" y="420696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Arial"/>
              </a:rPr>
              <a:t>他乡、外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3195000" y="51530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Arial"/>
              </a:rPr>
              <a:t>作他乡的客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2"/>
          <p:cNvGrpSpPr/>
          <p:nvPr/>
        </p:nvGrpSpPr>
        <p:grpSpPr>
          <a:xfrm>
            <a:off x="2628720" y="1714680"/>
            <a:ext cx="4068720" cy="825480"/>
            <a:chOff x="2628720" y="1714680"/>
            <a:chExt cx="4068720" cy="825480"/>
          </a:xfrm>
        </p:grpSpPr>
        <p:sp>
          <p:nvSpPr>
            <p:cNvPr id="89" name="Rectangle 13"/>
            <p:cNvSpPr/>
            <p:nvPr/>
          </p:nvSpPr>
          <p:spPr>
            <a:xfrm>
              <a:off x="5373720" y="1714680"/>
              <a:ext cx="132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6600"/>
                  </a:solidFill>
                  <a:latin typeface="Arial"/>
                </a:rPr>
                <a:t>      </a:t>
              </a:r>
              <a:r>
                <a:rPr b="1" lang="zh-CN" sz="2400" spc="-1" strike="noStrike">
                  <a:solidFill>
                    <a:srgbClr val="996600"/>
                  </a:solidFill>
                  <a:latin typeface="Arial"/>
                </a:rPr>
                <a:t>指阴历九月初九，即重阳节。这一天有登高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6600"/>
                  </a:solidFill>
                  <a:latin typeface="Arial"/>
                </a:rPr>
                <a:t>佩带茱萸、喝菊花酒的风俗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4"/>
            <p:cNvSpPr/>
            <p:nvPr/>
          </p:nvSpPr>
          <p:spPr>
            <a:xfrm>
              <a:off x="2628720" y="1808280"/>
              <a:ext cx="5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è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594360" y="549360"/>
            <a:ext cx="218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00"/>
                </a:solidFill>
                <a:latin typeface="Arial"/>
              </a:rPr>
              <a:t>[</a:t>
            </a:r>
            <a:r>
              <a:rPr b="1" lang="zh-CN" sz="6000" spc="-1" strike="noStrike">
                <a:solidFill>
                  <a:srgbClr val="996600"/>
                </a:solidFill>
                <a:latin typeface="Arial"/>
              </a:rPr>
              <a:t>注释</a:t>
            </a:r>
            <a:r>
              <a:rPr b="1" lang="en-US" sz="6000" spc="-1" strike="noStrike">
                <a:solidFill>
                  <a:srgbClr val="996600"/>
                </a:solidFill>
                <a:latin typeface="Arial"/>
              </a:rPr>
              <a:t>]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687960" y="198900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687960" y="29433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748800" y="396396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登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88760" y="513252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茱萸（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zhū yú 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780920" y="19954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Arial"/>
              </a:rPr>
              <a:t>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2079000" y="2924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Arial"/>
              </a:rPr>
              <a:t>格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3520080" y="3933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Arial"/>
              </a:rPr>
              <a:t>古有重阳节登高的风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0"/>
          <p:cNvGrpSpPr/>
          <p:nvPr/>
        </p:nvGrpSpPr>
        <p:grpSpPr>
          <a:xfrm>
            <a:off x="4860720" y="4797360"/>
            <a:ext cx="3469680" cy="794520"/>
            <a:chOff x="4860720" y="4797360"/>
            <a:chExt cx="3469680" cy="794520"/>
          </a:xfrm>
        </p:grpSpPr>
        <p:sp>
          <p:nvSpPr>
            <p:cNvPr id="100" name="Rectangle 11"/>
            <p:cNvSpPr/>
            <p:nvPr/>
          </p:nvSpPr>
          <p:spPr>
            <a:xfrm>
              <a:off x="6031080" y="513216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6600"/>
                  </a:solidFill>
                  <a:latin typeface="Arial"/>
                </a:rPr>
                <a:t>一种落叶小乔木，有浓烈香味，茎可入药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2"/>
            <p:cNvSpPr/>
            <p:nvPr/>
          </p:nvSpPr>
          <p:spPr>
            <a:xfrm>
              <a:off x="4860720" y="486864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qiá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3"/>
            <p:cNvSpPr/>
            <p:nvPr/>
          </p:nvSpPr>
          <p:spPr>
            <a:xfrm>
              <a:off x="7698600" y="4797360"/>
              <a:ext cx="63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jī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755640" y="23515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996600"/>
                </a:solidFill>
                <a:latin typeface="Arial"/>
              </a:rPr>
              <a:t>诗人一开头便紧急切题，写异乡异土生活的孤独凄然，因而时时怀乡思人，遇到佳节良辰，思念倍加。接着诗一跃而写远在家乡的兄弟，按照重阳的风俗而登高时，也在怀念自己。诗意反复跳跃，含蓄深沉，既朴素自然，又曲折有致。“每逢佳节倍思亲”千百年来，成为游子思念的名言，打动多少游子离人之心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771840" y="169920"/>
            <a:ext cx="12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996600"/>
                </a:solidFill>
                <a:latin typeface="Arial"/>
              </a:rPr>
              <a:t>评析</a:t>
            </a: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153080" y="536400"/>
            <a:ext cx="21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课后练习</a:t>
            </a: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4761720" y="18446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读诗句，注意带点字，说说句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4282560" y="33577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Arial"/>
              </a:rPr>
              <a:t>独在异乡为异客，每逢佳节倍思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135520" y="285912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359520" y="285912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6239520" y="285912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2412000" y="4508280"/>
            <a:ext cx="466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维独自一人在他乡求学，重阳佳节这天，看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家户户欢度节日的热闹场面，想起了在家乡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兄弟们欢聚的情景，思乡之情愈发浓了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1080000" y="907920"/>
            <a:ext cx="21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填字练习</a:t>
            </a: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270080" y="3429000"/>
            <a:ext cx="730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加（      ）             （       ）补                      记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（       ）诵             相（       ）                     技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42320" y="2903400"/>
            <a:ext cx="333000" cy="39888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389960" y="2924280"/>
            <a:ext cx="333000" cy="39888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729960" y="2924280"/>
            <a:ext cx="333000" cy="39888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4396680" y="2924280"/>
            <a:ext cx="333000" cy="39888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7798680" y="2951280"/>
            <a:ext cx="333000" cy="39888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8428680" y="2951280"/>
            <a:ext cx="333000" cy="39888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45087E-006 L 0.06996 0.08878 E">
                                      <p:cBhvr>
                                        <p:cTn id="103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32948E-006 L -0.02448 0.20116 E">
                                      <p:cBhvr>
                                        <p:cTn id="10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9.24855E-007 L 0.08664 0.20971 E">
                                      <p:cBhvr>
                                        <p:cTn id="111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91329E-006 L -0.04722 0.09433 E">
                                      <p:cBhvr>
                                        <p:cTn id="115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89017E-007 L 0.06302 0.0837 E">
                                      <p:cBhvr>
                                        <p:cTn id="11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0185 L -0.01476 0.19538 E">
                                      <p:cBhvr>
                                        <p:cTn id="123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20:19:0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6:36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