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FC8A-9C63-4279-A806-5088B0E3267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76A-E9C0-4D47-ACD4-7E1E9AEF962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404-60BB-433C-9C46-A7391C96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F32-021D-45F4-8223-42EC2BAC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A6F-2AB2-4CB4-8284-ECC91C9A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B7B-3F17-4ECE-BC64-97698391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628-053F-43BA-9433-C08033A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49E0-F068-43F0-9657-8A4B41F2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56F8-10F6-4A96-B840-9ECA8EB8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94BF-A859-4126-99E2-F345333B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A7B-CFF5-4FE0-9BBD-7770161B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B2A-C820-436E-AB11-E9FD389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C39-6C62-4AFA-ADDA-C888C2C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5F4-88D3-46AF-8A72-44030586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D4BD-FA55-40DE-B515-62BABED8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542D-0EF1-440D-A176-E2CEA090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1A7-0BFF-431C-996D-F89FBA08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D590-57D6-493F-8745-D800786D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6FF-92B5-4220-AAF9-F9D6E248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FA2-E7E0-4BEC-ADF5-97A73B9A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C1D-1E0C-492C-859F-2D3D5D1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71C-1A6D-460D-AA18-9320D0D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422-8D14-4E6D-9094-D453155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436-807E-41E8-A589-D0DFBE6B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238-A0C8-4CB9-8052-5E99EE03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DD6-0C4C-42A7-B7CB-7AA212D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A795-F37A-41C0-A2A3-26C04652A75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07B9-C460-4E08-A36E-CC8218EF034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68360" y="682560"/>
            <a:ext cx="5327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445400" y="6021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20AE-BD4E-4F8C-8CA7-A9BBC3404B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学习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理解课文内容，激发热爱春天的情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会写田字格中的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个生字，做到笔顺正确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CW.jpg"/>
          <p:cNvPicPr/>
          <p:nvPr/>
        </p:nvPicPr>
        <p:blipFill>
          <a:blip r:embed="rId2"/>
          <a:stretch/>
        </p:blipFill>
        <p:spPr>
          <a:xfrm>
            <a:off x="357120" y="657360"/>
            <a:ext cx="4357800" cy="3644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" descr="QW.jpg"/>
          <p:cNvPicPr/>
          <p:nvPr/>
        </p:nvPicPr>
        <p:blipFill>
          <a:blip r:embed="rId3"/>
          <a:stretch/>
        </p:blipFill>
        <p:spPr>
          <a:xfrm>
            <a:off x="1785960" y="3714840"/>
            <a:ext cx="4500720" cy="249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5796000" y="765000"/>
            <a:ext cx="26956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250920" y="155736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洋洋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伸懒腰  惊醒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蛇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纷纷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刺猬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团    温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    叫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唤   吵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1" lang="zh-CN" sz="5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地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快</a:t>
            </a:r>
            <a:r>
              <a:rPr b="1" lang="zh-CN" sz="5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地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363852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字学习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" descr="nainiuBK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95280" y="7858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轰隆一声春雷，惊醒了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金蛇。小金蛇伸伸懒腰，爬出洞穴，感到暖融融的。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nainiuBK.jpg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4"/>
          <p:cNvSpPr/>
          <p:nvPr/>
        </p:nvSpPr>
        <p:spPr>
          <a:xfrm>
            <a:off x="285840" y="114300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它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忙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唤醒同伴们：“喂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来了，快起来呀！”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571680" y="1357200"/>
            <a:ext cx="807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醒后的动物们纷纷来到大</a:t>
            </a:r>
            <a:r>
              <a:rPr b="1" lang="zh-CN" sz="6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地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i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ǔ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í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刺猬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忸  怩</a:t>
            </a:r>
            <a:r>
              <a:rPr b="1" lang="zh-CN" sz="6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地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出洞穴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324000" y="1557360"/>
            <a:ext cx="835164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四节气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雨惊春清谷天，夏满芒夏暑相连。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秋处露秋寒霜降，冬雪雪冬小大寒。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月两节不变更，最多相差一两天。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半年来六廿一，下半年是八廿三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2"/>
          <p:cNvSpPr/>
          <p:nvPr/>
        </p:nvSpPr>
        <p:spPr>
          <a:xfrm>
            <a:off x="468360" y="155736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四节气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月小寒接大寒， 二月立春雨水连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月惊蛰又春分， 四月清明谷雨天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月立夏小满来，六月芒种夏至间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月小暑大暑到，八月立秋处暑连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月白鹭与秋分， 十月寒露霜降连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月立冬和小雪，十二月大雪冬至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950760" y="5557680"/>
            <a:ext cx="55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4:51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27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