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8957B-A550-4FFF-A55C-8ABB664F494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11867-1C45-4FAE-87FA-B46B8417DB8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B86F-B25C-4D3B-9CC6-847F69F85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3B1E-3CCA-44F6-AA4E-AEBEA1626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3391-E795-404D-BD7D-9356B4369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363E-E19E-4BAD-8809-B5FE8F0AF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9CC5-5EED-47FE-9973-C21B70362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CBAE-CD71-40B0-86CE-5962CA0B4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156F-C931-46D3-AA0E-435D66760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7A38-1497-4176-9A80-7DF56C2B5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4412-52EF-44A3-B0FB-2AAA07D2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A900-172E-4757-A446-BA55A661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B7B2-12F1-464B-A33D-D4B78968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6FD4-6275-479A-B8F4-95971A31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30262-5A00-4321-B3D9-80AC1AF14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1"/>
          <p:cNvSpPr/>
          <p:nvPr/>
        </p:nvSpPr>
        <p:spPr>
          <a:xfrm>
            <a:off x="2771640" y="1557360"/>
            <a:ext cx="45370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c00000"/>
                </a:solidFill>
                <a:latin typeface="华文隶书"/>
                <a:ea typeface="华文隶书"/>
              </a:rPr>
              <a:t>惊蛰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2293560" y="472428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7280" y="2133360"/>
            <a:ext cx="777240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请同学们自己朗读课文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思考：课文中都提到了哪几个小动物？在文中勾出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7320"/>
          </a:xfrm>
          <a:prstGeom prst="rect">
            <a:avLst/>
          </a:prstGeom>
          <a:ln w="0">
            <a:noFill/>
          </a:ln>
        </p:spPr>
      </p:pic>
      <p:sp>
        <p:nvSpPr>
          <p:cNvPr id="66" name="文本框 1"/>
          <p:cNvSpPr/>
          <p:nvPr/>
        </p:nvSpPr>
        <p:spPr>
          <a:xfrm>
            <a:off x="1994040" y="6045120"/>
            <a:ext cx="618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187280" y="1773360"/>
            <a:ext cx="7561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本课文以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童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形式，介绍了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各种小动物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春天阳光的照耀下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苏醒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过来。表达了作者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对春天的喜爱之情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赞美了春天的大地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处处生机勃勃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景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E962E-9425-4EDC-A16F-A27BD9A45C0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331640" y="1557000"/>
            <a:ext cx="800244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要求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请同学们听多媒体朗读课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数一数，这篇课文一共有几个自然段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请同学分段朗读课文，要求读准字音，读通句子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会认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332000" y="2276640"/>
            <a:ext cx="74880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jīng xǐng    jīn shé    shēn lǎn yāo     dòng xué    gǎn ju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惊醒     金蛇    伸懒腰      洞穴    感觉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uànxǐng     kuài lái        fēn fēi          cì wèi         yì tuá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唤醒      快来    纷飞     刺猬     一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hǎo nào     dà dì        wēn nuǎ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吵闹    大地    温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5"/>
          <p:cNvSpPr/>
          <p:nvPr/>
        </p:nvSpPr>
        <p:spPr>
          <a:xfrm>
            <a:off x="3708360" y="609300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63280" y="2060640"/>
            <a:ext cx="6985080" cy="30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通过朗读课文，你知道了什么？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你还知道哪些冬眠的小动物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25200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5T06:41:3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15:24Z</dcterms:modified>
  <cp:revision>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