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16.png" ContentType="image/png"/>
  <Override PartName="/ppt/media/chimes.wav" ContentType="audio/x-wav"/>
  <Override PartName="/ppt/media/image20.png" ContentType="image/png"/>
  <Override PartName="/ppt/media/image7.jpeg" ContentType="image/jpeg"/>
  <Override PartName="/ppt/media/image15.gif" ContentType="image/gif"/>
  <Override PartName="/ppt/media/%E6%8F%90%E9%97%AE%E6%97%B6%E5%A5%8F%E5%B9%BB%E6%83%B3%E7%A9%BA%E9%97%B4.wav" ContentType="audio/x-wav"/>
  <Override PartName="/ppt/media/image9.gif" ContentType="image/gif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27.gif" ContentType="image/gif"/>
  <Override PartName="/ppt/media/image3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23.png" ContentType="image/png"/>
  <Override PartName="/ppt/media/camera.wav" ContentType="audio/x-wav"/>
  <Override PartName="/ppt/media/image22.png" ContentType="image/png"/>
  <Override PartName="/ppt/media/image14.wmf" ContentType="image/x-wmf"/>
  <Override PartName="/ppt/media/image17.png" ContentType="image/png"/>
  <Override PartName="/ppt/media/image18.jpeg" ContentType="image/jpeg"/>
  <Override PartName="/ppt/media/image21.wmf" ContentType="image/x-wmf"/>
  <Override PartName="/ppt/media/image6.jpeg" ContentType="image/jpe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D243-64AA-4EF7-86BA-A2356CB313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CADA-808F-4911-835B-18E11BCF11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078-ED5C-4F0C-85D9-8D1D4E95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117-854B-474F-A5EF-F36EFB92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6A73C-39EB-4A79-9D70-8D6A24C2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74EF-B1C8-42F7-8373-85592DE7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C5D46-F7F8-41E3-8E9C-2CEAAD0C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953D1-9B19-4A2B-9B26-DDB4987D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262BB-551F-4B69-8F0B-F534E1B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6D8AB-8316-47A8-BB51-8AB2022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1A6AB-7C3A-48DD-A9EE-9C2CEA75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0C468-1ABD-41BA-B6FB-5F232F51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3787E-7B59-444F-8276-6EA2281D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B2133-348C-4107-B7A2-736B38BC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1B2-87BF-43A6-B92F-B9CA4731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9F8F3-A80A-4A8F-971D-08D8B480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ED2A5-6720-46D5-BE6E-83118B92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CD279-7BBB-4F52-B500-8C339D5B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DB03C-6328-4A31-98F7-53CA2033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57B23-57A1-4951-9D8D-CD085BCA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C3B89-0C02-4542-BE6C-3362B01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0370A-2DC0-4446-9D9B-881975AF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0F91D-0E6E-4187-A573-56B58CD9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40F3F-56E2-45E5-AF06-95839EB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E8B42-2ED8-4980-B7BC-7B486D91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4F9-52AB-48B7-8053-7EF8396C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96CAE-3723-4800-A7CF-33F7BD16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265FD-DCB3-48E9-8945-3BF77E64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007B1-E52F-4D20-A0A4-802166A9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C0855-CABB-4EB8-A3B5-4C668276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684E9-BA77-43D3-9119-5A7898C8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2779D-E1B0-4507-B18C-6364C16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5CD03-1A83-4C1F-B5BF-45B51AEE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8FF9C-EEC4-4909-B183-E31EE91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471D4-9B5B-4173-85C0-76D84C42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24DE9-7E97-44B4-A8E0-164F59A1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9A06-F7ED-41D8-804E-DFDD1B75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719CB-7FC9-4753-9A54-83E90BD6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D634D-FA5E-4199-AAE0-96EC52FC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11DD9-BED4-4A97-8712-F53506E8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2F01D-87AC-4101-866C-F26E254D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F82F2-F1A9-4A9F-B802-D0DE776A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8258C-0057-4FBB-A564-E61ECDF0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F84DF-366C-4491-BDDF-0284596A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9C26A-CD77-4559-B9F8-7A0C8626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F7813-8858-487D-8EDA-4866015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913DB-78F3-425F-A3D5-92C7D86E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587D-857F-42A8-9313-88B654C0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ACEC7-A8C2-4A0D-ACFC-80906255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7A3D0-A643-4F0E-80B0-F4722936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56C59-0628-4522-8B16-8063753C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036B7-5E58-443D-BC1C-616E7590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32D93-98E3-491F-BEEC-5B5ACB73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6F4F-D165-4C2B-A972-CC997BAC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E9DD-7CA7-4ECF-8DB9-0DF7C4F7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4E9C-EABE-46BC-9D3E-FE3C0708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77CC-EE53-4989-AAC7-61922E49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9913-105C-4449-A589-7314E4F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D80-83FC-446E-B787-A7BB3557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1CA0-6E0B-46E1-96DB-62361F4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A14A-5900-4AA6-BCE0-E6C7E39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1538-103D-43B1-A919-CF795D93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CB08-E23B-4232-88AE-F3BED429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9853-DF82-403A-9A73-DB045E95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37E0-646C-4CE9-A729-7E9F79A4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E2B4-9827-4772-8CCA-B5172276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A8AF-1EC9-4E10-BE1D-72C5234C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0A4A-B071-4621-AA0F-2EB4FBE6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F46A-D186-4AAC-BAE6-AB7E0839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AD5-94C2-4821-8A69-21F4B082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BE71-A4A3-4927-8D44-3045F195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7E00-15F0-41CD-8DEE-40ECD5A0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8651-26F1-4722-AFBD-4103C32F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D245-B657-49D7-9A3F-F3B81578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BCC6-ECA0-4BB2-A525-8115ACB6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5A29-1CD5-41B5-9AE9-6FF7A889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68BB-31B4-459B-A113-BA5B34CB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F0CF-F0F2-41CA-85AE-9E2FBAA3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5EC1-666A-4611-A56C-F7131A26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75B1-0426-4A24-B6AE-AD1384F0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533-057E-47AC-8491-03A876F0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80F6D-26CB-4758-AF23-272DCB79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EC248-FF37-4724-BD68-811FB0FE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9E91D-1DA1-4896-B0E0-975166F9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11E5-15F8-4CAF-AE86-D30DB80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16431-B2EA-44B4-95BB-A01033A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204C-305E-4814-8007-9B6C905F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5A07-24E7-4D58-AAA4-1B8ACE7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C7DB0-5EB2-40ED-9C64-B01B220E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8EDD-EE3F-4C31-BA25-1F2A5F90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DD0BF-28D0-45D8-BFA8-71064F69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11F-CE70-402D-921E-05270F50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CFDF5-E706-42B7-9A43-9DD8163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BAC36-C2CC-4553-9838-BAB05DBE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BF51-DCB3-4178-978C-D7FEF62B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C725-C9FC-44D2-995B-69669DD9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B3A4-74BE-4782-ABF7-E856413D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0621C-FBDA-40A9-A806-599A755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529C9-C568-4860-BD6D-C08195FE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C5F2-DC3A-4E16-ADD0-A524832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81CC2-F5E3-4E08-AE7C-AB74A84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9AB85-7691-4947-A426-F4A9A94D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07F-E1A7-40C5-8C47-FEE512F6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8A41-9321-4F04-ABD4-CFB5B100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8F04-72D4-4CA0-8E3E-10D5D21A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CD337-6A78-4B5E-A16A-6E81DEC0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F56D-C2B2-4EFF-B60D-A975DE6D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051D7-6420-4AB7-98A6-9B300F5C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53280-264F-41C5-A152-9473131F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9B3A-36EC-42D1-B829-5D2C7F73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8BBD-E59C-438A-A424-96BE42D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34F3-C773-420F-B0E3-FD49A07A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8FF34-BE81-4E2E-9511-6DA2ED4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9CF-05D4-40BA-B365-DF1AF623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4A595-8F7D-4DF2-9CF6-B118C9BD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9448-BAB1-4A5C-9B68-86B3C5A1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C2967-9CAB-4A00-91FD-A0566054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88864-2F84-4CCA-8E22-D136A87D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0B8A5-ACD9-4E1C-B8A9-37ACAF36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1B33-31BE-4BB1-B83C-FCBA9052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DFC9B-C3D4-4351-8064-74ED200E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6CBED-1623-411E-BE24-1C4B8DBE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87467-2F09-457F-B952-0533D098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F5040-460C-423E-80B5-128E541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08E-3AB7-4648-9675-1F17261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CBC73-810A-4D0B-A5A4-BB860E7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41543-2CC3-4514-9CA6-02C0531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9AA05-E700-412E-B468-31977EE0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FCAD-8A14-4CA4-94B6-32AD04C6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8C77F-82C3-4CDD-A4A3-443DE7CF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59F7C-F859-4F5F-A98E-3CC850F8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D6B1B-F5D0-4C79-A001-95F73816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25515-C4CF-45D0-9AF4-8CF77F0E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11DF4-C93E-4621-9CA7-172F6682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6E4AD-7E81-4010-AB91-7275B388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9FF-0D6D-49DD-8A49-4D187858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51222-3546-488C-8155-1C26AF4D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539C1-04E1-4B66-BEBD-B083130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789D-EFC7-49F5-A1AC-6BC00D42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461D7-AE89-44D6-93B1-83E2F4AD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B019B-7514-42B0-9602-EC80686E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52E12-A832-4828-836D-EB8404CF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31DFC-358E-4F3A-B007-91F19121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2287F-8455-4CB2-BE08-D589CEAB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5A6A8-567B-4131-861B-79C2B0C4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97EA0-9914-4D07-AA34-A32D32F2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B287-9788-4771-88A7-53997D131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7296-C2A9-4701-9D05-BBFB00E53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883A-173A-4085-A6A1-3BA0CBE0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541-87D0-43A5-8B00-20B3FB063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F66C-F890-4AE5-AE66-E964C1DBA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1CC5-126A-41C7-A0F8-B64F29AB2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F2E1-8F67-4DF8-9461-DA3E014C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EA7F-BC65-45CE-942C-581522949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ACF6-D705-4336-B7E1-D73767039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CEE2-225D-4CFE-B210-17D135142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6C97-B9E4-4281-AA0D-D42FD732C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E0C6-45CC-48C9-9634-A98C86EF8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&#25552;&#38382;&#26102;&#22863;&#24187;&#24819;&#31354;&#38388;.wav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1" descr=""/>
          <p:cNvPicPr/>
          <p:nvPr/>
        </p:nvPicPr>
        <p:blipFill>
          <a:blip r:embed="rId1"/>
          <a:stretch/>
        </p:blipFill>
        <p:spPr>
          <a:xfrm>
            <a:off x="2062080" y="2554200"/>
            <a:ext cx="5040360" cy="3402000"/>
          </a:xfrm>
          <a:prstGeom prst="rect">
            <a:avLst/>
          </a:prstGeom>
          <a:ln w="0">
            <a:noFill/>
          </a:ln>
        </p:spPr>
      </p:pic>
      <p:pic>
        <p:nvPicPr>
          <p:cNvPr id="501" name="矩形 2" descr=""/>
          <p:cNvPicPr/>
          <p:nvPr/>
        </p:nvPicPr>
        <p:blipFill>
          <a:blip r:embed="rId2"/>
          <a:stretch/>
        </p:blipFill>
        <p:spPr>
          <a:xfrm>
            <a:off x="1911240" y="692280"/>
            <a:ext cx="5191200" cy="1861920"/>
          </a:xfrm>
          <a:prstGeom prst="rect">
            <a:avLst/>
          </a:prstGeom>
          <a:ln w="0">
            <a:noFill/>
          </a:ln>
        </p:spPr>
      </p:pic>
      <p:sp>
        <p:nvSpPr>
          <p:cNvPr id="502" name="矩形 7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D:\三國演義\map.jpg"/>
          <p:cNvPicPr/>
          <p:nvPr/>
        </p:nvPicPr>
        <p:blipFill>
          <a:blip r:embed="rId1"/>
          <a:stretch/>
        </p:blipFill>
        <p:spPr>
          <a:xfrm>
            <a:off x="990720" y="1600200"/>
            <a:ext cx="7848360" cy="50292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7"/>
          <p:cNvSpPr/>
          <p:nvPr/>
        </p:nvSpPr>
        <p:spPr>
          <a:xfrm>
            <a:off x="2666880" y="457200"/>
            <a:ext cx="3276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cc"/>
                </a:solidFill>
                <a:latin typeface="Times New Roman"/>
                <a:ea typeface="DFKai-SB"/>
              </a:rPr>
              <a:t>曹魏，東吳，蜀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3"/>
          <p:cNvSpPr/>
          <p:nvPr/>
        </p:nvSpPr>
        <p:spPr>
          <a:xfrm>
            <a:off x="642960" y="104760"/>
            <a:ext cx="3200400" cy="1752480"/>
          </a:xfrm>
          <a:prstGeom prst="cloudCallout">
            <a:avLst>
              <a:gd name="adj1" fmla="val -61162"/>
              <a:gd name="adj2" fmla="val 44291"/>
            </a:avLst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WordArt 4"/>
          <p:cNvSpPr txBox="1"/>
          <p:nvPr/>
        </p:nvSpPr>
        <p:spPr>
          <a:xfrm>
            <a:off x="1023840" y="104760"/>
            <a:ext cx="27432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猜猜他是谁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22701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135080" y="1773360"/>
            <a:ext cx="762012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华文行楷"/>
              </a:rPr>
              <a:t>　　　</a:t>
            </a:r>
            <a:r>
              <a:rPr b="1" lang="zh-CN" sz="3200" spc="-1" strike="noStrike">
                <a:solidFill>
                  <a:srgbClr val="33cc33"/>
                </a:solidFill>
                <a:latin typeface="Arial Narrow"/>
                <a:ea typeface="华文行楷"/>
              </a:rPr>
              <a:t>妙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 Narrow"/>
                <a:ea typeface="隶书"/>
              </a:rPr>
              <a:t>收二州，排八阵，七擒六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 Narrow"/>
                <a:ea typeface="隶书"/>
              </a:rPr>
              <a:t>五丈原头点四十九盏星灯，一心只望酬三顾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 Narrow"/>
                <a:ea typeface="隶书"/>
              </a:rPr>
              <a:t>取西蜀，定南蛮，东和北拒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 Narrow"/>
                <a:ea typeface="隶书"/>
              </a:rPr>
              <a:t>中军帐里变金木土革爻卦，水面偏能用火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华文行楷"/>
              </a:rPr>
              <a:t>             </a:t>
            </a:r>
            <a:r>
              <a:rPr b="1" lang="zh-CN" sz="3200" spc="-1" strike="noStrike">
                <a:solidFill>
                  <a:srgbClr val="33cc33"/>
                </a:solidFill>
                <a:latin typeface="Arial Narrow"/>
                <a:ea typeface="华文行楷"/>
              </a:rPr>
              <a:t>杜甫</a:t>
            </a:r>
            <a:r>
              <a:rPr b="1" lang="en-US" sz="3200" spc="-1" strike="noStrike">
                <a:solidFill>
                  <a:srgbClr val="33cc33"/>
                </a:solidFill>
                <a:latin typeface="Arial Narrow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cc33"/>
                </a:solidFill>
                <a:latin typeface="Arial Narrow"/>
                <a:ea typeface="华文行楷"/>
              </a:rPr>
              <a:t>蜀相</a:t>
            </a:r>
            <a:r>
              <a:rPr b="1" lang="en-US" sz="3200" spc="-1" strike="noStrike">
                <a:solidFill>
                  <a:srgbClr val="33cc33"/>
                </a:solidFill>
                <a:latin typeface="Arial Narrow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 Narrow"/>
                <a:ea typeface="隶书"/>
              </a:rPr>
              <a:t>三顾频频天下计，两朝开济老臣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 Narrow"/>
                <a:ea typeface="隶书"/>
              </a:rPr>
              <a:t>出师未捷身先死，长使英雄泪满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华文行楷"/>
              </a:rPr>
              <a:t>　　　</a:t>
            </a:r>
            <a:r>
              <a:rPr b="1" lang="zh-CN" sz="3200" spc="-1" strike="noStrike">
                <a:solidFill>
                  <a:srgbClr val="33cc33"/>
                </a:solidFill>
                <a:latin typeface="Arial Narrow"/>
                <a:ea typeface="华文行楷"/>
              </a:rPr>
              <a:t>陆游</a:t>
            </a:r>
            <a:r>
              <a:rPr b="1" lang="en-US" sz="3200" spc="-1" strike="noStrike">
                <a:solidFill>
                  <a:srgbClr val="33cc33"/>
                </a:solidFill>
                <a:latin typeface="Arial Narrow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33cc33"/>
                </a:solidFill>
                <a:latin typeface="Arial Narrow"/>
                <a:ea typeface="华文行楷"/>
              </a:rPr>
              <a:t>书愤</a:t>
            </a:r>
            <a:r>
              <a:rPr b="1" lang="en-US" sz="3200" spc="-1" strike="noStrike">
                <a:solidFill>
                  <a:srgbClr val="33cc33"/>
                </a:solidFill>
                <a:latin typeface="Arial Narrow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 Narrow"/>
                <a:ea typeface="隶书"/>
              </a:rPr>
              <a:t>出师一表真名世，千载谁堪伯仲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450800" y="155736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何去分析小说中的人物形象呢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通常我们从小说的故事情节入手。小说的情节一般可以分为开端、发展、高潮、结局四个阶段。本文虽是长篇节选，但是情节依然清晰完整。下面请大家根据情节，把课文分作四个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2"/>
          <p:cNvSpPr txBox="1"/>
          <p:nvPr/>
        </p:nvSpPr>
        <p:spPr>
          <a:xfrm>
            <a:off x="4952880" y="838080"/>
            <a:ext cx="2667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efde3"/>
                  </a:solidFill>
                  <a:round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故事情节：</a:t>
            </a:r>
            <a:endParaRPr b="1" lang="en-US" sz="2400" spc="1" strike="noStrike">
              <a:ln w="12600">
                <a:solidFill>
                  <a:srgbClr val="fefde3"/>
                </a:solidFill>
                <a:round/>
              </a:ln>
              <a:solidFill>
                <a:srgbClr val="cc99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44" name="Group 3"/>
          <p:cNvGrpSpPr/>
          <p:nvPr/>
        </p:nvGrpSpPr>
        <p:grpSpPr>
          <a:xfrm>
            <a:off x="7391520" y="50400"/>
            <a:ext cx="1294920" cy="7141320"/>
            <a:chOff x="7391520" y="50400"/>
            <a:chExt cx="1294920" cy="7141320"/>
          </a:xfrm>
        </p:grpSpPr>
        <p:pic>
          <p:nvPicPr>
            <p:cNvPr id="545" name="Object 4" descr=""/>
            <p:cNvPicPr/>
            <p:nvPr/>
          </p:nvPicPr>
          <p:blipFill>
            <a:blip r:embed="rId1"/>
            <a:stretch/>
          </p:blipFill>
          <p:spPr>
            <a:xfrm>
              <a:off x="7391520" y="457200"/>
              <a:ext cx="1265400" cy="11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 Box 5"/>
            <p:cNvSpPr/>
            <p:nvPr/>
          </p:nvSpPr>
          <p:spPr>
            <a:xfrm>
              <a:off x="8140320" y="50400"/>
              <a:ext cx="546120" cy="71413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efde3"/>
                  </a:solidFill>
                  <a:latin typeface="Times New Roman"/>
                  <a:ea typeface="幼圆"/>
                </a:rPr>
                <a:t>赶快看看你课文后的表格填写对了吗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6"/>
          <p:cNvGrpSpPr/>
          <p:nvPr/>
        </p:nvGrpSpPr>
        <p:grpSpPr>
          <a:xfrm>
            <a:off x="914400" y="457200"/>
            <a:ext cx="3885480" cy="1142640"/>
            <a:chOff x="914400" y="457200"/>
            <a:chExt cx="3885480" cy="1142640"/>
          </a:xfrm>
        </p:grpSpPr>
        <p:sp>
          <p:nvSpPr>
            <p:cNvPr id="548" name="AutoShape 7"/>
            <p:cNvSpPr/>
            <p:nvPr/>
          </p:nvSpPr>
          <p:spPr>
            <a:xfrm>
              <a:off x="914400" y="457200"/>
              <a:ext cx="3799440" cy="1142640"/>
            </a:xfrm>
            <a:prstGeom prst="horizontalScroll">
              <a:avLst>
                <a:gd name="adj" fmla="val 12500"/>
              </a:avLst>
            </a:prstGeom>
            <a:solidFill>
              <a:srgbClr val="cc00ff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8"/>
            <p:cNvGrpSpPr/>
            <p:nvPr/>
          </p:nvGrpSpPr>
          <p:grpSpPr>
            <a:xfrm>
              <a:off x="1000800" y="548280"/>
              <a:ext cx="3799080" cy="825480"/>
              <a:chOff x="1000800" y="548280"/>
              <a:chExt cx="3799080" cy="825480"/>
            </a:xfrm>
          </p:grpSpPr>
          <p:sp>
            <p:nvSpPr>
              <p:cNvPr id="550" name="Text Box 9"/>
              <p:cNvSpPr/>
              <p:nvPr/>
            </p:nvSpPr>
            <p:spPr>
              <a:xfrm>
                <a:off x="1000800" y="548280"/>
                <a:ext cx="3799080" cy="825480"/>
              </a:xfrm>
              <a:prstGeom prst="rect">
                <a:avLst/>
              </a:prstGeom>
              <a:solidFill>
                <a:srgbClr val="cc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  <a:ea typeface="幼圆"/>
                  </a:rPr>
                  <a:t>你能在这些课文内容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  <a:ea typeface="幼圆"/>
                  </a:rPr>
                  <a:t>标示出小说的情节要素吗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AutoShape 10"/>
              <p:cNvSpPr/>
              <p:nvPr/>
            </p:nvSpPr>
            <p:spPr>
              <a:xfrm>
                <a:off x="1000800" y="552240"/>
                <a:ext cx="438840" cy="581040"/>
              </a:xfrm>
              <a:custGeom>
                <a:avLst/>
                <a:gdLst>
                  <a:gd name="textAreaLeft" fmla="*/ 180720 w 438840"/>
                  <a:gd name="textAreaRight" fmla="*/ 258120 w 438840"/>
                  <a:gd name="textAreaTop" fmla="*/ 239400 h 581040"/>
                  <a:gd name="textAreaBottom" fmla="*/ 341640 h 58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c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27"/>
          <p:cNvGrpSpPr/>
          <p:nvPr/>
        </p:nvGrpSpPr>
        <p:grpSpPr>
          <a:xfrm>
            <a:off x="1371600" y="1981080"/>
            <a:ext cx="4952160" cy="685440"/>
            <a:chOff x="1371600" y="1981080"/>
            <a:chExt cx="4952160" cy="685440"/>
          </a:xfrm>
        </p:grpSpPr>
        <p:sp>
          <p:nvSpPr>
            <p:cNvPr id="553" name="Rectangle 28"/>
            <p:cNvSpPr/>
            <p:nvPr/>
          </p:nvSpPr>
          <p:spPr>
            <a:xfrm>
              <a:off x="1371600" y="1981080"/>
              <a:ext cx="1212840" cy="6854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29"/>
            <p:cNvSpPr/>
            <p:nvPr/>
          </p:nvSpPr>
          <p:spPr>
            <a:xfrm>
              <a:off x="2180160" y="2066400"/>
              <a:ext cx="41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兵临西城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自然段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6"/>
          <p:cNvGrpSpPr/>
          <p:nvPr/>
        </p:nvGrpSpPr>
        <p:grpSpPr>
          <a:xfrm>
            <a:off x="4191120" y="5029200"/>
            <a:ext cx="4647600" cy="1447920"/>
            <a:chOff x="4191120" y="5029200"/>
            <a:chExt cx="4647600" cy="1447920"/>
          </a:xfrm>
        </p:grpSpPr>
        <p:sp>
          <p:nvSpPr>
            <p:cNvPr id="556" name="Text Box 37"/>
            <p:cNvSpPr/>
            <p:nvPr/>
          </p:nvSpPr>
          <p:spPr>
            <a:xfrm>
              <a:off x="4191120" y="5919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Picture 38" descr="AG00223_"/>
            <p:cNvPicPr/>
            <p:nvPr/>
          </p:nvPicPr>
          <p:blipFill>
            <a:blip r:embed="rId2"/>
            <a:stretch/>
          </p:blipFill>
          <p:spPr>
            <a:xfrm>
              <a:off x="6933960" y="5029200"/>
              <a:ext cx="1904760" cy="144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Group 40"/>
          <p:cNvGrpSpPr/>
          <p:nvPr/>
        </p:nvGrpSpPr>
        <p:grpSpPr>
          <a:xfrm>
            <a:off x="1371600" y="2971800"/>
            <a:ext cx="5028840" cy="685440"/>
            <a:chOff x="1371600" y="2971800"/>
            <a:chExt cx="5028840" cy="685440"/>
          </a:xfrm>
        </p:grpSpPr>
        <p:sp>
          <p:nvSpPr>
            <p:cNvPr id="559" name="Rectangle 41"/>
            <p:cNvSpPr/>
            <p:nvPr/>
          </p:nvSpPr>
          <p:spPr>
            <a:xfrm>
              <a:off x="1371600" y="2971800"/>
              <a:ext cx="1231560" cy="6854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发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2"/>
            <p:cNvSpPr/>
            <p:nvPr/>
          </p:nvSpPr>
          <p:spPr>
            <a:xfrm>
              <a:off x="2192760" y="3057120"/>
              <a:ext cx="42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临危施计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自然段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43"/>
          <p:cNvGrpSpPr/>
          <p:nvPr/>
        </p:nvGrpSpPr>
        <p:grpSpPr>
          <a:xfrm>
            <a:off x="1371600" y="4114800"/>
            <a:ext cx="4952160" cy="685440"/>
            <a:chOff x="1371600" y="4114800"/>
            <a:chExt cx="4952160" cy="685440"/>
          </a:xfrm>
        </p:grpSpPr>
        <p:sp>
          <p:nvSpPr>
            <p:cNvPr id="562" name="Rectangle 44"/>
            <p:cNvSpPr/>
            <p:nvPr/>
          </p:nvSpPr>
          <p:spPr>
            <a:xfrm>
              <a:off x="1371600" y="4114800"/>
              <a:ext cx="1212840" cy="6854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高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5"/>
            <p:cNvSpPr/>
            <p:nvPr/>
          </p:nvSpPr>
          <p:spPr>
            <a:xfrm>
              <a:off x="2180160" y="4200120"/>
              <a:ext cx="41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司马中计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自然段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6"/>
          <p:cNvGrpSpPr/>
          <p:nvPr/>
        </p:nvGrpSpPr>
        <p:grpSpPr>
          <a:xfrm>
            <a:off x="1371600" y="5181480"/>
            <a:ext cx="4952160" cy="685440"/>
            <a:chOff x="1371600" y="5181480"/>
            <a:chExt cx="4952160" cy="685440"/>
          </a:xfrm>
        </p:grpSpPr>
        <p:sp>
          <p:nvSpPr>
            <p:cNvPr id="565" name="Rectangle 47"/>
            <p:cNvSpPr/>
            <p:nvPr/>
          </p:nvSpPr>
          <p:spPr>
            <a:xfrm>
              <a:off x="1371600" y="5181480"/>
              <a:ext cx="1212840" cy="6854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结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48"/>
            <p:cNvSpPr/>
            <p:nvPr/>
          </p:nvSpPr>
          <p:spPr>
            <a:xfrm>
              <a:off x="2180160" y="5266800"/>
              <a:ext cx="41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1bd69"/>
                  </a:solidFill>
                  <a:latin typeface="Times New Roman"/>
                  <a:ea typeface="幼圆"/>
                </a:rPr>
                <a:t>        </a:t>
              </a:r>
              <a:r>
                <a:rPr b="0" lang="zh-CN" sz="2400" spc="-1" strike="noStrike">
                  <a:solidFill>
                    <a:srgbClr val="a1bd69"/>
                  </a:solidFill>
                  <a:latin typeface="Times New Roman"/>
                  <a:ea typeface="幼圆"/>
                </a:rPr>
                <a:t>孔明释计（</a:t>
              </a:r>
              <a:r>
                <a:rPr b="0" lang="en-US" sz="2400" spc="-1" strike="noStrike">
                  <a:solidFill>
                    <a:srgbClr val="a1bd69"/>
                  </a:solidFill>
                  <a:latin typeface="Times New Roman"/>
                  <a:ea typeface="幼圆"/>
                </a:rPr>
                <a:t>5</a:t>
              </a:r>
              <a:r>
                <a:rPr b="0" lang="zh-CN" sz="2400" spc="-1" strike="noStrike">
                  <a:solidFill>
                    <a:srgbClr val="a1bd69"/>
                  </a:solidFill>
                  <a:latin typeface="Times New Roman"/>
                  <a:ea typeface="幼圆"/>
                </a:rPr>
                <a:t>、</a:t>
              </a:r>
              <a:r>
                <a:rPr b="0" lang="en-US" sz="2400" spc="-1" strike="noStrike">
                  <a:solidFill>
                    <a:srgbClr val="a1bd69"/>
                  </a:solidFill>
                  <a:latin typeface="Times New Roman"/>
                  <a:ea typeface="幼圆"/>
                </a:rPr>
                <a:t>6</a:t>
              </a:r>
              <a:r>
                <a:rPr b="0" lang="zh-CN" sz="2400" spc="-1" strike="noStrike">
                  <a:solidFill>
                    <a:srgbClr val="a1bd69"/>
                  </a:solidFill>
                  <a:latin typeface="Times New Roman"/>
                  <a:ea typeface="幼圆"/>
                </a:rPr>
                <a:t>自然段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AutoShape 50"/>
          <p:cNvSpPr/>
          <p:nvPr/>
        </p:nvSpPr>
        <p:spPr>
          <a:xfrm>
            <a:off x="3962520" y="243828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51"/>
          <p:cNvSpPr/>
          <p:nvPr/>
        </p:nvSpPr>
        <p:spPr>
          <a:xfrm>
            <a:off x="3962520" y="35053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52"/>
          <p:cNvSpPr/>
          <p:nvPr/>
        </p:nvSpPr>
        <p:spPr>
          <a:xfrm>
            <a:off x="3962520" y="46483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26"/>
          <p:cNvSpPr/>
          <p:nvPr/>
        </p:nvSpPr>
        <p:spPr>
          <a:xfrm>
            <a:off x="2513880" y="9907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第一部分：兵临西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027"/>
          <p:cNvSpPr/>
          <p:nvPr/>
        </p:nvSpPr>
        <p:spPr>
          <a:xfrm>
            <a:off x="971640" y="1844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部分主要写施用空城计的背景，突出一个“危”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体写“危”的内容有哪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028"/>
          <p:cNvSpPr/>
          <p:nvPr/>
        </p:nvSpPr>
        <p:spPr>
          <a:xfrm>
            <a:off x="1038240" y="285264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司马懿引大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，望西城蜂拥而来”；而诸葛亮仅有五千兵，却还有一半去运粮草，城中仅余二千五百人，诸葛亮“身边别无大将，只有一班文官”，“众官听得这个消息，尽皆失色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29"/>
          <p:cNvSpPr/>
          <p:nvPr/>
        </p:nvSpPr>
        <p:spPr>
          <a:xfrm>
            <a:off x="1008000" y="44323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一开始就渲染了一种危急的气氛，司马懿以迅雷不及掩耳之势，大兵压境，而诸葛亮身边只有一班文官，士兵二千五百人，兵力如此众寡悬殊，诸葛亮一开始就陷入了不可避免的失败境地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1030" descr="D:\Downloads\课件图标\分析的图标\分析\9TBC227.BMP"/>
          <p:cNvPicPr/>
          <p:nvPr/>
        </p:nvPicPr>
        <p:blipFill>
          <a:blip r:embed="rId1"/>
          <a:stretch/>
        </p:blipFill>
        <p:spPr>
          <a:xfrm>
            <a:off x="2362320" y="304920"/>
            <a:ext cx="5105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2769120" y="99864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第二部分：临危施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2125440" y="1557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近乎绝境中诸葛亮都做了些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1087560" y="20350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教“将旌旗尽皆隐匿；诸军各守城铺”，“大开四门，每一门用二十军士，扮着百姓，洒扫街道”他自己“披鹤氅，戴纶巾，引二小童携琴一张，于城上敌楼前，凭栏而坐，焚香操琴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1065240" y="37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一部分中，虽未直接写诸葛亮的神态，但通过他有条不紊地发布一系列命令，表现了他从容镇静，沉着应战的统帅风采，他所采取的措施都是围绕“空”字做文章，就是让司马懿看到一座空城。他还严肃纪律，谨防露出破绽，同时还安抚属下，“吾自有计”。这些描写鲜明地刻画了人物的性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6" descr="D:\Downloads\课件图标\分析的图标\分析\9TBC227.BMP"/>
          <p:cNvPicPr/>
          <p:nvPr/>
        </p:nvPicPr>
        <p:blipFill>
          <a:blip r:embed="rId1"/>
          <a:stretch/>
        </p:blipFill>
        <p:spPr>
          <a:xfrm>
            <a:off x="2362320" y="304920"/>
            <a:ext cx="5105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026"/>
          <p:cNvSpPr/>
          <p:nvPr/>
        </p:nvSpPr>
        <p:spPr>
          <a:xfrm>
            <a:off x="3213720" y="99864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第三部分：司马中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27"/>
          <p:cNvSpPr/>
          <p:nvPr/>
        </p:nvSpPr>
        <p:spPr>
          <a:xfrm>
            <a:off x="4268880" y="166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一部分重点写谁？是怎样写这个人物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028"/>
          <p:cNvSpPr/>
          <p:nvPr/>
        </p:nvSpPr>
        <p:spPr>
          <a:xfrm>
            <a:off x="1523880" y="22096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司马懿为重点，写他的所见所思所感，先写他“笑而不信”，再写他“看毕大疑”，即令退兵，后面写司马懿父子的对话，写出了他的心理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029"/>
          <p:cNvSpPr/>
          <p:nvPr/>
        </p:nvSpPr>
        <p:spPr>
          <a:xfrm>
            <a:off x="4498920" y="35812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段写诸葛亮只写一句：“坐于城楼之上，笑容可掬，焚香操琴。”而把更多的笔墨用来刻画司马懿一个人物。从反面衬托了诸葛亮的高超智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1030" descr="D:\Downloads\课件图标\分析的图标\分析\9TBC227.BMP"/>
          <p:cNvPicPr/>
          <p:nvPr/>
        </p:nvPicPr>
        <p:blipFill>
          <a:blip r:embed="rId1"/>
          <a:stretch/>
        </p:blipFill>
        <p:spPr>
          <a:xfrm>
            <a:off x="2362320" y="304920"/>
            <a:ext cx="5105160" cy="6094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31" descr="sli7"/>
          <p:cNvPicPr/>
          <p:nvPr/>
        </p:nvPicPr>
        <p:blipFill>
          <a:blip r:embed="rId2"/>
          <a:stretch/>
        </p:blipFill>
        <p:spPr>
          <a:xfrm>
            <a:off x="1619280" y="3494160"/>
            <a:ext cx="2620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2900880" y="101916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第四部分：孔明释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652640" y="184464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故事余波。通过诸葛亮的解释，表现其足智多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4411800" y="28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写诸葛亮以他的才智，在大军压境，寡不敌众的危急关头，机智地设下空城退敌的妙计，最终使敌兵退却，城门不失，刻画了一个随机应变、从容对敌的机智形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5" descr="D:\Downloads\课件图标\分析的图标\分析\9TBC227.BMP"/>
          <p:cNvPicPr/>
          <p:nvPr/>
        </p:nvPicPr>
        <p:blipFill>
          <a:blip r:embed="rId1"/>
          <a:stretch/>
        </p:blipFill>
        <p:spPr>
          <a:xfrm>
            <a:off x="2362320" y="304920"/>
            <a:ext cx="5105160" cy="609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gugeliang13"/>
          <p:cNvPicPr/>
          <p:nvPr/>
        </p:nvPicPr>
        <p:blipFill>
          <a:blip r:embed="rId2"/>
          <a:stretch/>
        </p:blipFill>
        <p:spPr>
          <a:xfrm>
            <a:off x="1208160" y="2492280"/>
            <a:ext cx="26337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WordArt 2"/>
          <p:cNvSpPr txBox="1"/>
          <p:nvPr/>
        </p:nvSpPr>
        <p:spPr>
          <a:xfrm rot="20548200">
            <a:off x="627120" y="716040"/>
            <a:ext cx="365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770000"/>
                </a:gradFill>
                <a:latin typeface="宋体"/>
              </a:rPr>
              <a:t>导读思考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770000"/>
              </a:gradFill>
              <a:latin typeface="宋体"/>
              <a:ea typeface="宋体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4267080" y="1058760"/>
            <a:ext cx="41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课文人物性格刻画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1077840" y="204804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说是通过故事情节来展示人物性格，表现主题的，没有故事情节，就没有活生生的人物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838080" y="2997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塑造人物形象是小说反映社会生活的主要手段。小说中刻画人物的方法也是多种多样的。它可以有人物的肖像描写、行动描写、语言描写、心理描写，也可以通过其他人物的反应和态度进行侧面描写等。小说不仅可以勾勒人物的轮廓，还可以刻画其性格的一个或几个侧面，特别要注意的是在情节的发展中表现人物的性格的发展变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1523880" y="12682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这一形象可以说是家喻户晓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国演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他为报答刘备的知遇之恩，真正做到了“鞠躬尽瘁，死而后已。”在他身上有许多政治家的美德，而最显著的特征是他的足智多谋。在小说中，诸葛亮战争生涯后期的主要对手是曹魏方面的司马懿。司马懿老奸巨滑，连诸葛亮也看出他深有谋略，不过，比起诸葛亮来，他还是略逊一筹。诸葛亮不仅善于根据具体条件，事先作出周密的策略，而且在面对突然发生的情况，能够随机应变，从容应对，这一点，在课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空城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表现得更加鲜明生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2"/>
          <p:cNvSpPr txBox="1"/>
          <p:nvPr/>
        </p:nvSpPr>
        <p:spPr>
          <a:xfrm>
            <a:off x="1068480" y="380880"/>
            <a:ext cx="3274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cap="sq" w="9360">
                  <a:solidFill>
                    <a:srgbClr val="ff0000"/>
                  </a:solidFill>
                  <a:round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4d4d4d"/>
                  </a:outerShdw>
                </a:effectLst>
                <a:latin typeface="宋体"/>
              </a:rPr>
              <a:t>三国演义</a:t>
            </a:r>
            <a:endParaRPr b="1" lang="en-US" sz="7200" spc="1" strike="noStrike">
              <a:ln cap="sq" w="9360">
                <a:solidFill>
                  <a:srgbClr val="ff0000"/>
                </a:solidFill>
                <a:round/>
              </a:ln>
              <a:solidFill>
                <a:srgbClr val="00ff00"/>
              </a:solidFill>
              <a:effectLst>
                <a:outerShdw dist="153753" dir="2700000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838080" y="20574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8" descr="shxs033a"/>
          <p:cNvPicPr/>
          <p:nvPr/>
        </p:nvPicPr>
        <p:blipFill>
          <a:blip r:embed="rId1"/>
          <a:stretch/>
        </p:blipFill>
        <p:spPr>
          <a:xfrm>
            <a:off x="4724280" y="304920"/>
            <a:ext cx="3783240" cy="125712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7"/>
          <p:cNvSpPr/>
          <p:nvPr/>
        </p:nvSpPr>
        <p:spPr>
          <a:xfrm>
            <a:off x="285840" y="1571760"/>
            <a:ext cx="85010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节选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九十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从东汉末年黄巾起义写起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到西晋武帝太康元年全国统一止，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9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历史。它是我国第一部章回体长篇历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小说。五十回以前（赤壁之战以前），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了中华大地上无数军阀割据的局面及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些军阀各自消长沉浮的命运；五十回以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则集中写魏、蜀、吴三个政权各自的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及相互间的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cmd type="call" cmd="">
                                      <p:cBhvr>
                                        <p:cTn id="19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026"/>
          <p:cNvSpPr/>
          <p:nvPr/>
        </p:nvSpPr>
        <p:spPr>
          <a:xfrm>
            <a:off x="446076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部分中有没有直接写诸葛亮的这种性格特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027"/>
          <p:cNvSpPr/>
          <p:nvPr/>
        </p:nvSpPr>
        <p:spPr>
          <a:xfrm>
            <a:off x="1600200" y="2438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间接写。第一段主要交待施用空城计的背景，写大兵压境的危急，通过与魏蜀双方兵力的悬殊，要打，打不过；要守，守不住；想跑“必不能远遁”，看来除了投降和与城共亡无路可走，在这近乎绝境之中，越发显出诸葛亮的成竹在胸、从容不迫，力挽狂澜的气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026"/>
          <p:cNvSpPr/>
          <p:nvPr/>
        </p:nvSpPr>
        <p:spPr>
          <a:xfrm>
            <a:off x="1295280" y="836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第二部分中，都写了诸葛亮的哪些内容？运用了描写人物的什么方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027"/>
          <p:cNvSpPr/>
          <p:nvPr/>
        </p:nvSpPr>
        <p:spPr>
          <a:xfrm>
            <a:off x="1295280" y="1916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布一系列命令、严肃纪律、施计诱骗司马懿上当。主要运用了语言和动作描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028"/>
          <p:cNvSpPr/>
          <p:nvPr/>
        </p:nvSpPr>
        <p:spPr>
          <a:xfrm>
            <a:off x="1309680" y="3429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语言“将旌旗尽皆隐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吾自有计”。写他从容镇定，沉着应战，在“空”字上做足文章；写行动：“披鹤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焚香操琴”。写他面对强敌，机智设计，谈笑退兵，表现出人物敢干迎险的胆量和善于斗险的谋略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026"/>
          <p:cNvSpPr/>
          <p:nvPr/>
        </p:nvSpPr>
        <p:spPr>
          <a:xfrm>
            <a:off x="982800" y="836640"/>
            <a:ext cx="72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第三部分，转为对司马懿的重点刻画，作者都写了他的什么内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027"/>
          <p:cNvSpPr/>
          <p:nvPr/>
        </p:nvSpPr>
        <p:spPr>
          <a:xfrm>
            <a:off x="96696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所见，初闻“笑而不信”，既而疑惑不解，而后即令退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028"/>
          <p:cNvSpPr/>
          <p:nvPr/>
        </p:nvSpPr>
        <p:spPr>
          <a:xfrm>
            <a:off x="2426040" y="28195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司马懿的性格特征是怎样的？从哪些描述可以看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029"/>
          <p:cNvSpPr/>
          <p:nvPr/>
        </p:nvSpPr>
        <p:spPr>
          <a:xfrm>
            <a:off x="4184280" y="33685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狡诈、自负。通过司马氏父子的对话可以看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030"/>
          <p:cNvSpPr/>
          <p:nvPr/>
        </p:nvSpPr>
        <p:spPr>
          <a:xfrm>
            <a:off x="1042920" y="39337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司马懿并非平庸，他对诸葛亮十分了解，他不相信诸葛亮会如此“弄险”，对于诸葛亮的长于谋略，他也早有领教，此时他不进西城也并非没有道理，因此不是他太愚蠢，而是诸葛亮太聪明了！司马懿的老谋深算，更衬托出诸葛亮的高超智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684360" y="1268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故事的结局中，有三点要注意：一是空城计是“不得已而用之”，二是他的成功缘于对敌方统帅的深入了解和准确分析，三是诸葛亮的勇敢和智慧。他懂得战争的辩证法，他一反常态，出奇制胜，临危不惧，慎谋能断，终于化险为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755640" y="3789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节课我们重点分析了关于人物形象刻画，我们了解了作者通过语言、行动来刻画人物思想性格的手法，同时也了解通过环境描写来刻画人物、发展情节、烘托气氛的特点。为我们阅读和欣赏、评析小说，打下了良好的基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1295280" y="2438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笑容可掬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→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抚掌而笑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→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拍手大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363680" y="437364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故做轻松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→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释重负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豪、嘲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868480" y="119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的三次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1"/>
          <p:cNvSpPr/>
          <p:nvPr/>
        </p:nvSpPr>
        <p:spPr>
          <a:xfrm>
            <a:off x="1981080" y="32767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2"/>
          <p:cNvSpPr/>
          <p:nvPr/>
        </p:nvSpPr>
        <p:spPr>
          <a:xfrm>
            <a:off x="4038480" y="32767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3"/>
          <p:cNvSpPr/>
          <p:nvPr/>
        </p:nvSpPr>
        <p:spPr>
          <a:xfrm>
            <a:off x="6248520" y="320040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5640480" y="290196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76320" y="944640"/>
            <a:ext cx="3352680" cy="28954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3295800" y="518148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不知变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1085760" y="521172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骄傲自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035760" y="181296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临危不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3825720" y="1859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神机妙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3825720" y="105084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足智多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3429000" y="4449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狡诈多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106668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疑心病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1"/>
          <p:cNvSpPr/>
          <p:nvPr/>
        </p:nvSpPr>
        <p:spPr>
          <a:xfrm>
            <a:off x="6054840" y="105084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处乱不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WordArt 12"/>
          <p:cNvSpPr txBox="1"/>
          <p:nvPr/>
        </p:nvSpPr>
        <p:spPr>
          <a:xfrm rot="21327600">
            <a:off x="3580920" y="2971800"/>
            <a:ext cx="1443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vs</a:t>
            </a:r>
            <a:endParaRPr b="0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3277440" y="860400"/>
            <a:ext cx="25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塑造人物形象的方式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4476960" y="54100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对比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1905120" y="3276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正面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1752480" y="54100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侧面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6"/>
          <p:cNvSpPr/>
          <p:nvPr/>
        </p:nvSpPr>
        <p:spPr>
          <a:xfrm>
            <a:off x="3809880" y="21337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442332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442332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4423320" y="3657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神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0"/>
          <p:cNvSpPr/>
          <p:nvPr/>
        </p:nvSpPr>
        <p:spPr>
          <a:xfrm>
            <a:off x="4421880" y="449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心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1"/>
          <p:cNvSpPr/>
          <p:nvPr/>
        </p:nvSpPr>
        <p:spPr>
          <a:xfrm>
            <a:off x="3601800" y="5257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Object 13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438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D:\Downloads\课件图标\小结图标\小结\9TBC106.BMP"/>
          <p:cNvPicPr/>
          <p:nvPr/>
        </p:nvPicPr>
        <p:blipFill>
          <a:blip r:embed="rId1"/>
          <a:stretch/>
        </p:blipFill>
        <p:spPr>
          <a:xfrm>
            <a:off x="870120" y="304920"/>
            <a:ext cx="2819160" cy="12715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"/>
          <p:cNvPicPr/>
          <p:nvPr/>
        </p:nvPicPr>
        <p:blipFill>
          <a:blip r:embed="rId2"/>
          <a:stretch/>
        </p:blipFill>
        <p:spPr>
          <a:xfrm>
            <a:off x="853920" y="1584360"/>
            <a:ext cx="746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2023920" y="838080"/>
            <a:ext cx="68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向同学介绍一下诸葛亮的事例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D:\Downloads\课件图标\提示图标\注意、提示\9TBC472.BMP"/>
          <p:cNvPicPr/>
          <p:nvPr/>
        </p:nvPicPr>
        <p:blipFill>
          <a:blip r:embed="rId1"/>
          <a:stretch/>
        </p:blipFill>
        <p:spPr>
          <a:xfrm>
            <a:off x="609480" y="228600"/>
            <a:ext cx="1371600" cy="13431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4"/>
          <p:cNvSpPr/>
          <p:nvPr/>
        </p:nvSpPr>
        <p:spPr>
          <a:xfrm>
            <a:off x="1143000" y="1752480"/>
            <a:ext cx="2666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94b6"/>
                </a:solidFill>
                <a:latin typeface="Times New Roman"/>
                <a:ea typeface="宋体"/>
              </a:rPr>
              <a:t>博望坡军师初用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94b6"/>
                </a:solidFill>
                <a:latin typeface="Times New Roman"/>
                <a:ea typeface="宋体"/>
              </a:rPr>
              <a:t>诸葛亮火烧新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94b6"/>
                </a:solidFill>
                <a:latin typeface="Times New Roman"/>
                <a:ea typeface="宋体"/>
              </a:rPr>
              <a:t>孔明用智激周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94b6"/>
                </a:solidFill>
                <a:latin typeface="Times New Roman"/>
                <a:ea typeface="宋体"/>
              </a:rPr>
              <a:t>孔明草船借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94b6"/>
                </a:solidFill>
                <a:latin typeface="Times New Roman"/>
                <a:ea typeface="宋体"/>
              </a:rPr>
              <a:t>诸葛亮智算华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94b6"/>
                </a:solidFill>
                <a:latin typeface="Times New Roman"/>
                <a:ea typeface="宋体"/>
              </a:rPr>
              <a:t>诸葛亮智辞鲁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94b6"/>
                </a:solidFill>
                <a:latin typeface="Times New Roman"/>
                <a:ea typeface="宋体"/>
              </a:rPr>
              <a:t>孔明定计捉张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94b6"/>
                </a:solidFill>
                <a:latin typeface="Times New Roman"/>
                <a:ea typeface="宋体"/>
              </a:rPr>
              <a:t>诸葛亮智取汉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94b6"/>
                </a:solidFill>
                <a:latin typeface="Times New Roman"/>
                <a:ea typeface="宋体"/>
              </a:rPr>
              <a:t>孔明巧布八阵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5181480" y="1828800"/>
            <a:ext cx="2667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诸葛亮安居平五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征南寇丞相大兴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孔明七擒孟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诸葛亮智取三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孔明乘雪破羌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空城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孔明大破魏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诸葛亮造木牛流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571680" y="100008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形近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矩形 2"/>
          <p:cNvSpPr/>
          <p:nvPr/>
        </p:nvSpPr>
        <p:spPr>
          <a:xfrm>
            <a:off x="714240" y="1825560"/>
            <a:ext cx="307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拨（     ）拨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拔（     ）提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1" descr=""/>
          <p:cNvPicPr/>
          <p:nvPr/>
        </p:nvPicPr>
        <p:blipFill>
          <a:blip r:embed="rId1"/>
          <a:stretch/>
        </p:blipFill>
        <p:spPr>
          <a:xfrm>
            <a:off x="500040" y="1897200"/>
            <a:ext cx="190440" cy="1114200"/>
          </a:xfrm>
          <a:prstGeom prst="rect">
            <a:avLst/>
          </a:prstGeom>
          <a:ln w="0">
            <a:noFill/>
          </a:ln>
        </p:spPr>
      </p:pic>
      <p:sp>
        <p:nvSpPr>
          <p:cNvPr id="646" name="矩形 15"/>
          <p:cNvSpPr/>
          <p:nvPr/>
        </p:nvSpPr>
        <p:spPr>
          <a:xfrm>
            <a:off x="5000760" y="1754280"/>
            <a:ext cx="3429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氅（          ）鹤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麾（          ）麾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矩形 16"/>
          <p:cNvSpPr/>
          <p:nvPr/>
        </p:nvSpPr>
        <p:spPr>
          <a:xfrm>
            <a:off x="5000760" y="3182760"/>
            <a:ext cx="3214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遂（       ）遂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隧（       ）隧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矩形 17"/>
          <p:cNvSpPr/>
          <p:nvPr/>
        </p:nvSpPr>
        <p:spPr>
          <a:xfrm>
            <a:off x="714240" y="4611600"/>
            <a:ext cx="3000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麈（      ）麈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鏖（      ）鏖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矩形 18"/>
          <p:cNvSpPr/>
          <p:nvPr/>
        </p:nvSpPr>
        <p:spPr>
          <a:xfrm>
            <a:off x="714240" y="3182760"/>
            <a:ext cx="3714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掬（      ）憨态可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鞠（      ）鞠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矩形 19"/>
          <p:cNvSpPr/>
          <p:nvPr/>
        </p:nvSpPr>
        <p:spPr>
          <a:xfrm>
            <a:off x="5000760" y="4540320"/>
            <a:ext cx="3071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遁（       ）逃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循（       ）循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4786200" y="1897200"/>
            <a:ext cx="190440" cy="1114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" descr=""/>
          <p:cNvPicPr/>
          <p:nvPr/>
        </p:nvPicPr>
        <p:blipFill>
          <a:blip r:embed="rId3"/>
          <a:stretch/>
        </p:blipFill>
        <p:spPr>
          <a:xfrm>
            <a:off x="500040" y="3254400"/>
            <a:ext cx="190440" cy="11145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" descr=""/>
          <p:cNvPicPr/>
          <p:nvPr/>
        </p:nvPicPr>
        <p:blipFill>
          <a:blip r:embed="rId4"/>
          <a:stretch/>
        </p:blipFill>
        <p:spPr>
          <a:xfrm>
            <a:off x="4786200" y="3254400"/>
            <a:ext cx="190440" cy="1114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" descr=""/>
          <p:cNvPicPr/>
          <p:nvPr/>
        </p:nvPicPr>
        <p:blipFill>
          <a:blip r:embed="rId5"/>
          <a:stretch/>
        </p:blipFill>
        <p:spPr>
          <a:xfrm>
            <a:off x="500040" y="4683240"/>
            <a:ext cx="190440" cy="1114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" descr=""/>
          <p:cNvPicPr/>
          <p:nvPr/>
        </p:nvPicPr>
        <p:blipFill>
          <a:blip r:embed="rId6"/>
          <a:stretch/>
        </p:blipFill>
        <p:spPr>
          <a:xfrm>
            <a:off x="4786200" y="4683240"/>
            <a:ext cx="190440" cy="1114200"/>
          </a:xfrm>
          <a:prstGeom prst="rect">
            <a:avLst/>
          </a:prstGeom>
          <a:ln w="0">
            <a:noFill/>
          </a:ln>
        </p:spPr>
      </p:pic>
      <p:sp>
        <p:nvSpPr>
          <p:cNvPr id="656" name="矩形 26"/>
          <p:cNvSpPr/>
          <p:nvPr/>
        </p:nvSpPr>
        <p:spPr>
          <a:xfrm>
            <a:off x="1500120" y="4572000"/>
            <a:ext cx="1071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zh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矩形 27"/>
          <p:cNvSpPr/>
          <p:nvPr/>
        </p:nvSpPr>
        <p:spPr>
          <a:xfrm>
            <a:off x="1571760" y="1825560"/>
            <a:ext cx="1071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b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b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矩形 28"/>
          <p:cNvSpPr/>
          <p:nvPr/>
        </p:nvSpPr>
        <p:spPr>
          <a:xfrm>
            <a:off x="1643040" y="3159000"/>
            <a:ext cx="1071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j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j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矩形 29"/>
          <p:cNvSpPr/>
          <p:nvPr/>
        </p:nvSpPr>
        <p:spPr>
          <a:xfrm>
            <a:off x="5786280" y="1714680"/>
            <a:ext cx="1571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chǎ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hu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矩形 30"/>
          <p:cNvSpPr/>
          <p:nvPr/>
        </p:nvSpPr>
        <p:spPr>
          <a:xfrm>
            <a:off x="5929200" y="3143160"/>
            <a:ext cx="1571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s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s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矩形 31"/>
          <p:cNvSpPr/>
          <p:nvPr/>
        </p:nvSpPr>
        <p:spPr>
          <a:xfrm>
            <a:off x="5786280" y="4500720"/>
            <a:ext cx="1571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dù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x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571680" y="107172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联想与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什么对于新闻中“现代空城计”，始终都没有一个人敢进去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571680" y="100008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形近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矩形 2"/>
          <p:cNvSpPr/>
          <p:nvPr/>
        </p:nvSpPr>
        <p:spPr>
          <a:xfrm>
            <a:off x="714240" y="1825560"/>
            <a:ext cx="307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拨（     ）拨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拔（     ）提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1" descr=""/>
          <p:cNvPicPr/>
          <p:nvPr/>
        </p:nvPicPr>
        <p:blipFill>
          <a:blip r:embed="rId1"/>
          <a:stretch/>
        </p:blipFill>
        <p:spPr>
          <a:xfrm>
            <a:off x="500040" y="1897200"/>
            <a:ext cx="190440" cy="1114200"/>
          </a:xfrm>
          <a:prstGeom prst="rect">
            <a:avLst/>
          </a:prstGeom>
          <a:ln w="0">
            <a:noFill/>
          </a:ln>
        </p:spPr>
      </p:pic>
      <p:sp>
        <p:nvSpPr>
          <p:cNvPr id="665" name="矩形 15"/>
          <p:cNvSpPr/>
          <p:nvPr/>
        </p:nvSpPr>
        <p:spPr>
          <a:xfrm>
            <a:off x="5000760" y="1754280"/>
            <a:ext cx="3429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氅（          ）鹤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麾（          ）麾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矩形 16"/>
          <p:cNvSpPr/>
          <p:nvPr/>
        </p:nvSpPr>
        <p:spPr>
          <a:xfrm>
            <a:off x="5000760" y="3182760"/>
            <a:ext cx="3214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遂（       ）遂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隧（       ）隧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矩形 17"/>
          <p:cNvSpPr/>
          <p:nvPr/>
        </p:nvSpPr>
        <p:spPr>
          <a:xfrm>
            <a:off x="714240" y="4611600"/>
            <a:ext cx="3000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麈（      ）麈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鏖（      ）鏖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矩形 18"/>
          <p:cNvSpPr/>
          <p:nvPr/>
        </p:nvSpPr>
        <p:spPr>
          <a:xfrm>
            <a:off x="714240" y="3182760"/>
            <a:ext cx="3714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掬（      ）憨态可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鞠（      ）鞠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矩形 19"/>
          <p:cNvSpPr/>
          <p:nvPr/>
        </p:nvSpPr>
        <p:spPr>
          <a:xfrm>
            <a:off x="5000760" y="4540320"/>
            <a:ext cx="3071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遁（       ）逃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循（       ）循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1" descr=""/>
          <p:cNvPicPr/>
          <p:nvPr/>
        </p:nvPicPr>
        <p:blipFill>
          <a:blip r:embed="rId2"/>
          <a:stretch/>
        </p:blipFill>
        <p:spPr>
          <a:xfrm>
            <a:off x="4786200" y="1897200"/>
            <a:ext cx="190440" cy="11142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" descr=""/>
          <p:cNvPicPr/>
          <p:nvPr/>
        </p:nvPicPr>
        <p:blipFill>
          <a:blip r:embed="rId3"/>
          <a:stretch/>
        </p:blipFill>
        <p:spPr>
          <a:xfrm>
            <a:off x="500040" y="3254400"/>
            <a:ext cx="190440" cy="11145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" descr=""/>
          <p:cNvPicPr/>
          <p:nvPr/>
        </p:nvPicPr>
        <p:blipFill>
          <a:blip r:embed="rId4"/>
          <a:stretch/>
        </p:blipFill>
        <p:spPr>
          <a:xfrm>
            <a:off x="4786200" y="3254400"/>
            <a:ext cx="190440" cy="11145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" descr=""/>
          <p:cNvPicPr/>
          <p:nvPr/>
        </p:nvPicPr>
        <p:blipFill>
          <a:blip r:embed="rId5"/>
          <a:stretch/>
        </p:blipFill>
        <p:spPr>
          <a:xfrm>
            <a:off x="500040" y="4683240"/>
            <a:ext cx="190440" cy="11142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" descr=""/>
          <p:cNvPicPr/>
          <p:nvPr/>
        </p:nvPicPr>
        <p:blipFill>
          <a:blip r:embed="rId6"/>
          <a:stretch/>
        </p:blipFill>
        <p:spPr>
          <a:xfrm>
            <a:off x="4786200" y="4683240"/>
            <a:ext cx="190440" cy="1114200"/>
          </a:xfrm>
          <a:prstGeom prst="rect">
            <a:avLst/>
          </a:prstGeom>
          <a:ln w="0">
            <a:noFill/>
          </a:ln>
        </p:spPr>
      </p:pic>
      <p:sp>
        <p:nvSpPr>
          <p:cNvPr id="675" name="矩形 26"/>
          <p:cNvSpPr/>
          <p:nvPr/>
        </p:nvSpPr>
        <p:spPr>
          <a:xfrm>
            <a:off x="1500120" y="4572000"/>
            <a:ext cx="1071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zh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矩形 27"/>
          <p:cNvSpPr/>
          <p:nvPr/>
        </p:nvSpPr>
        <p:spPr>
          <a:xfrm>
            <a:off x="1571760" y="1825560"/>
            <a:ext cx="1071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b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b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矩形 28"/>
          <p:cNvSpPr/>
          <p:nvPr/>
        </p:nvSpPr>
        <p:spPr>
          <a:xfrm>
            <a:off x="1643040" y="3159000"/>
            <a:ext cx="1071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j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j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矩形 29"/>
          <p:cNvSpPr/>
          <p:nvPr/>
        </p:nvSpPr>
        <p:spPr>
          <a:xfrm>
            <a:off x="5786280" y="1714680"/>
            <a:ext cx="1571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chǎ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hu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矩形 30"/>
          <p:cNvSpPr/>
          <p:nvPr/>
        </p:nvSpPr>
        <p:spPr>
          <a:xfrm>
            <a:off x="5929200" y="3143160"/>
            <a:ext cx="1571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s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s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矩形 31"/>
          <p:cNvSpPr/>
          <p:nvPr/>
        </p:nvSpPr>
        <p:spPr>
          <a:xfrm>
            <a:off x="5786280" y="4500720"/>
            <a:ext cx="1571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dù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x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189000" y="103968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文学欣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歇后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矩形 2"/>
          <p:cNvSpPr/>
          <p:nvPr/>
        </p:nvSpPr>
        <p:spPr>
          <a:xfrm>
            <a:off x="142920" y="1714680"/>
            <a:ext cx="900108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和尚打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无法无天（无发无天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公共厕所扔石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引起公愤（引起公粪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秀才的空棺材出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目中无人（木中无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麻布袋草布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代不如一代（一袋不如一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瞎子背瞎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----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忙上加忙。（盲上加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142920" y="71424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歇后语识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矩形 2"/>
          <p:cNvSpPr/>
          <p:nvPr/>
        </p:nvSpPr>
        <p:spPr>
          <a:xfrm>
            <a:off x="142920" y="1714680"/>
            <a:ext cx="8858160" cy="50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妈妈姓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无事生非（吴氏生飞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照镜子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自觉脸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愿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愿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三个臭皮匠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顶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面前耍大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自量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身在曹营心在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隔着门缝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瞧扁了英雄（小看贤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矩形 3"/>
          <p:cNvSpPr/>
          <p:nvPr/>
        </p:nvSpPr>
        <p:spPr>
          <a:xfrm>
            <a:off x="928800" y="170172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张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矩形 4"/>
          <p:cNvSpPr/>
          <p:nvPr/>
        </p:nvSpPr>
        <p:spPr>
          <a:xfrm>
            <a:off x="928800" y="228600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关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矩形 6"/>
          <p:cNvSpPr/>
          <p:nvPr/>
        </p:nvSpPr>
        <p:spPr>
          <a:xfrm>
            <a:off x="928800" y="291636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周瑜         黄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矩形 8"/>
          <p:cNvSpPr/>
          <p:nvPr/>
        </p:nvSpPr>
        <p:spPr>
          <a:xfrm>
            <a:off x="5000760" y="35002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诸葛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矩形 9"/>
          <p:cNvSpPr/>
          <p:nvPr/>
        </p:nvSpPr>
        <p:spPr>
          <a:xfrm>
            <a:off x="1000080" y="41432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关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矩形 10"/>
          <p:cNvSpPr/>
          <p:nvPr/>
        </p:nvSpPr>
        <p:spPr>
          <a:xfrm>
            <a:off x="928800" y="478620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曹操          关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矩形 11"/>
          <p:cNvSpPr/>
          <p:nvPr/>
        </p:nvSpPr>
        <p:spPr>
          <a:xfrm>
            <a:off x="2786040" y="54291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诸葛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0103"/>
          <p:cNvPicPr/>
          <p:nvPr/>
        </p:nvPicPr>
        <p:blipFill>
          <a:blip r:embed="rId1"/>
          <a:stretch/>
        </p:blipFill>
        <p:spPr>
          <a:xfrm>
            <a:off x="7175520" y="2857680"/>
            <a:ext cx="1968480" cy="40003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GIF-476"/>
          <p:cNvPicPr/>
          <p:nvPr/>
        </p:nvPicPr>
        <p:blipFill>
          <a:blip r:embed="rId2"/>
          <a:stretch/>
        </p:blipFill>
        <p:spPr>
          <a:xfrm>
            <a:off x="6873840" y="0"/>
            <a:ext cx="2270160" cy="264312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4"/>
          <p:cNvSpPr/>
          <p:nvPr/>
        </p:nvSpPr>
        <p:spPr>
          <a:xfrm>
            <a:off x="500040" y="814320"/>
            <a:ext cx="732960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张飞扔鸡毛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Times New Roman"/>
                <a:ea typeface="宋体"/>
              </a:rPr>
              <a:t>张飞使计谋</a:t>
            </a:r>
            <a:r>
              <a:rPr b="1" lang="en-US" sz="2600" spc="-1" strike="noStrike">
                <a:solidFill>
                  <a:srgbClr val="0066ff"/>
                </a:solidFill>
                <a:latin typeface="Times New Roman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借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694b6"/>
                </a:solidFill>
                <a:latin typeface="Times New Roman"/>
                <a:ea typeface="宋体"/>
              </a:rPr>
              <a:t>诸葛亮挥泪斩马谡</a:t>
            </a:r>
            <a:r>
              <a:rPr b="1" lang="en-US" sz="2600" spc="-1" strike="noStrike">
                <a:solidFill>
                  <a:srgbClr val="3694b6"/>
                </a:solidFill>
                <a:latin typeface="Times New Roman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诸葛亮的鹅毛扇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Times New Roman"/>
                <a:ea typeface="宋体"/>
              </a:rPr>
              <a:t>诸葛亮用空城计</a:t>
            </a:r>
            <a:r>
              <a:rPr b="1" lang="en-US" sz="2600" spc="-1" strike="noStrike">
                <a:solidFill>
                  <a:srgbClr val="ff33cc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33cc"/>
                </a:solidFill>
                <a:latin typeface="Times New Roman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关公进曹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鲁肃讨荆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曹操用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929040" y="849240"/>
            <a:ext cx="350064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劲难使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Times New Roman"/>
                <a:ea typeface="宋体"/>
              </a:rPr>
              <a:t>粗中有细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借无还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694b6"/>
                </a:solidFill>
                <a:latin typeface="Times New Roman"/>
                <a:ea typeface="宋体"/>
              </a:rPr>
              <a:t>顾全大局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神妙莫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Times New Roman"/>
                <a:ea typeface="宋体"/>
              </a:rPr>
              <a:t>化险为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刀直入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空手而去，空手而回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又奸又滑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500"/>
                            </p:stCondLst>
                            <p:childTnLst>
                              <p:par>
                                <p:cTn id="7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6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6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152280" y="-228600"/>
            <a:ext cx="44960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隶书"/>
                <a:ea typeface="隶书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106668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1bd69"/>
                </a:solidFill>
                <a:latin typeface="Times New Roman"/>
                <a:ea typeface="隶书"/>
              </a:rPr>
              <a:t>改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344600" y="1700280"/>
            <a:ext cx="66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1bd69"/>
                </a:solidFill>
                <a:latin typeface="Times New Roman"/>
                <a:ea typeface="隶书"/>
              </a:rPr>
              <a:t>改写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隶书"/>
              </a:rPr>
              <a:t>要求</a:t>
            </a:r>
            <a:r>
              <a:rPr b="0" lang="zh-CN" sz="2000" spc="-1" strike="noStrike">
                <a:solidFill>
                  <a:srgbClr val="990099"/>
                </a:solidFill>
                <a:latin typeface="Times New Roman"/>
                <a:ea typeface="隶书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、根据原文情节发展线索，保持完整的情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、尽量体现原文夸张、讽刺的语言风格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、不超过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400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WordArt 7"/>
          <p:cNvSpPr txBox="1"/>
          <p:nvPr/>
        </p:nvSpPr>
        <p:spPr>
          <a:xfrm>
            <a:off x="2133720" y="5334120"/>
            <a:ext cx="1904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写作训练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grpSp>
        <p:nvGrpSpPr>
          <p:cNvPr id="700" name="Group 9"/>
          <p:cNvGrpSpPr/>
          <p:nvPr/>
        </p:nvGrpSpPr>
        <p:grpSpPr>
          <a:xfrm>
            <a:off x="4648320" y="3962520"/>
            <a:ext cx="4038480" cy="2133360"/>
            <a:chOff x="4648320" y="3962520"/>
            <a:chExt cx="4038480" cy="2133360"/>
          </a:xfrm>
        </p:grpSpPr>
        <p:sp>
          <p:nvSpPr>
            <p:cNvPr id="701" name="AutoShape 10"/>
            <p:cNvSpPr/>
            <p:nvPr/>
          </p:nvSpPr>
          <p:spPr>
            <a:xfrm>
              <a:off x="6400800" y="3962520"/>
              <a:ext cx="2286000" cy="2133360"/>
            </a:xfrm>
            <a:custGeom>
              <a:avLst/>
              <a:gdLst>
                <a:gd name="textAreaLeft" fmla="*/ 524520 w 2286000"/>
                <a:gd name="textAreaRight" fmla="*/ 1761480 w 2286000"/>
                <a:gd name="textAreaTop" fmla="*/ 489600 h 2133360"/>
                <a:gd name="textAreaBottom" fmla="*/ 164376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11"/>
            <p:cNvSpPr/>
            <p:nvPr/>
          </p:nvSpPr>
          <p:spPr>
            <a:xfrm>
              <a:off x="4648320" y="4616280"/>
              <a:ext cx="196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000"/>
                  </a:solidFill>
                  <a:latin typeface="Times New Roman"/>
                  <a:ea typeface="隶书"/>
                </a:rPr>
                <a:t>老师的话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12"/>
            <p:cNvSpPr/>
            <p:nvPr/>
          </p:nvSpPr>
          <p:spPr>
            <a:xfrm>
              <a:off x="6705720" y="4343400"/>
              <a:ext cx="165564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本课学习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还有什问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要提问哦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文本框 2"/>
          <p:cNvSpPr/>
          <p:nvPr/>
        </p:nvSpPr>
        <p:spPr>
          <a:xfrm>
            <a:off x="41400" y="62834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6E78-AF64-4D70-A8A9-83B6D81048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5"/>
          <p:cNvSpPr/>
          <p:nvPr/>
        </p:nvSpPr>
        <p:spPr>
          <a:xfrm>
            <a:off x="5486400" y="457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221304"/>
                </a:solidFill>
                <a:uFillTx/>
                <a:latin typeface="Times New Roman"/>
                <a:ea typeface="宋体"/>
              </a:rPr>
              <a:t>罗贯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2771640" y="1214280"/>
            <a:ext cx="61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名本，号湖海散人，贯中是他的字，山西太原人。他出生于元代，死于明初，他生平不见史传，据一些片断材料说，他性格孤僻，“与人寡合”，因“遭时多故”，东奔西走，“不知其终”。他在文学上的成就是多方面的，据说小说创作有数十种，曾写过十七史演义，除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三国演义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外，还有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隋唐志传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残唐五代史演义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三逐平妖传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等。他写过杂剧，有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赵太祖龙虎风云会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7" descr="c905"/>
          <p:cNvPicPr/>
          <p:nvPr/>
        </p:nvPicPr>
        <p:blipFill>
          <a:blip r:embed="rId1"/>
          <a:stretch/>
        </p:blipFill>
        <p:spPr>
          <a:xfrm>
            <a:off x="179280" y="2406600"/>
            <a:ext cx="2362320" cy="3429000"/>
          </a:xfrm>
          <a:prstGeom prst="rect">
            <a:avLst/>
          </a:prstGeom>
          <a:ln w="0">
            <a:noFill/>
          </a:ln>
        </p:spPr>
      </p:pic>
      <p:sp>
        <p:nvSpPr>
          <p:cNvPr id="511" name="AutoShape 8"/>
          <p:cNvSpPr/>
          <p:nvPr/>
        </p:nvSpPr>
        <p:spPr>
          <a:xfrm>
            <a:off x="411120" y="808200"/>
            <a:ext cx="1900440" cy="1371600"/>
          </a:xfrm>
          <a:custGeom>
            <a:avLst/>
            <a:gdLst>
              <a:gd name="textAreaLeft" fmla="*/ 475200 w 1900440"/>
              <a:gd name="textAreaRight" fmla="*/ 1425600 w 1900440"/>
              <a:gd name="textAreaTop" fmla="*/ 342720 h 1371600"/>
              <a:gd name="textAreaBottom" fmla="*/ 13312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a1bd69"/>
          </a:solidFill>
          <a:ln w="9360">
            <a:solidFill>
              <a:srgbClr val="2213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文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6699"/>
                </a:solidFill>
                <a:latin typeface="Times New Roman"/>
              </a:rPr>
              <a:t>你知道吗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539640" y="1828440"/>
            <a:ext cx="791856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填出下列事件的主要人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温酒斩华雄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威震长坂坡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借东风（          ）  过五关，斩六将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赔了夫人又折兵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白帝城托孤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3200400" y="2590920"/>
            <a:ext cx="14479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关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7238880" y="2590920"/>
            <a:ext cx="16002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张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2438280" y="3200400"/>
            <a:ext cx="19814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诸葛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7391520" y="3200400"/>
            <a:ext cx="14475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关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4114800" y="3809880"/>
            <a:ext cx="14479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周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3352680" y="4343400"/>
            <a:ext cx="15242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刘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5280" y="126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tIns="36000" anchor="ctr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　</a:t>
            </a:r>
            <a:r>
              <a:rPr b="0" lang="zh-CN" sz="5400" spc="-1" strike="noStrike">
                <a:solidFill>
                  <a:srgbClr val="221304"/>
                </a:solidFill>
                <a:latin typeface="Times New Roman"/>
                <a:ea typeface="隶书"/>
              </a:rPr>
              <a:t>课  文 分 析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042560" y="2781360"/>
            <a:ext cx="7620120" cy="2611440"/>
          </a:xfrm>
          <a:prstGeom prst="rect">
            <a:avLst/>
          </a:prstGeom>
          <a:noFill/>
          <a:ln w="0">
            <a:noFill/>
          </a:ln>
        </p:spPr>
        <p:txBody>
          <a:bodyPr tIns="36000" anchor="t">
            <a:normAutofit/>
          </a:bodyPr>
          <a:p>
            <a:pPr marL="341280" indent="-71280">
              <a:lnSpc>
                <a:spcPts val="3461"/>
              </a:lnSpc>
              <a:spcBef>
                <a:spcPts val="201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诸葛亮为什么要用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空城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71280">
              <a:lnSpc>
                <a:spcPts val="3461"/>
              </a:lnSpc>
              <a:spcBef>
                <a:spcPts val="201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71280">
              <a:lnSpc>
                <a:spcPts val="3461"/>
              </a:lnSpc>
              <a:spcBef>
                <a:spcPts val="201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诸葛亮如何施用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空城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71280">
              <a:lnSpc>
                <a:spcPts val="3461"/>
              </a:lnSpc>
              <a:spcBef>
                <a:spcPts val="201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71280">
              <a:lnSpc>
                <a:spcPts val="3461"/>
              </a:lnSpc>
              <a:spcBef>
                <a:spcPts val="201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司马懿为什么不攻进城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tIns="36000" anchor="ctr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0b1b"/>
                </a:solidFill>
                <a:latin typeface="Times New Roman"/>
                <a:ea typeface="华文彩云"/>
              </a:rPr>
              <a:t>人物形象分析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74760" y="1523520"/>
            <a:ext cx="7772400" cy="5056200"/>
          </a:xfrm>
          <a:prstGeom prst="rect">
            <a:avLst/>
          </a:prstGeom>
          <a:noFill/>
          <a:ln w="0">
            <a:noFill/>
          </a:ln>
        </p:spPr>
        <p:txBody>
          <a:bodyPr tIns="36000" anchor="t">
            <a:normAutofit fontScale="95000"/>
          </a:bodyPr>
          <a:p>
            <a:pPr marL="324000" indent="-67680">
              <a:lnSpc>
                <a:spcPts val="2999"/>
              </a:lnSpc>
              <a:spcBef>
                <a:spcPts val="675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诸葛亮形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lnSpc>
                <a:spcPts val="2999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足智多谋、临危不惧、从容镇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lnSpc>
                <a:spcPts val="2999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lnSpc>
                <a:spcPts val="2999"/>
              </a:lnSpc>
              <a:spcBef>
                <a:spcPts val="675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司马懿形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lnSpc>
                <a:spcPts val="2999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lnSpc>
                <a:spcPts val="2999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狡诈、多疑、自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67680">
              <a:lnSpc>
                <a:spcPts val="2999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4" descr="诸葛亮"/>
          <p:cNvPicPr/>
          <p:nvPr/>
        </p:nvPicPr>
        <p:blipFill>
          <a:blip r:embed="rId1"/>
          <a:stretch/>
        </p:blipFill>
        <p:spPr>
          <a:xfrm>
            <a:off x="6095880" y="1447920"/>
            <a:ext cx="2438640" cy="3365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司马懿"/>
          <p:cNvPicPr/>
          <p:nvPr/>
        </p:nvPicPr>
        <p:blipFill>
          <a:blip r:embed="rId2"/>
          <a:stretch/>
        </p:blipFill>
        <p:spPr>
          <a:xfrm>
            <a:off x="4191120" y="4724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司马懿象"/>
          <p:cNvPicPr/>
          <p:nvPr/>
        </p:nvPicPr>
        <p:blipFill>
          <a:blip r:embed="rId3"/>
          <a:stretch/>
        </p:blipFill>
        <p:spPr>
          <a:xfrm>
            <a:off x="2514600" y="4876920"/>
            <a:ext cx="112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tIns="36000" anchor="ctr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方正姚体"/>
              </a:rPr>
              <a:t>作业布置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042560" y="2133720"/>
            <a:ext cx="7620120" cy="3527280"/>
          </a:xfrm>
          <a:prstGeom prst="rect">
            <a:avLst/>
          </a:prstGeom>
          <a:noFill/>
          <a:ln w="0">
            <a:noFill/>
          </a:ln>
        </p:spPr>
        <p:txBody>
          <a:bodyPr tIns="36000" anchor="t">
            <a:normAutofit/>
          </a:bodyPr>
          <a:p>
            <a:pPr marL="341280" indent="-71280">
              <a:lnSpc>
                <a:spcPts val="3461"/>
              </a:lnSpc>
              <a:spcBef>
                <a:spcPts val="201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熟读课文，掌握课下注释的重点字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71280">
              <a:lnSpc>
                <a:spcPts val="3461"/>
              </a:lnSpc>
              <a:spcBef>
                <a:spcPts val="201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如果敌军统帅换了司马昭，空城计还会用吗，用了还会成功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71280">
              <a:lnSpc>
                <a:spcPts val="3461"/>
              </a:lnSpc>
              <a:spcBef>
                <a:spcPts val="201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步训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相关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71280">
              <a:lnSpc>
                <a:spcPts val="3461"/>
              </a:lnSpc>
              <a:spcBef>
                <a:spcPts val="201"/>
              </a:spcBef>
              <a:buClr>
                <a:srgbClr val="000000"/>
              </a:buClr>
              <a:buSzPct val="33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释下列带下划线的字意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71280">
              <a:lnSpc>
                <a:spcPts val="3461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笑容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掬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父亲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何故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便退兵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宜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速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71280">
              <a:lnSpc>
                <a:spcPts val="3461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皆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sanguo"/>
          <p:cNvPicPr/>
          <p:nvPr/>
        </p:nvPicPr>
        <p:blipFill>
          <a:blip r:embed="rId1"/>
          <a:stretch/>
        </p:blipFill>
        <p:spPr>
          <a:xfrm>
            <a:off x="990720" y="228600"/>
            <a:ext cx="7848360" cy="1066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liubei3"/>
          <p:cNvPicPr/>
          <p:nvPr/>
        </p:nvPicPr>
        <p:blipFill>
          <a:blip r:embed="rId2"/>
          <a:stretch/>
        </p:blipFill>
        <p:spPr>
          <a:xfrm>
            <a:off x="1143000" y="1600200"/>
            <a:ext cx="2286000" cy="32893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caocao3_1"/>
          <p:cNvPicPr/>
          <p:nvPr/>
        </p:nvPicPr>
        <p:blipFill>
          <a:blip r:embed="rId3"/>
          <a:stretch/>
        </p:blipFill>
        <p:spPr>
          <a:xfrm>
            <a:off x="3733920" y="16002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sunquan"/>
          <p:cNvPicPr/>
          <p:nvPr/>
        </p:nvPicPr>
        <p:blipFill>
          <a:blip r:embed="rId4"/>
          <a:stretch/>
        </p:blipFill>
        <p:spPr>
          <a:xfrm>
            <a:off x="6477120" y="1600200"/>
            <a:ext cx="2209680" cy="322272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6"/>
          <p:cNvSpPr/>
          <p:nvPr/>
        </p:nvSpPr>
        <p:spPr>
          <a:xfrm>
            <a:off x="1295280" y="518148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刘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4038480" y="51814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曹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01028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孙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3:10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6:51Z</dcterms:modified>
  <cp:revision>9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