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.jpeg" ContentType="image/jpeg"/>
  <Override PartName="/ppt/media/image32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4A9E-6219-4C7B-8393-0E3F645774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075-F6AB-4C9D-B5E3-2D7DFA8897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10F4-94D7-4F3D-8618-598D5D5F592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她从一个乳臭未干的孩子，变成了亭亭玉立的少女，变成知识渊博的大学生，变成学富五车的博士，变成国家的栋梁，为祖国争得了荣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D998-3340-42B2-99A8-9511B4152D9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F8C-2EED-4596-ADC6-61B1DD35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F2C-C47F-4576-9CFC-26E70DF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469-3F73-4F7C-BBC6-9C6A9D1D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CF2-57BD-461D-94CD-720541F1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46C1-F75B-4605-A163-A445AAA8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6A25-CB16-4AF4-AB3D-8E9580F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814F-CC5F-4CF8-989E-5BDE86A3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35F-1C74-497A-89B0-A07F2D2D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F6A-AF12-484F-A51C-E03DD13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F07-79D3-4A54-A247-2ED8699E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96D0-2346-473D-BAAB-967B7E16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1C8-AB55-43B2-849E-08A20C7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A5A8-DCF2-494E-A581-E4D8C261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69A2-F037-439C-A635-FD22E15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1CF3-EC32-46CE-B079-9E0B052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8801-E271-4A5D-BAEF-C29BC0EE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75B7-E0ED-4346-B9F1-1E8EFA5C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BB088-4FBD-4F8D-B316-EEF5F828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EB70-BBC9-4480-87B3-1FB17FB8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F37C-0FD3-445A-9496-F90A7932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715D7-7B49-4A2E-90A2-652483E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4D91-FE14-46E1-885C-E51B3677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3154-C78F-427F-B596-2AA9A344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7131-A471-4415-945C-1C6F246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F6F2-B3A3-453F-9880-34BC6FE1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2058-86FE-44CF-ACDD-E8CDCE9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B7A7D-D532-45B8-A93C-9E5CA7DF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307-4588-4E66-BAE4-868400FD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4F53-CE98-4B8B-ACF2-10D5731F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CB23-E3A1-4E76-B1D9-E8D30006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868-66C5-4BFF-838A-2DEFDC4F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4231-5953-4BAA-B5EF-4E93C518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C5D-8806-4086-9F54-6E716112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1AC-BB75-47FF-9C23-4B9E25C1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27D-C9F3-428D-A57F-2864DCB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0F4-4098-4E2E-987D-37E1FDF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05C-7D07-4375-ACD2-732E7053E2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36E-FDF6-42CC-B8F1-A694CBCCA97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819A-0C6B-4853-8DE2-D915736CF00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06CD-A1DF-4C63-9DC4-90F07FFC9A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" Target="slide7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10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20065610118314"/>
          <p:cNvPicPr/>
          <p:nvPr/>
        </p:nvPicPr>
        <p:blipFill>
          <a:blip r:embed="rId2"/>
          <a:stretch/>
        </p:blipFill>
        <p:spPr>
          <a:xfrm>
            <a:off x="2122560" y="2060640"/>
            <a:ext cx="2305080" cy="4176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6769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20065712927747"/>
          <p:cNvPicPr/>
          <p:nvPr/>
        </p:nvPicPr>
        <p:blipFill>
          <a:blip r:embed="rId3"/>
          <a:stretch/>
        </p:blipFill>
        <p:spPr>
          <a:xfrm>
            <a:off x="252360" y="2060640"/>
            <a:ext cx="201600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1456344352122483"/>
          <p:cNvPicPr/>
          <p:nvPr/>
        </p:nvPicPr>
        <p:blipFill>
          <a:blip r:embed="rId4"/>
          <a:stretch/>
        </p:blipFill>
        <p:spPr>
          <a:xfrm>
            <a:off x="4427640" y="2060640"/>
            <a:ext cx="2158920" cy="417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792985123402"/>
          <p:cNvPicPr/>
          <p:nvPr/>
        </p:nvPicPr>
        <p:blipFill>
          <a:blip r:embed="rId5"/>
          <a:stretch/>
        </p:blipFill>
        <p:spPr>
          <a:xfrm>
            <a:off x="6588000" y="2060640"/>
            <a:ext cx="2305080" cy="4176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565200" y="76500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99"/>
                </a:solidFill>
                <a:latin typeface="微软雅黑"/>
                <a:ea typeface="微软雅黑"/>
              </a:rPr>
              <a:t>跨越百年的美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1744200" y="621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-642960" y="944640"/>
            <a:ext cx="2212920" cy="5913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7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课文可以分为三部分：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1628280"/>
            <a:ext cx="7772400" cy="17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然段）：描写居里夫人在法国科学院作学术报告的场面，突出了居里夫人美丽的形象和伟大的成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900000" y="33894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部分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）：居里夫人为了探索”其他物质有没有放射性“而进行了艰苦卓绝的研究，直到发现了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19080" y="5013360"/>
            <a:ext cx="76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部分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自然段）：写了居里夫人在名利面前的态度和做法，表现了居里夫人淡泊名利的高贵人格和全身心投入科学的忘我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J:\123\0919\PPT设计\站酷活动_PPT设计_花.gif"/>
          <p:cNvPicPr/>
          <p:nvPr/>
        </p:nvPicPr>
        <p:blipFill>
          <a:blip r:embed="rId1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J:\123\0919\PPT设计\一组小鸟.gif"/>
          <p:cNvPicPr/>
          <p:nvPr/>
        </p:nvPicPr>
        <p:blipFill>
          <a:blip r:embed="rId2"/>
          <a:stretch/>
        </p:blipFill>
        <p:spPr>
          <a:xfrm>
            <a:off x="1571760" y="5786280"/>
            <a:ext cx="1218960" cy="5065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30240" y="1095480"/>
            <a:ext cx="89294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54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文主要描写了居里夫人在法国科学院作学术报告的场面，详尽描述了她为寻找镭而进行艰苦卓绝的研究，直到发现镭的过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60000"/>
                </a:solidFill>
                <a:latin typeface="Times New Roman"/>
              </a:rPr>
              <a:t>近义词</a:t>
            </a:r>
            <a:r>
              <a:rPr b="0" lang="zh-CN" sz="4000" spc="-1" strike="noStrike">
                <a:solidFill>
                  <a:srgbClr val="560000"/>
                </a:solidFill>
                <a:latin typeface="Times New Roman"/>
              </a:rPr>
              <a:t>：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刚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坚毅   淡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淡漠   庄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庄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疲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疲惫   顽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坚强   卓有成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立竿见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00000" y="278136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反义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92280" y="4005360"/>
            <a:ext cx="806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庄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轻浮  疲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    偶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必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顽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软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930240"/>
            <a:ext cx="2214720" cy="591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979640" y="1700280"/>
            <a:ext cx="6337440" cy="1657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文章中居里夫人 “美丽”表现在哪些方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2600" y="642960"/>
            <a:ext cx="157644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思考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矩形 14"/>
          <p:cNvSpPr/>
          <p:nvPr/>
        </p:nvSpPr>
        <p:spPr>
          <a:xfrm>
            <a:off x="2714760" y="485784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0" descr=""/>
          <p:cNvPicPr/>
          <p:nvPr/>
        </p:nvPicPr>
        <p:blipFill>
          <a:blip r:embed="rId2"/>
          <a:stretch/>
        </p:blipFill>
        <p:spPr>
          <a:xfrm>
            <a:off x="7658280" y="1440"/>
            <a:ext cx="714240" cy="533520"/>
          </a:xfrm>
          <a:prstGeom prst="rect">
            <a:avLst/>
          </a:prstGeom>
          <a:ln w="0">
            <a:noFill/>
          </a:ln>
        </p:spPr>
      </p:pic>
      <p:pic>
        <p:nvPicPr>
          <p:cNvPr id="186" name="WordArt 7" descr=""/>
          <p:cNvPicPr/>
          <p:nvPr/>
        </p:nvPicPr>
        <p:blipFill>
          <a:blip r:embed="rId3"/>
          <a:stretch/>
        </p:blipFill>
        <p:spPr>
          <a:xfrm>
            <a:off x="506520" y="901800"/>
            <a:ext cx="7602480" cy="952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"/>
          <p:cNvSpPr/>
          <p:nvPr/>
        </p:nvSpPr>
        <p:spPr>
          <a:xfrm>
            <a:off x="893880" y="1916280"/>
            <a:ext cx="809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段： 玛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居里穿着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袭黑色长裙，白净端庄的脸庞显出坚定又略带淡泊的神情，而那双微微内陷的大眼睛，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则让你觉得能看透一切，看透未来。她的报告使全场震惊，物理学进入了一个新时代，而她那美丽而庄重的形象也就从此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定格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历史上，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定格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每个人的心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049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WordArt 7"/>
          <p:cNvSpPr txBox="1"/>
          <p:nvPr/>
        </p:nvSpPr>
        <p:spPr>
          <a:xfrm>
            <a:off x="1476360" y="1484280"/>
            <a:ext cx="304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外在美</a:t>
            </a:r>
            <a:endParaRPr b="1" lang="en-US" sz="6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0" name="Picture 12" descr="20049159866"/>
          <p:cNvPicPr/>
          <p:nvPr/>
        </p:nvPicPr>
        <p:blipFill>
          <a:blip r:embed="rId2"/>
          <a:stretch/>
        </p:blipFill>
        <p:spPr>
          <a:xfrm>
            <a:off x="0" y="4419720"/>
            <a:ext cx="15238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3"/>
          <p:cNvSpPr/>
          <p:nvPr/>
        </p:nvSpPr>
        <p:spPr>
          <a:xfrm>
            <a:off x="1547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美丽、贤淑、     端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5580000" y="0"/>
            <a:ext cx="356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8160" y="60480"/>
            <a:ext cx="9066240" cy="67420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0" descr=""/>
          <p:cNvPicPr/>
          <p:nvPr/>
        </p:nvPicPr>
        <p:blipFill>
          <a:blip r:embed="rId2"/>
          <a:stretch/>
        </p:blipFill>
        <p:spPr>
          <a:xfrm>
            <a:off x="7658280" y="1440"/>
            <a:ext cx="714240" cy="533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33">
            <a:hlinkClick r:id="rId3" action="ppaction://hlinksldjump"/>
          </p:cNvPr>
          <p:cNvSpPr/>
          <p:nvPr/>
        </p:nvSpPr>
        <p:spPr>
          <a:xfrm>
            <a:off x="2337840" y="928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华文彩云"/>
              </a:rPr>
              <a:t>合作探究，思想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1285920" y="250020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居里夫人的“美丽”还表现在哪些方面？（找出文章当中的句子，并用自己的话概括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cc3a">
              <a:alpha val="90000"/>
            </a:srgbClr>
          </a:solidFill>
          <a:ln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cc">
              <a:alpha val="71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矩形 7"/>
          <p:cNvSpPr/>
          <p:nvPr/>
        </p:nvSpPr>
        <p:spPr>
          <a:xfrm>
            <a:off x="571680" y="3500280"/>
            <a:ext cx="7929360" cy="300060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23"/>
          <p:cNvSpPr/>
          <p:nvPr/>
        </p:nvSpPr>
        <p:spPr>
          <a:xfrm>
            <a:off x="3106800" y="142920"/>
            <a:ext cx="293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 格 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组合 30"/>
          <p:cNvGrpSpPr/>
          <p:nvPr/>
        </p:nvGrpSpPr>
        <p:grpSpPr>
          <a:xfrm>
            <a:off x="500040" y="1071720"/>
            <a:ext cx="7858080" cy="2006280"/>
            <a:chOff x="500040" y="1071720"/>
            <a:chExt cx="7858080" cy="2006280"/>
          </a:xfrm>
        </p:grpSpPr>
        <p:sp>
          <p:nvSpPr>
            <p:cNvPr id="202" name="矩形 3"/>
            <p:cNvSpPr/>
            <p:nvPr/>
          </p:nvSpPr>
          <p:spPr>
            <a:xfrm>
              <a:off x="500040" y="1071720"/>
              <a:ext cx="7858080" cy="2006280"/>
            </a:xfrm>
            <a:prstGeom prst="rect">
              <a:avLst/>
            </a:prstGeom>
            <a:solidFill>
              <a:srgbClr val="ffffcc">
                <a:alpha val="67000"/>
              </a:srgbClr>
            </a:solidFill>
            <a:ln w="25560">
              <a:solidFill>
                <a:srgbClr val="236f23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组合 34"/>
            <p:cNvGrpSpPr/>
            <p:nvPr/>
          </p:nvGrpSpPr>
          <p:grpSpPr>
            <a:xfrm>
              <a:off x="784800" y="1363680"/>
              <a:ext cx="7502040" cy="1527120"/>
              <a:chOff x="784800" y="1363680"/>
              <a:chExt cx="7502040" cy="1527120"/>
            </a:xfrm>
          </p:grpSpPr>
          <p:sp>
            <p:nvSpPr>
              <p:cNvPr id="204" name="矩形 6"/>
              <p:cNvSpPr/>
              <p:nvPr/>
            </p:nvSpPr>
            <p:spPr>
              <a:xfrm>
                <a:off x="784800" y="1935000"/>
                <a:ext cx="782280" cy="476280"/>
              </a:xfrm>
              <a:prstGeom prst="rect">
                <a:avLst/>
              </a:prstGeom>
              <a:solidFill>
                <a:srgbClr val="f4d000"/>
              </a:solidFill>
              <a:ln w="25560">
                <a:solidFill>
                  <a:srgbClr val="236f23">
                    <a:alpha val="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矩形 10"/>
              <p:cNvSpPr/>
              <p:nvPr/>
            </p:nvSpPr>
            <p:spPr>
              <a:xfrm>
                <a:off x="1929240" y="1363680"/>
                <a:ext cx="6357600" cy="1527120"/>
              </a:xfrm>
              <a:prstGeom prst="rect">
                <a:avLst/>
              </a:prstGeom>
              <a:noFill/>
              <a:ln w="25560">
                <a:solidFill>
                  <a:srgbClr val="f4d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Box 14"/>
              <p:cNvSpPr/>
              <p:nvPr/>
            </p:nvSpPr>
            <p:spPr>
              <a:xfrm>
                <a:off x="785520" y="1935360"/>
                <a:ext cx="13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cc"/>
                    </a:solidFill>
                    <a:latin typeface="微软雅黑"/>
                    <a:ea typeface="微软雅黑"/>
                  </a:rPr>
                  <a:t>  </a:t>
                </a:r>
                <a:r>
                  <a:rPr b="1" lang="en-US" sz="2400" spc="-1" strike="noStrike">
                    <a:solidFill>
                      <a:srgbClr val="ffffcc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Box 24"/>
              <p:cNvSpPr/>
              <p:nvPr/>
            </p:nvSpPr>
            <p:spPr>
              <a:xfrm>
                <a:off x="1929240" y="1377720"/>
                <a:ext cx="635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别人在海滩上捡到一个贝壳，她却要研究一下这贝壳是怎样生、怎样 长，怎样冲到海滩上来的。别人摸瓜她寻藤，别人摘叶她问根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" name="组合 45"/>
          <p:cNvGrpSpPr/>
          <p:nvPr/>
        </p:nvGrpSpPr>
        <p:grpSpPr>
          <a:xfrm>
            <a:off x="714240" y="3643200"/>
            <a:ext cx="7858440" cy="2786040"/>
            <a:chOff x="714240" y="3643200"/>
            <a:chExt cx="7858440" cy="2786040"/>
          </a:xfrm>
        </p:grpSpPr>
        <p:sp>
          <p:nvSpPr>
            <p:cNvPr id="209" name="矩形 17"/>
            <p:cNvSpPr/>
            <p:nvPr/>
          </p:nvSpPr>
          <p:spPr>
            <a:xfrm>
              <a:off x="1914480" y="3714480"/>
              <a:ext cx="6645600" cy="271476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矩形 11"/>
            <p:cNvSpPr/>
            <p:nvPr/>
          </p:nvSpPr>
          <p:spPr>
            <a:xfrm>
              <a:off x="714240" y="4500360"/>
              <a:ext cx="799920" cy="474480"/>
            </a:xfrm>
            <a:prstGeom prst="rect">
              <a:avLst/>
            </a:prstGeom>
            <a:solidFill>
              <a:srgbClr val="e5a951"/>
            </a:solidFill>
            <a:ln w="25560">
              <a:solidFill>
                <a:srgbClr val="236f23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Box 20"/>
            <p:cNvSpPr/>
            <p:nvPr/>
          </p:nvSpPr>
          <p:spPr>
            <a:xfrm>
              <a:off x="714240" y="450036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Box 26"/>
            <p:cNvSpPr/>
            <p:nvPr/>
          </p:nvSpPr>
          <p:spPr>
            <a:xfrm>
              <a:off x="1914840" y="3643200"/>
              <a:ext cx="665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化验室只是一个废弃的破棚子，玛丽终日在烟熏火燎中搅拌着锅里的矿渣。她衣裙上，双手上，留下了酸碱的点点烧痕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5"/>
          <p:cNvSpPr/>
          <p:nvPr/>
        </p:nvSpPr>
        <p:spPr>
          <a:xfrm>
            <a:off x="3786120" y="2571840"/>
            <a:ext cx="4122720" cy="5205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（善于发现问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313240" y="5481720"/>
            <a:ext cx="3214800" cy="5205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（艰苦奋斗的作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cc3a">
              <a:alpha val="90000"/>
            </a:srgbClr>
          </a:solidFill>
          <a:ln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cc">
              <a:alpha val="71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571680" y="1143000"/>
            <a:ext cx="8143560" cy="135720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571680" y="3286080"/>
            <a:ext cx="8143560" cy="121464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500040" y="3071880"/>
            <a:ext cx="8143920" cy="149544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组合 34"/>
          <p:cNvGrpSpPr/>
          <p:nvPr/>
        </p:nvGrpSpPr>
        <p:grpSpPr>
          <a:xfrm>
            <a:off x="714240" y="1285920"/>
            <a:ext cx="7643880" cy="1020600"/>
            <a:chOff x="714240" y="1285920"/>
            <a:chExt cx="7643880" cy="1020600"/>
          </a:xfrm>
        </p:grpSpPr>
        <p:sp>
          <p:nvSpPr>
            <p:cNvPr id="221" name="矩形 6"/>
            <p:cNvSpPr/>
            <p:nvPr/>
          </p:nvSpPr>
          <p:spPr>
            <a:xfrm>
              <a:off x="714240" y="1285920"/>
              <a:ext cx="1133280" cy="1020600"/>
            </a:xfrm>
            <a:prstGeom prst="rect">
              <a:avLst/>
            </a:prstGeom>
            <a:solidFill>
              <a:srgbClr val="f4d000"/>
            </a:solidFill>
            <a:ln w="25560">
              <a:solidFill>
                <a:srgbClr val="236f23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矩形 10"/>
            <p:cNvSpPr/>
            <p:nvPr/>
          </p:nvSpPr>
          <p:spPr>
            <a:xfrm>
              <a:off x="1898280" y="1285920"/>
              <a:ext cx="6459840" cy="1020600"/>
            </a:xfrm>
            <a:prstGeom prst="rect">
              <a:avLst/>
            </a:prstGeom>
            <a:noFill/>
            <a:ln w="25560">
              <a:solidFill>
                <a:srgbClr val="f4d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856800" y="150012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Box 24"/>
            <p:cNvSpPr/>
            <p:nvPr/>
          </p:nvSpPr>
          <p:spPr>
            <a:xfrm>
              <a:off x="1897560" y="1315800"/>
              <a:ext cx="625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终于经过三年又九个月，他们在成吨的矿渣中提炼出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克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组合 37"/>
          <p:cNvGrpSpPr/>
          <p:nvPr/>
        </p:nvGrpSpPr>
        <p:grpSpPr>
          <a:xfrm>
            <a:off x="928800" y="3214800"/>
            <a:ext cx="7929360" cy="3643200"/>
            <a:chOff x="928800" y="3214800"/>
            <a:chExt cx="7929360" cy="3643200"/>
          </a:xfrm>
        </p:grpSpPr>
        <p:sp>
          <p:nvSpPr>
            <p:cNvPr id="226" name="矩形 18"/>
            <p:cNvSpPr/>
            <p:nvPr/>
          </p:nvSpPr>
          <p:spPr>
            <a:xfrm>
              <a:off x="2071800" y="6812280"/>
              <a:ext cx="6299280" cy="45720"/>
            </a:xfrm>
            <a:prstGeom prst="rect">
              <a:avLst/>
            </a:prstGeom>
            <a:noFill/>
            <a:ln w="25560">
              <a:solidFill>
                <a:srgbClr val="54ad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Box 21"/>
            <p:cNvSpPr/>
            <p:nvPr/>
          </p:nvSpPr>
          <p:spPr>
            <a:xfrm>
              <a:off x="928800" y="4546440"/>
              <a:ext cx="7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Box 27"/>
            <p:cNvSpPr/>
            <p:nvPr/>
          </p:nvSpPr>
          <p:spPr>
            <a:xfrm>
              <a:off x="1928880" y="3214800"/>
              <a:ext cx="6929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镭射线也在无声地侵蚀着她的肌体。她美丽健康的容貌在悄悄地隐退，她逐渐变得眼花耳鸣，苍白乏力。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矩形 13"/>
          <p:cNvSpPr/>
          <p:nvPr/>
        </p:nvSpPr>
        <p:spPr>
          <a:xfrm>
            <a:off x="714240" y="3429000"/>
            <a:ext cx="1143000" cy="928800"/>
          </a:xfrm>
          <a:prstGeom prst="rect">
            <a:avLst/>
          </a:prstGeom>
          <a:solidFill>
            <a:srgbClr val="a0b43c"/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14"/>
          <p:cNvSpPr/>
          <p:nvPr/>
        </p:nvSpPr>
        <p:spPr>
          <a:xfrm>
            <a:off x="928800" y="357192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5211720" y="1795320"/>
            <a:ext cx="29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坚定信念和执着追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4714920" y="407196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献身科学事业的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2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2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1cc3a">
              <a:alpha val="90000"/>
            </a:srgbClr>
          </a:solidFill>
          <a:ln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矩形 2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solidFill>
            <a:srgbClr val="ffffcc">
              <a:alpha val="71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571680" y="1143000"/>
            <a:ext cx="8143560" cy="157176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40" y="3071880"/>
            <a:ext cx="8143920" cy="150012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8"/>
          <p:cNvSpPr/>
          <p:nvPr/>
        </p:nvSpPr>
        <p:spPr>
          <a:xfrm flipV="1">
            <a:off x="2286000" y="7215120"/>
            <a:ext cx="6286680" cy="285840"/>
          </a:xfrm>
          <a:prstGeom prst="rect">
            <a:avLst/>
          </a:prstGeom>
          <a:solidFill>
            <a:srgbClr val="ffffcc">
              <a:alpha val="67000"/>
            </a:srgbClr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组合 34"/>
          <p:cNvGrpSpPr/>
          <p:nvPr/>
        </p:nvGrpSpPr>
        <p:grpSpPr>
          <a:xfrm>
            <a:off x="714240" y="1357200"/>
            <a:ext cx="7643880" cy="1214640"/>
            <a:chOff x="714240" y="1357200"/>
            <a:chExt cx="7643880" cy="1214640"/>
          </a:xfrm>
        </p:grpSpPr>
        <p:sp>
          <p:nvSpPr>
            <p:cNvPr id="239" name="矩形 6"/>
            <p:cNvSpPr/>
            <p:nvPr/>
          </p:nvSpPr>
          <p:spPr>
            <a:xfrm>
              <a:off x="714240" y="1500120"/>
              <a:ext cx="1071360" cy="857520"/>
            </a:xfrm>
            <a:prstGeom prst="rect">
              <a:avLst/>
            </a:prstGeom>
            <a:solidFill>
              <a:srgbClr val="f4d000"/>
            </a:solidFill>
            <a:ln w="25560">
              <a:solidFill>
                <a:srgbClr val="236f23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矩形 10"/>
            <p:cNvSpPr/>
            <p:nvPr/>
          </p:nvSpPr>
          <p:spPr>
            <a:xfrm>
              <a:off x="1898280" y="1357200"/>
              <a:ext cx="6459840" cy="1214640"/>
            </a:xfrm>
            <a:prstGeom prst="rect">
              <a:avLst/>
            </a:prstGeom>
            <a:noFill/>
            <a:ln w="25560">
              <a:solidFill>
                <a:srgbClr val="f4d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Box 14"/>
            <p:cNvSpPr/>
            <p:nvPr/>
          </p:nvSpPr>
          <p:spPr>
            <a:xfrm>
              <a:off x="856800" y="1643040"/>
              <a:ext cx="78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ffffcc"/>
                  </a:solidFill>
                  <a:latin typeface="微软雅黑"/>
                  <a:ea typeface="微软雅黑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Box 24"/>
            <p:cNvSpPr/>
            <p:nvPr/>
          </p:nvSpPr>
          <p:spPr>
            <a:xfrm>
              <a:off x="1897560" y="1387080"/>
              <a:ext cx="625464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组合 45"/>
          <p:cNvGrpSpPr/>
          <p:nvPr/>
        </p:nvGrpSpPr>
        <p:grpSpPr>
          <a:xfrm>
            <a:off x="571680" y="1357200"/>
            <a:ext cx="8358120" cy="3143520"/>
            <a:chOff x="571680" y="1357200"/>
            <a:chExt cx="8358120" cy="3143520"/>
          </a:xfrm>
        </p:grpSpPr>
        <p:sp>
          <p:nvSpPr>
            <p:cNvPr id="244" name="矩形 17"/>
            <p:cNvSpPr/>
            <p:nvPr/>
          </p:nvSpPr>
          <p:spPr>
            <a:xfrm>
              <a:off x="1785960" y="3286080"/>
              <a:ext cx="7143840" cy="1214640"/>
            </a:xfrm>
            <a:prstGeom prst="rect">
              <a:avLst/>
            </a:prstGeom>
            <a:noFill/>
            <a:ln w="25560">
              <a:solidFill>
                <a:srgbClr val="e5a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Box 20"/>
            <p:cNvSpPr/>
            <p:nvPr/>
          </p:nvSpPr>
          <p:spPr>
            <a:xfrm>
              <a:off x="571680" y="2928960"/>
              <a:ext cx="113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Box 26"/>
            <p:cNvSpPr/>
            <p:nvPr/>
          </p:nvSpPr>
          <p:spPr>
            <a:xfrm>
              <a:off x="1785960" y="1357200"/>
              <a:ext cx="635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她一如既往，埋头工作到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岁离开人世，离开了她心爱的实验室。直到她死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年，她用过的笔记本里，还有射线在不停地释放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组合 37"/>
          <p:cNvGrpSpPr/>
          <p:nvPr/>
        </p:nvGrpSpPr>
        <p:grpSpPr>
          <a:xfrm>
            <a:off x="423720" y="3286080"/>
            <a:ext cx="8720280" cy="4429080"/>
            <a:chOff x="423720" y="3286080"/>
            <a:chExt cx="8720280" cy="4429080"/>
          </a:xfrm>
        </p:grpSpPr>
        <p:sp>
          <p:nvSpPr>
            <p:cNvPr id="248" name="矩形 12"/>
            <p:cNvSpPr/>
            <p:nvPr/>
          </p:nvSpPr>
          <p:spPr>
            <a:xfrm>
              <a:off x="423720" y="7659720"/>
              <a:ext cx="79200" cy="55440"/>
            </a:xfrm>
            <a:prstGeom prst="rect">
              <a:avLst/>
            </a:prstGeom>
            <a:solidFill>
              <a:srgbClr val="54adb6"/>
            </a:solidFill>
            <a:ln w="25560">
              <a:solidFill>
                <a:srgbClr val="236f23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矩形 18"/>
            <p:cNvSpPr/>
            <p:nvPr/>
          </p:nvSpPr>
          <p:spPr>
            <a:xfrm>
              <a:off x="1623600" y="7659720"/>
              <a:ext cx="6264360" cy="55440"/>
            </a:xfrm>
            <a:prstGeom prst="rect">
              <a:avLst/>
            </a:prstGeom>
            <a:noFill/>
            <a:ln w="25560">
              <a:solidFill>
                <a:srgbClr val="54ad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Box 27"/>
            <p:cNvSpPr/>
            <p:nvPr/>
          </p:nvSpPr>
          <p:spPr>
            <a:xfrm>
              <a:off x="1684080" y="3286080"/>
              <a:ext cx="74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她视名利如粪土，她将奖金赠给科研事业战争中的法国，而将那些奖章送给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岁的小女儿去当玩具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矩形 13"/>
          <p:cNvSpPr/>
          <p:nvPr/>
        </p:nvSpPr>
        <p:spPr>
          <a:xfrm>
            <a:off x="642960" y="3214800"/>
            <a:ext cx="1071720" cy="928440"/>
          </a:xfrm>
          <a:prstGeom prst="rect">
            <a:avLst/>
          </a:prstGeom>
          <a:solidFill>
            <a:srgbClr val="a0b43c"/>
          </a:solidFill>
          <a:ln w="25560">
            <a:solidFill>
              <a:srgbClr val="236f23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785880" y="3500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微软雅黑"/>
                <a:ea typeface="微软雅黑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4"/>
          <p:cNvSpPr/>
          <p:nvPr/>
        </p:nvSpPr>
        <p:spPr>
          <a:xfrm>
            <a:off x="5429160" y="421488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淡泊名利的品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5"/>
          <p:cNvSpPr/>
          <p:nvPr/>
        </p:nvSpPr>
        <p:spPr>
          <a:xfrm>
            <a:off x="5286240" y="2500200"/>
            <a:ext cx="27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献身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6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6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2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2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d60093"/>
                </a:solidFill>
                <a:latin typeface="华文琥珀"/>
                <a:ea typeface="楷体_GB2312"/>
              </a:rPr>
              <a:t>美丽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话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内容占位符 3" descr=""/>
          <p:cNvPicPr/>
          <p:nvPr/>
        </p:nvPicPr>
        <p:blipFill>
          <a:blip r:embed="rId1"/>
          <a:stretch/>
        </p:blipFill>
        <p:spPr>
          <a:xfrm>
            <a:off x="552600" y="2212920"/>
            <a:ext cx="2038320" cy="246708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" descr=""/>
          <p:cNvPicPr/>
          <p:nvPr/>
        </p:nvPicPr>
        <p:blipFill>
          <a:blip r:embed="rId2"/>
          <a:stretch/>
        </p:blipFill>
        <p:spPr>
          <a:xfrm>
            <a:off x="2838600" y="2212920"/>
            <a:ext cx="1795320" cy="23241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5" descr=""/>
          <p:cNvPicPr/>
          <p:nvPr/>
        </p:nvPicPr>
        <p:blipFill>
          <a:blip r:embed="rId3"/>
          <a:stretch/>
        </p:blipFill>
        <p:spPr>
          <a:xfrm>
            <a:off x="4695840" y="1927080"/>
            <a:ext cx="4324320" cy="3824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571680" y="485784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容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3000240" y="4857840"/>
            <a:ext cx="135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眼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072040" y="600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震后孩子们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</a:rPr>
              <a:t>美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笑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9">
            <a:hlinkClick r:id="rId4" action="ppaction://hlinksldjump"/>
          </p:cNvPr>
          <p:cNvSpPr/>
          <p:nvPr/>
        </p:nvSpPr>
        <p:spPr>
          <a:xfrm>
            <a:off x="4572000" y="6453360"/>
            <a:ext cx="503280" cy="40464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861" h="21600">
                <a:moveTo>
                  <a:pt x="0" y="0"/>
                </a:moveTo>
                <a:lnTo>
                  <a:pt x="26861" y="0"/>
                </a:lnTo>
                <a:lnTo>
                  <a:pt x="26861" y="21600"/>
                </a:lnTo>
                <a:lnTo>
                  <a:pt x="0" y="21600"/>
                </a:lnTo>
                <a:close/>
              </a:path>
              <a:path fill="lightenLess" w="26861" h="21600">
                <a:moveTo>
                  <a:pt x="0" y="0"/>
                </a:moveTo>
                <a:lnTo>
                  <a:pt x="26861" y="0"/>
                </a:lnTo>
                <a:lnTo>
                  <a:pt x="25461" y="1400"/>
                </a:lnTo>
                <a:lnTo>
                  <a:pt x="1400" y="1400"/>
                </a:lnTo>
                <a:close/>
              </a:path>
              <a:path fill="darken" w="26861" h="21600">
                <a:moveTo>
                  <a:pt x="26861" y="0"/>
                </a:moveTo>
                <a:lnTo>
                  <a:pt x="26861" y="21600"/>
                </a:lnTo>
                <a:lnTo>
                  <a:pt x="25461" y="20200"/>
                </a:lnTo>
                <a:lnTo>
                  <a:pt x="25461" y="1400"/>
                </a:lnTo>
                <a:close/>
              </a:path>
              <a:path fill="darkenLess" w="26861" h="21600">
                <a:moveTo>
                  <a:pt x="26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61" y="20200"/>
                </a:lnTo>
                <a:close/>
              </a:path>
              <a:path fill="lighten" w="26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61" h="21600">
                <a:moveTo>
                  <a:pt x="16929" y="10800"/>
                </a:moveTo>
                <a:lnTo>
                  <a:pt x="6424" y="17806"/>
                </a:lnTo>
                <a:lnTo>
                  <a:pt x="6424" y="3794"/>
                </a:lnTo>
                <a:close/>
              </a:path>
              <a:path fill="darken" w="26861" h="21600">
                <a:moveTo>
                  <a:pt x="18774" y="3794"/>
                </a:moveTo>
                <a:lnTo>
                  <a:pt x="18774" y="17806"/>
                </a:lnTo>
                <a:lnTo>
                  <a:pt x="20437" y="17806"/>
                </a:lnTo>
                <a:lnTo>
                  <a:pt x="20437" y="3794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00"/>
                </a:solidFill>
                <a:latin typeface="Times New Roman"/>
              </a:rPr>
              <a:t>对句子的理解：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184428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她的报告使全场震惊，物理学进入了一个新的时代，而她那美丽、庄重的形象也就从此定格在历史上，定格在每个人的心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-63360" y="10414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39600" y="27082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tretch/>
        </p:blipFill>
        <p:spPr>
          <a:xfrm>
            <a:off x="-19080" y="4379760"/>
            <a:ext cx="628560" cy="609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tretch/>
        </p:blipFill>
        <p:spPr>
          <a:xfrm>
            <a:off x="1692360" y="624852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6"/>
          <a:stretch/>
        </p:blipFill>
        <p:spPr>
          <a:xfrm>
            <a:off x="3641760" y="62992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7"/>
          <a:stretch/>
        </p:blipFill>
        <p:spPr>
          <a:xfrm>
            <a:off x="34920" y="6248520"/>
            <a:ext cx="6285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886880" cy="267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她那美丽、庄重的形象”是指“一袭黑色的长裙”“白净端庄的面庞”“坚定又略带淡泊的神情”“微微内陷的大眼睛”，也暗指这一形象背后坚毅执着的精神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808000"/>
                </a:solidFill>
                <a:latin typeface="Times New Roman"/>
              </a:rPr>
              <a:t>这句话写出了居里夫人对科学的巨大贡献</a:t>
            </a:r>
            <a:r>
              <a:rPr b="0" lang="zh-CN" sz="3200" spc="-1" strike="noStrike">
                <a:solidFill>
                  <a:srgbClr val="808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-63360" y="10414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2"/>
          <a:stretch/>
        </p:blipFill>
        <p:spPr>
          <a:xfrm>
            <a:off x="0" y="3000240"/>
            <a:ext cx="628560" cy="609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3"/>
          <a:stretch/>
        </p:blipFill>
        <p:spPr>
          <a:xfrm>
            <a:off x="-19080" y="4379760"/>
            <a:ext cx="628560" cy="609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4"/>
          <a:stretch/>
        </p:blipFill>
        <p:spPr>
          <a:xfrm>
            <a:off x="1692360" y="624852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5"/>
          <a:stretch/>
        </p:blipFill>
        <p:spPr>
          <a:xfrm>
            <a:off x="3641760" y="62992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6"/>
          <a:stretch/>
        </p:blipFill>
        <p:spPr>
          <a:xfrm>
            <a:off x="34920" y="6248520"/>
            <a:ext cx="6285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26920" y="165060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这点美丽的淡蓝色的荧光，融入了一个女子美丽的生命和不屈的信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-63360" y="10414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"/>
          <p:cNvPicPr/>
          <p:nvPr/>
        </p:nvPicPr>
        <p:blipFill>
          <a:blip r:embed="rId2"/>
          <a:stretch/>
        </p:blipFill>
        <p:spPr>
          <a:xfrm>
            <a:off x="39600" y="27082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-19080" y="4379760"/>
            <a:ext cx="628560" cy="609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4"/>
          <a:stretch/>
        </p:blipFill>
        <p:spPr>
          <a:xfrm>
            <a:off x="1692360" y="624852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"/>
          <p:cNvPicPr/>
          <p:nvPr/>
        </p:nvPicPr>
        <p:blipFill>
          <a:blip r:embed="rId5"/>
          <a:stretch/>
        </p:blipFill>
        <p:spPr>
          <a:xfrm>
            <a:off x="3641760" y="6299280"/>
            <a:ext cx="628560" cy="6094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9" descr=""/>
          <p:cNvPicPr/>
          <p:nvPr/>
        </p:nvPicPr>
        <p:blipFill>
          <a:blip r:embed="rId6"/>
          <a:stretch/>
        </p:blipFill>
        <p:spPr>
          <a:xfrm>
            <a:off x="34920" y="6248520"/>
            <a:ext cx="6285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299700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项成就的取得也是居里夫人坚持探寻“其他物质有没有放射性”的信念的结果，因而融入了“不屈的信念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971640" y="1197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蓝色的荧光”是指：居里夫人提炼出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克镭所发出的。也就是她的成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971640" y="24922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成就的取得，是居里夫人终日的烟熏火燎、身体的疲劳为代价获得的，因而融入了“美丽的生命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4360" y="620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种可贵的性格和高远的追求，是玛丽居里几乎在完成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这项伟大自然发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同时，也完成了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人生意义的发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468360" y="23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句中红色的句子指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84360" y="299736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项伟大的自然发现”指的是：居里夫人发现了放射性金属元素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539640" y="443700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重大意义的发现”指的是：居里夫人明白了人生的价值并不在于年轻美貌、金钱名利、而在于为科学做出贡献，为人类做出贡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685800" y="609120"/>
            <a:ext cx="777240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她从一个漂亮的小姑娘，。。。。。。，她变成了科学史上一块永远的里程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2"/>
          <p:cNvSpPr/>
          <p:nvPr/>
        </p:nvSpPr>
        <p:spPr>
          <a:xfrm>
            <a:off x="695160" y="2060640"/>
            <a:ext cx="79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“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变成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造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684360" y="3068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个变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2411280" y="306720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写出了居里夫人奋斗的一生以及不朽的成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684360" y="4724280"/>
            <a:ext cx="75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E:\ppt模板\个人作品\素材\b3ef76c641c8434f9d163d18_副本.png"/>
          <p:cNvPicPr/>
          <p:nvPr/>
        </p:nvPicPr>
        <p:blipFill>
          <a:blip r:embed="rId1"/>
          <a:stretch/>
        </p:blipFill>
        <p:spPr>
          <a:xfrm>
            <a:off x="1981080" y="50292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E:\ppt模板\个人作品\素材\b3ef76c641c8434f9d163d18_副本.png"/>
          <p:cNvPicPr/>
          <p:nvPr/>
        </p:nvPicPr>
        <p:blipFill>
          <a:blip r:embed="rId2"/>
          <a:stretch/>
        </p:blipFill>
        <p:spPr>
          <a:xfrm>
            <a:off x="1981080" y="373392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E:\ppt模板\个人作品\素材\b3ef76c641c8434f9d163d18_副本.png"/>
          <p:cNvPicPr/>
          <p:nvPr/>
        </p:nvPicPr>
        <p:blipFill>
          <a:blip r:embed="rId3"/>
          <a:stretch/>
        </p:blipFill>
        <p:spPr>
          <a:xfrm>
            <a:off x="1981080" y="2514600"/>
            <a:ext cx="628920" cy="609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E:\ppt模板\个人作品\素材\b3ef76c641c8434f9d163d18_副本.png"/>
          <p:cNvPicPr/>
          <p:nvPr/>
        </p:nvPicPr>
        <p:blipFill>
          <a:blip r:embed="rId4"/>
          <a:stretch/>
        </p:blipFill>
        <p:spPr>
          <a:xfrm>
            <a:off x="1981080" y="1066680"/>
            <a:ext cx="628920" cy="609840"/>
          </a:xfrm>
          <a:prstGeom prst="rect">
            <a:avLst/>
          </a:prstGeom>
          <a:ln w="0">
            <a:noFill/>
          </a:ln>
        </p:spPr>
      </p:pic>
      <p:sp>
        <p:nvSpPr>
          <p:cNvPr id="293" name="TextBox 6"/>
          <p:cNvSpPr/>
          <p:nvPr/>
        </p:nvSpPr>
        <p:spPr>
          <a:xfrm>
            <a:off x="174960" y="1785960"/>
            <a:ext cx="12776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居里夫人的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横卷形 7"/>
          <p:cNvSpPr/>
          <p:nvPr/>
        </p:nvSpPr>
        <p:spPr>
          <a:xfrm>
            <a:off x="2786040" y="928800"/>
            <a:ext cx="1643040" cy="838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5560">
            <a:solidFill>
              <a:srgbClr val="adc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容貌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7" descr="E:\ppt模板\商务\图片_副本_副本.png"/>
          <p:cNvPicPr/>
          <p:nvPr/>
        </p:nvPicPr>
        <p:blipFill>
          <a:blip r:embed="rId5"/>
          <a:stretch/>
        </p:blipFill>
        <p:spPr>
          <a:xfrm>
            <a:off x="380880" y="5670720"/>
            <a:ext cx="1324080" cy="1187280"/>
          </a:xfrm>
          <a:prstGeom prst="rect">
            <a:avLst/>
          </a:prstGeom>
          <a:ln w="0">
            <a:noFill/>
          </a:ln>
        </p:spPr>
      </p:pic>
      <p:sp>
        <p:nvSpPr>
          <p:cNvPr id="296" name="横卷形 12"/>
          <p:cNvSpPr/>
          <p:nvPr/>
        </p:nvSpPr>
        <p:spPr>
          <a:xfrm>
            <a:off x="2685960" y="3405240"/>
            <a:ext cx="1819440" cy="126684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5560">
            <a:solidFill>
              <a:srgbClr val="adc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科学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横卷形 13"/>
          <p:cNvSpPr/>
          <p:nvPr/>
        </p:nvSpPr>
        <p:spPr>
          <a:xfrm>
            <a:off x="4950000" y="2819520"/>
            <a:ext cx="1928520" cy="838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5560">
            <a:solidFill>
              <a:srgbClr val="adc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对科学执着追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横卷形 14"/>
          <p:cNvSpPr/>
          <p:nvPr/>
        </p:nvSpPr>
        <p:spPr>
          <a:xfrm>
            <a:off x="4929120" y="4786200"/>
            <a:ext cx="1881360" cy="83844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5560">
            <a:solidFill>
              <a:srgbClr val="adc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泊名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横卷形 15"/>
          <p:cNvSpPr/>
          <p:nvPr/>
        </p:nvSpPr>
        <p:spPr>
          <a:xfrm>
            <a:off x="4929120" y="3786120"/>
            <a:ext cx="1881360" cy="83844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5560">
            <a:solidFill>
              <a:srgbClr val="adca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献身科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572000" y="2857680"/>
            <a:ext cx="144360" cy="28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image001"/>
          <p:cNvPicPr/>
          <p:nvPr/>
        </p:nvPicPr>
        <p:blipFill>
          <a:blip r:embed="rId1"/>
          <a:stretch/>
        </p:blipFill>
        <p:spPr>
          <a:xfrm>
            <a:off x="0" y="1557360"/>
            <a:ext cx="3309840" cy="4319640"/>
          </a:xfrm>
          <a:prstGeom prst="rect">
            <a:avLst/>
          </a:prstGeom>
          <a:ln w="0">
            <a:noFill/>
          </a:ln>
        </p:spPr>
      </p:pic>
      <p:sp>
        <p:nvSpPr>
          <p:cNvPr id="302" name="WordArt 9"/>
          <p:cNvSpPr txBox="1"/>
          <p:nvPr/>
        </p:nvSpPr>
        <p:spPr>
          <a:xfrm>
            <a:off x="714240" y="500040"/>
            <a:ext cx="78613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居里夫人的“美丽”为什么能跨越百年？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348000" y="1641960"/>
            <a:ext cx="57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年是虚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意即“永恒”，她的伟大发现对社会的贡献永恒，她的优秀品质和人格精神永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571920" y="3786120"/>
            <a:ext cx="55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居里夫人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美丽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已成为人类共同拥有的精神财富，流传至今，还要继续流传下去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回读全文，谈谈对课题的理解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她依然美丽的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居里夫人的美名，从她发现镭那一刻起就流传于世，迄今已经百年。这是她用全部的青春、信念和生命换来的荣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直到她身后４０年，她用过的笔记本里，还有射线在不停地释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5010120"/>
            <a:ext cx="91440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外在的美是短暂的、易逝的，只有内在的美才会是永恒的，不变的。居里夫人的“美丽”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不仅表现在她美丽的容颜，更重要的表现在她那坚定执著的信念与追求、为科学献身的崇高精神、淡薄名利的人格魅力上。所以，她的美丽才会牢牢铭刻在人们心中，才会跨越百年，甚至是永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003640" y="1125360"/>
            <a:ext cx="4140360" cy="52056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科学献身精神永放光芒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的美丽的容貌在悄悄地隐退，课题为什么却说是跨越百年的美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612720" y="2492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虽然身体的美丽消失了，但是献身科学的精神，淡泊名利的作和伟大的科学成就，散发着灿烂的光芒，美丽永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36360" y="5602320"/>
            <a:ext cx="9144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美”的释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48000" y="2165040"/>
            <a:ext cx="547200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指味、色、声、态的好。如：美味；美观；良辰美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指才德或品质的好。如：美德；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91ae68c6149d0a079d163db4"/>
          <p:cNvPicPr/>
          <p:nvPr/>
        </p:nvPicPr>
        <p:blipFill>
          <a:blip r:embed="rId1"/>
          <a:stretch/>
        </p:blipFill>
        <p:spPr>
          <a:xfrm>
            <a:off x="611280" y="2165400"/>
            <a:ext cx="252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居里夫人的名言：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7240" y="1989000"/>
            <a:ext cx="79171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弱者坐待时机；强者制造时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要有毅力，否则将一事无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要把人生变成科学的梦，然后再把梦变成现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2" descr=""/>
          <p:cNvPicPr/>
          <p:nvPr/>
        </p:nvPicPr>
        <p:blipFill>
          <a:blip r:embed="rId1"/>
          <a:stretch/>
        </p:blipFill>
        <p:spPr>
          <a:xfrm>
            <a:off x="1440" y="5602320"/>
            <a:ext cx="9142560" cy="12571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4"/>
          <p:cNvGrpSpPr/>
          <p:nvPr/>
        </p:nvGrpSpPr>
        <p:grpSpPr>
          <a:xfrm>
            <a:off x="7072200" y="3214800"/>
            <a:ext cx="2408400" cy="3219480"/>
            <a:chOff x="7072200" y="3214800"/>
            <a:chExt cx="2408400" cy="3219480"/>
          </a:xfrm>
        </p:grpSpPr>
        <p:pic>
          <p:nvPicPr>
            <p:cNvPr id="317" name="图片 15" descr=""/>
            <p:cNvPicPr/>
            <p:nvPr/>
          </p:nvPicPr>
          <p:blipFill>
            <a:blip r:embed="rId2"/>
            <a:stretch/>
          </p:blipFill>
          <p:spPr>
            <a:xfrm>
              <a:off x="7072200" y="3214800"/>
              <a:ext cx="2408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67"/>
            <p:cNvSpPr/>
            <p:nvPr/>
          </p:nvSpPr>
          <p:spPr>
            <a:xfrm rot="20589000">
              <a:off x="7601760" y="4538880"/>
              <a:ext cx="130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仔细思考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矩形 6"/>
          <p:cNvSpPr/>
          <p:nvPr/>
        </p:nvSpPr>
        <p:spPr>
          <a:xfrm>
            <a:off x="971640" y="836640"/>
            <a:ext cx="685800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黑体"/>
              </a:rPr>
              <a:t>在科学上，没有平坦的大道可走，只有那些不畏艰险，沿着陡峭山路不断攀登的人，才有希望达到光辉的顶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卡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马克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文本框 2"/>
          <p:cNvSpPr/>
          <p:nvPr/>
        </p:nvSpPr>
        <p:spPr>
          <a:xfrm>
            <a:off x="507960" y="5229360"/>
            <a:ext cx="77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6" descr="http://www.wordppt.com/upload/2010_12/10121309201733.jpg"/>
          <p:cNvPicPr/>
          <p:nvPr/>
        </p:nvPicPr>
        <p:blipFill>
          <a:blip r:embed="rId1"/>
          <a:stretch/>
        </p:blipFill>
        <p:spPr>
          <a:xfrm>
            <a:off x="-9360" y="0"/>
            <a:ext cx="9153360" cy="68644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2860200"/>
            <a:ext cx="578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66"/>
                </a:solidFill>
                <a:latin typeface="Times New Roman"/>
                <a:ea typeface="黑体"/>
              </a:rPr>
              <a:t>谢谢观看 ！ </a:t>
            </a:r>
            <a:endParaRPr b="0" lang="en-US" sz="8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cc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404-6C1A-4140-9A83-200D8C17F1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327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22400" y="3572280"/>
            <a:ext cx="54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Arial Black"/>
              </a:rPr>
              <a:t>梁衡：</a:t>
            </a:r>
            <a:r>
              <a:rPr b="1" lang="en-US" sz="3600" spc="-1" strike="noStrike">
                <a:solidFill>
                  <a:srgbClr val="0000cc"/>
                </a:solidFill>
                <a:latin typeface="Arial Black"/>
              </a:rPr>
              <a:t>1946</a:t>
            </a:r>
            <a:r>
              <a:rPr b="1" lang="zh-CN" sz="3600" spc="-1" strike="noStrike">
                <a:solidFill>
                  <a:srgbClr val="0000cc"/>
                </a:solidFill>
                <a:latin typeface="Arial Black"/>
              </a:rPr>
              <a:t>年出生，</a:t>
            </a:r>
            <a:r>
              <a:rPr b="1" lang="en-US" sz="3600" spc="-1" strike="noStrike">
                <a:solidFill>
                  <a:srgbClr val="0000cc"/>
                </a:solidFill>
                <a:latin typeface="Arial Black"/>
              </a:rPr>
              <a:t>1968</a:t>
            </a:r>
            <a:r>
              <a:rPr b="1" lang="zh-CN" sz="3600" spc="-1" strike="noStrike">
                <a:solidFill>
                  <a:srgbClr val="0000cc"/>
                </a:solidFill>
                <a:latin typeface="Arial Black"/>
              </a:rPr>
              <a:t>年毕业于中国人民大学。历任内蒙古日报记者、光明日记者、国家新闻出版署副署长。现任人民日报副总编辑、中国人民大学新闻学院博士生导师、中国作家协会全委会委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5546880" y="0"/>
            <a:ext cx="359712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20640" y="1068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作品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梁衡文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新闻三部曲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没有新闻的角落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新闻绿叶的脉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新闻原理的思考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散文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只求新去处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人杰鬼雄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名山大川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科学史章回小说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数理化通俗演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政论集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继承与超越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。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晋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夏感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觅渡，觅渡，渡何处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跨越百年的美丽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四篇作品入选中学课本和师范教材。曾获青年文学奖、赵树理文学奖、全国优秀科普作品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067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居里夫人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635280" y="320652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262699"/>
                </a:solidFill>
                <a:latin typeface="黑体"/>
                <a:ea typeface="黑体"/>
              </a:rPr>
              <a:t>玛丽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  <a:ea typeface="黑体"/>
              </a:rPr>
              <a:t>·</a:t>
            </a:r>
            <a:r>
              <a:rPr b="1" lang="zh-CN" sz="2800" spc="-1" strike="noStrike">
                <a:solidFill>
                  <a:srgbClr val="262699"/>
                </a:solidFill>
                <a:latin typeface="黑体"/>
                <a:ea typeface="黑体"/>
              </a:rPr>
              <a:t>居里（</a:t>
            </a:r>
            <a:r>
              <a:rPr b="1" lang="en-US" sz="2800" spc="-1" strike="noStrike">
                <a:solidFill>
                  <a:srgbClr val="262699"/>
                </a:solidFill>
                <a:latin typeface="黑体"/>
                <a:ea typeface="黑体"/>
              </a:rPr>
              <a:t>1867.11.7</a:t>
            </a:r>
            <a:r>
              <a:rPr b="1" lang="en-US" sz="2800" spc="-1" strike="noStrike">
                <a:solidFill>
                  <a:srgbClr val="262699"/>
                </a:solidFill>
                <a:latin typeface="Times New Roman"/>
                <a:ea typeface="黑体"/>
              </a:rPr>
              <a:t>—</a:t>
            </a:r>
            <a:r>
              <a:rPr b="1" lang="en-US" sz="2800" spc="-1" strike="noStrike">
                <a:solidFill>
                  <a:srgbClr val="262699"/>
                </a:solidFill>
                <a:latin typeface="黑体"/>
                <a:ea typeface="黑体"/>
              </a:rPr>
              <a:t>1934.7.4</a:t>
            </a:r>
            <a:r>
              <a:rPr b="1" lang="zh-CN" sz="2800" spc="-1" strike="noStrike">
                <a:solidFill>
                  <a:srgbClr val="262699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d0d0d"/>
                </a:solidFill>
                <a:latin typeface="宋体"/>
              </a:rPr>
              <a:t>法国物理学家、化学家。原籍波兰。与其丈夫比埃尔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d0d0d"/>
                </a:solidFill>
                <a:latin typeface="Times New Roman"/>
              </a:rPr>
              <a:t>居里共同研究放射性现象。后来又发现了另一种放射性元素钋。</a:t>
            </a:r>
            <a:r>
              <a:rPr b="1" lang="zh-CN" sz="2800" spc="-1" strike="noStrike">
                <a:solidFill>
                  <a:srgbClr val="22228b"/>
                </a:solidFill>
                <a:latin typeface="黑体"/>
                <a:ea typeface="黑体"/>
              </a:rPr>
              <a:t>一生两度获诺贝尔奖（第一次获得诺贝尔物理奖，第二次获得诺贝尔化学奖）。用了好几年在研究镭的过程中，作为杰出科学家，居里夫人有一般科学家所没有的社会影响。尤其因为是成功女性的先驱，她的典范激励了很多人</a:t>
            </a:r>
            <a:r>
              <a:rPr b="1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居里夫人4"/>
          <p:cNvPicPr/>
          <p:nvPr/>
        </p:nvPicPr>
        <p:blipFill>
          <a:blip r:embed="rId1"/>
          <a:stretch/>
        </p:blipFill>
        <p:spPr>
          <a:xfrm>
            <a:off x="285840" y="1500120"/>
            <a:ext cx="3203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J:\123\0919\PPT设计\站酷活动_PPT设计_花.gif"/>
          <p:cNvPicPr/>
          <p:nvPr/>
        </p:nvPicPr>
        <p:blipFill>
          <a:blip r:embed="rId1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J:\123\0919\PPT设计\一组小鸟.gif"/>
          <p:cNvPicPr/>
          <p:nvPr/>
        </p:nvPicPr>
        <p:blipFill>
          <a:blip r:embed="rId2"/>
          <a:stretch/>
        </p:blipFill>
        <p:spPr>
          <a:xfrm>
            <a:off x="1571760" y="5786280"/>
            <a:ext cx="1218960" cy="506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1785960" y="1928880"/>
            <a:ext cx="714384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7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读课文注意读准字音、读通句子，画出文中你不认识的字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划分课文的层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47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文章主要讲了什么内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33">
            <a:hlinkClick r:id="rId3" action="ppaction://hlinksldjump"/>
          </p:cNvPr>
          <p:cNvSpPr/>
          <p:nvPr/>
        </p:nvSpPr>
        <p:spPr>
          <a:xfrm>
            <a:off x="3052080" y="50004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eade"/>
                </a:solidFill>
                <a:latin typeface="Times New Roman"/>
                <a:ea typeface="华文彩云"/>
              </a:rPr>
              <a:t>自读课文，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J:\123\0919\PPT设计\站酷活动_PPT设计_花.gif"/>
          <p:cNvPicPr/>
          <p:nvPr/>
        </p:nvPicPr>
        <p:blipFill>
          <a:blip r:embed="rId1"/>
          <a:stretch/>
        </p:blipFill>
        <p:spPr>
          <a:xfrm>
            <a:off x="0" y="46432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J:\123\0919\PPT设计\一组小鸟.gif"/>
          <p:cNvPicPr/>
          <p:nvPr/>
        </p:nvPicPr>
        <p:blipFill>
          <a:blip r:embed="rId2"/>
          <a:stretch/>
        </p:blipFill>
        <p:spPr>
          <a:xfrm>
            <a:off x="1571760" y="5786280"/>
            <a:ext cx="1218960" cy="5065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33">
            <a:hlinkClick r:id="rId3" action="ppaction://hlinksldjump"/>
          </p:cNvPr>
          <p:cNvSpPr/>
          <p:nvPr/>
        </p:nvSpPr>
        <p:spPr>
          <a:xfrm>
            <a:off x="3050280" y="549360"/>
            <a:ext cx="32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deead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eeade"/>
                </a:solidFill>
                <a:latin typeface="Times New Roman"/>
                <a:ea typeface="华文彩云"/>
              </a:rPr>
              <a:t>字  词  学  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4"/>
          <a:stretch/>
        </p:blipFill>
        <p:spPr>
          <a:xfrm>
            <a:off x="0" y="1928880"/>
            <a:ext cx="9144000" cy="3009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8"/>
          <p:cNvSpPr/>
          <p:nvPr/>
        </p:nvSpPr>
        <p:spPr>
          <a:xfrm>
            <a:off x="714240" y="192888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āi    l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ú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n 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ɡ   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ī       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ji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ǎ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n   w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n    zh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785880" y="4286160"/>
            <a:ext cx="807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Xi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o   s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á          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ù          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xi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á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n    f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è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n     ju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ā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J:\123\0919\PPT设计\站酷活动_PPT设计_花.gif"/>
          <p:cNvPicPr/>
          <p:nvPr/>
        </p:nvPicPr>
        <p:blipFill>
          <a:blip r:embed="rId1"/>
          <a:stretch/>
        </p:blipFill>
        <p:spPr>
          <a:xfrm>
            <a:off x="0" y="419112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J:\123\0919\PPT设计\一组小鸟.gif"/>
          <p:cNvPicPr/>
          <p:nvPr/>
        </p:nvPicPr>
        <p:blipFill>
          <a:blip r:embed="rId2"/>
          <a:stretch/>
        </p:blipFill>
        <p:spPr>
          <a:xfrm>
            <a:off x="1571760" y="5786280"/>
            <a:ext cx="1218960" cy="5065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214200" y="0"/>
            <a:ext cx="8929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声鼎沸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ēn shēng dǐng fèi)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群发出的声音像水在锅里沸腾一样，形容人声嘈杂喧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庄重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huāng zhòng)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严肃稳重。不随便，不轻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卓有成效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huó yǒu chéng xiào)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卓：卓越，高超。有突出的成绩和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侵蚀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qīn shí)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逐渐地破坏或腐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捐赠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juān zèng)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赠送（物品给国家或集体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溶解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óng ji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种物质（溶质）分散于另一种物质（溶剂）中成为溶液的过程。如食盐或糖溶解于水而成为溶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5:55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2:05Z</dcterms:modified>
  <cp:revision>1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