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912A-3CBA-4AA6-8284-71C89A5ECB6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3603-5880-4649-8375-4A9C65B0F5C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E994-6672-4495-89DF-9C8819153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CB95-47C1-4934-ABC8-5F5FD7A5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8CFD-9095-41CD-BFE4-AA7CA8D86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9F6E-EDEF-4F7A-A7AB-E307F8BE4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E308-953D-475E-B97D-CA27AAEB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1630-C13D-4818-8A62-875D3BA9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CE73-5A10-45B0-ADA4-9902E27E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E4BF-6DF9-4CFE-B766-CEA052DF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2CB9-5F7E-490A-91DE-62A8A75F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467A-64D1-43CA-971D-D752AE1B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672B-9693-4DA1-B0A2-0225177F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BDDB-E338-47F1-AC4F-EE02D0D2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FAC4-2D05-4799-979B-32A65B157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2124000" y="1187640"/>
            <a:ext cx="7018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子学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kz"/>
          <p:cNvPicPr/>
          <p:nvPr/>
        </p:nvPicPr>
        <p:blipFill>
          <a:blip r:embed="rId1"/>
          <a:stretch/>
        </p:blipFill>
        <p:spPr>
          <a:xfrm>
            <a:off x="15840" y="1268280"/>
            <a:ext cx="2820960" cy="5131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3241800" y="3716280"/>
            <a:ext cx="5256000" cy="1357200"/>
          </a:xfrm>
          <a:prstGeom prst="rect">
            <a:avLst/>
          </a:prstGeom>
          <a:ln w="0">
            <a:noFill/>
          </a:ln>
        </p:spPr>
      </p:pic>
      <p:sp>
        <p:nvSpPr>
          <p:cNvPr id="51" name="矩形 9"/>
          <p:cNvSpPr/>
          <p:nvPr/>
        </p:nvSpPr>
        <p:spPr>
          <a:xfrm>
            <a:off x="3160440" y="5661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468360" y="298836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孔1"/>
          <p:cNvPicPr/>
          <p:nvPr/>
        </p:nvPicPr>
        <p:blipFill>
          <a:blip r:embed="rId1"/>
          <a:stretch/>
        </p:blipFill>
        <p:spPr>
          <a:xfrm>
            <a:off x="7559640" y="5502240"/>
            <a:ext cx="1584360" cy="13557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250920" y="2421720"/>
            <a:ext cx="8353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一晃十天过去了，师襄还不见孔子来学新的曲子，感到有些奇怪，便去看个究竟。他踏着琴声来到孔子的窗前，只见孔子正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毕恭毕敬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地弹着那首曲子，弹完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一遍又一遍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，丝毫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没有厌倦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的样子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468360" y="765000"/>
            <a:ext cx="828036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 flipV="1">
            <a:off x="830160" y="3212640"/>
            <a:ext cx="770436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孔1"/>
          <p:cNvPicPr/>
          <p:nvPr/>
        </p:nvPicPr>
        <p:blipFill>
          <a:blip r:embed="rId1"/>
          <a:stretch/>
        </p:blipFill>
        <p:spPr>
          <a:xfrm>
            <a:off x="7559640" y="5084640"/>
            <a:ext cx="1584360" cy="13557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468360" y="3136680"/>
            <a:ext cx="7634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①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师襄说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已经练了整整十天，这首曲子也会弹了，可以再学一首新的曲子了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子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诚恳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只学会了曲谱，还没有真正掌握弹奏的技巧呢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468360" y="476280"/>
            <a:ext cx="8280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导学提示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：读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2—5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自然段师襄与孔子的对话，体会感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468360" y="2894400"/>
            <a:ext cx="83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孔1"/>
          <p:cNvPicPr/>
          <p:nvPr/>
        </p:nvPicPr>
        <p:blipFill>
          <a:blip r:embed="rId1"/>
          <a:stretch/>
        </p:blipFill>
        <p:spPr>
          <a:xfrm>
            <a:off x="7559640" y="5229360"/>
            <a:ext cx="1584360" cy="13557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7"/>
          <p:cNvSpPr/>
          <p:nvPr/>
        </p:nvSpPr>
        <p:spPr>
          <a:xfrm>
            <a:off x="324000" y="1628640"/>
            <a:ext cx="860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②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师襄说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已经掌握了弹奏的技巧，可以学一首新的曲子了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子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摇摇头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还没有真正领会这首曲子的思想内容，这样弹奏怎么会使人感动呢？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468360" y="2319480"/>
            <a:ext cx="828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③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师襄说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已经弹出了乐曲的思想感情，领会了音乐的精神，可以学一首新曲子了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子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又摇摇头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认真地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答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行啊，我还没体会出作曲者是一位怎样的人呢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完，又沉浸在琴声里，似乎想得很远很远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·····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孔1"/>
          <p:cNvPicPr/>
          <p:nvPr/>
        </p:nvPicPr>
        <p:blipFill>
          <a:blip r:embed="rId1"/>
          <a:stretch/>
        </p:blipFill>
        <p:spPr>
          <a:xfrm>
            <a:off x="7559640" y="5502240"/>
            <a:ext cx="1584360" cy="13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324000" y="258156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④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突然，琴声戛然而止，孔子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激动的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站起来，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大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说：“我已经知道作曲者是谁了。他就是体恤百姓、胸怀博大的周文王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孔1"/>
          <p:cNvPicPr/>
          <p:nvPr/>
        </p:nvPicPr>
        <p:blipFill>
          <a:blip r:embed="rId1"/>
          <a:stretch/>
        </p:blipFill>
        <p:spPr>
          <a:xfrm>
            <a:off x="7559640" y="5084640"/>
            <a:ext cx="1584360" cy="13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孔1"/>
          <p:cNvPicPr/>
          <p:nvPr/>
        </p:nvPicPr>
        <p:blipFill>
          <a:blip r:embed="rId1"/>
          <a:stretch/>
        </p:blipFill>
        <p:spPr>
          <a:xfrm>
            <a:off x="7559640" y="5084640"/>
            <a:ext cx="1584360" cy="1355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"/>
          <p:cNvSpPr/>
          <p:nvPr/>
        </p:nvSpPr>
        <p:spPr>
          <a:xfrm>
            <a:off x="611280" y="4203720"/>
            <a:ext cx="77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答：因为孔子学琴的态度认真、不知疲倦；而且孔子不断进取，精益求精、每次都有新的目标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493560" y="1268280"/>
            <a:ext cx="820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问题再现：孔子的琴艺是怎样达到炉火纯青的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8000" y="333360"/>
            <a:ext cx="830088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79280" y="333360"/>
            <a:ext cx="81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324000" y="14842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324000" y="1628640"/>
            <a:ext cx="85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王操</a:t>
            </a:r>
            <a:r>
              <a:rPr b="0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古代中国人对理想社会和理想人格的颂歌 ，它的旋律丰富感人 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思考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84978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孔子学琴的故事中，说说你受到了什么启发？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"/>
          <p:cNvSpPr/>
          <p:nvPr/>
        </p:nvSpPr>
        <p:spPr>
          <a:xfrm>
            <a:off x="965160" y="5556240"/>
            <a:ext cx="65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孔子的名言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324000" y="1484280"/>
            <a:ext cx="83534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三人行，必有我师焉。择其善者而从之，其不善者而改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温故而知新，可以为师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 学而不厌，诲人不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有朋自远方来，不亦乐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知之为不之，不知为不知，是知也。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文王操.mp3" descr=""/>
          <p:cNvPicPr/>
          <p:nvPr/>
        </p:nvPicPr>
        <p:blipFill>
          <a:blip r:embed="rId1"/>
          <a:stretch/>
        </p:blipFill>
        <p:spPr>
          <a:xfrm>
            <a:off x="7956720" y="5661000"/>
            <a:ext cx="520560" cy="50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62743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84BF-BE6C-4B7C-8145-046173D7478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孔子学琴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8442720" y="5969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9"/>
          <p:cNvSpPr/>
          <p:nvPr/>
        </p:nvSpPr>
        <p:spPr>
          <a:xfrm>
            <a:off x="900000" y="20415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2727720"/>
            <a:ext cx="943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2987640" y="2081160"/>
            <a:ext cx="61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秋末期思想家，教育家，音乐家。儒家学派创始人，名丘，字仲尼，鲁国（今山东曲阜）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子的言论大都由他的学生收集在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论语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书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3059280" y="360360"/>
            <a:ext cx="28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孔子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1" descr="t018bc7724af99b307d"/>
          <p:cNvPicPr/>
          <p:nvPr/>
        </p:nvPicPr>
        <p:blipFill>
          <a:blip r:embed="rId1"/>
          <a:stretch/>
        </p:blipFill>
        <p:spPr>
          <a:xfrm>
            <a:off x="0" y="1197000"/>
            <a:ext cx="298764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提示</a:t>
            </a:r>
            <a:r>
              <a:rPr b="0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06436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齐读第一自然段，这一自然段体现了孔子具有什么样的品质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2340000" y="4005360"/>
            <a:ext cx="63374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从不满足、虚心好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提示</a:t>
            </a:r>
            <a:r>
              <a:rPr b="0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072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同学们默读课文</a:t>
            </a: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—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，画出这几个自然段</a:t>
            </a: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表示时间变化的词语。想一想，孔子学琴分为几个阶段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-360" y="206064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在这四个阶段中，找出表示孔子练琴程度的词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79280" y="691920"/>
            <a:ext cx="485928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提示</a:t>
            </a:r>
            <a:r>
              <a:rPr b="0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095640" y="3645000"/>
            <a:ext cx="60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炉火纯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11280" y="1916280"/>
            <a:ext cx="756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孔子练琴最后达到了一种什么境界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468360" y="549360"/>
            <a:ext cx="60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思考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68360" y="1268280"/>
            <a:ext cx="577224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炉火纯青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000" y="2491920"/>
            <a:ext cx="88200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本义：相传道家炼丹，直到炉子里的火发出纯青色的火焰时，就算成功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  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比喻：学问、技术或办事达到了纯熟完美的地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468360" y="298836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孔1"/>
          <p:cNvPicPr/>
          <p:nvPr/>
        </p:nvPicPr>
        <p:blipFill>
          <a:blip r:embed="rId1"/>
          <a:stretch/>
        </p:blipFill>
        <p:spPr>
          <a:xfrm>
            <a:off x="7559640" y="5084640"/>
            <a:ext cx="1584360" cy="13557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7"/>
          <p:cNvSpPr/>
          <p:nvPr/>
        </p:nvSpPr>
        <p:spPr>
          <a:xfrm>
            <a:off x="468360" y="3866400"/>
            <a:ext cx="7848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导学提示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：可以根据第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自然段的相关语句进行分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395280" y="476280"/>
            <a:ext cx="84247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讨论：孔子的琴艺是怎样达到炉火纯青的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3T12:55:5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53:17Z</dcterms:modified>
  <cp:revision>2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