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7.gif" ContentType="image/gif"/>
  <Override PartName="/ppt/media/image6.jpeg" ContentType="image/jpeg"/>
  <Override PartName="/ppt/media/image10.png" ContentType="image/png"/>
  <Override PartName="/ppt/media/image22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comments/comment2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<Relationship Id="rId46" Type="http://schemas.openxmlformats.org/officeDocument/2006/relationships/commentAuthors" Target="commentAuthors.xml"/>
</Relationships>
</file>

<file path=ppt/comments/comment29.xml><?xml version="1.0" encoding="utf-8"?>
<p:cmLst xmlns:p="http://schemas.openxmlformats.org/presentationml/2006/main">
  <p:cm authorId="0" dt="2011-04-27T10:31:23.972000000" idx="1">
    <p:pos x="698" y="215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7EE-55A2-4D85-AE9D-105ABB79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613-B23C-4BA9-89CE-9C0EAC0E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F90-F2D9-40B0-B807-9156D4EB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1999-C559-459F-A619-196BF261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4E0-F87A-4507-9C9D-680BD406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336-812A-4F2F-B7C1-A29B8F84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0F5-7DC7-49D3-842C-85A3664B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2AD-E69C-4CBC-B0D9-75B023AA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2AD-D86A-4FC0-8A07-F3BA7062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E46-0351-4AF4-93F2-8925C98B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9F6D-E8D6-4A34-87B4-951512CA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898-2990-44C3-8A17-99F2E5D6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A7B3-CB12-4E09-BFEC-F984F39F9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23.png"/><Relationship Id="rId14" Type="http://schemas.openxmlformats.org/officeDocument/2006/relationships/image" Target="../media/image7.gif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0080520150655459"/>
          <p:cNvPicPr/>
          <p:nvPr/>
        </p:nvPicPr>
        <p:blipFill>
          <a:blip r:embed="rId2"/>
          <a:stretch/>
        </p:blipFill>
        <p:spPr>
          <a:xfrm>
            <a:off x="609480" y="787320"/>
            <a:ext cx="6400800" cy="43498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7010280" y="990720"/>
            <a:ext cx="897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狼和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0"/>
          <p:cNvSpPr/>
          <p:nvPr/>
        </p:nvSpPr>
        <p:spPr>
          <a:xfrm>
            <a:off x="1909440" y="60958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lu2_023"/>
          <p:cNvPicPr/>
          <p:nvPr/>
        </p:nvPicPr>
        <p:blipFill>
          <a:blip r:embed="rId2"/>
          <a:stretch/>
        </p:blipFill>
        <p:spPr>
          <a:xfrm>
            <a:off x="0" y="0"/>
            <a:ext cx="9145440" cy="5581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dw011"/>
          <p:cNvPicPr/>
          <p:nvPr/>
        </p:nvPicPr>
        <p:blipFill>
          <a:blip r:embed="rId3"/>
          <a:stretch/>
        </p:blipFill>
        <p:spPr>
          <a:xfrm flipH="1">
            <a:off x="5943600" y="1066680"/>
            <a:ext cx="860400" cy="70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dw011"/>
          <p:cNvPicPr/>
          <p:nvPr/>
        </p:nvPicPr>
        <p:blipFill>
          <a:blip r:embed="rId4"/>
          <a:stretch/>
        </p:blipFill>
        <p:spPr>
          <a:xfrm flipH="1">
            <a:off x="1905120" y="838080"/>
            <a:ext cx="860400" cy="7048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1"/>
          <p:cNvSpPr/>
          <p:nvPr/>
        </p:nvSpPr>
        <p:spPr>
          <a:xfrm>
            <a:off x="0" y="571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一百多年以前，凯巴伯森林一片葱绿，生机勃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dw011"/>
          <p:cNvPicPr/>
          <p:nvPr/>
        </p:nvPicPr>
        <p:blipFill>
          <a:blip r:embed="rId5"/>
          <a:stretch/>
        </p:blipFill>
        <p:spPr>
          <a:xfrm flipH="1">
            <a:off x="2743200" y="990720"/>
            <a:ext cx="860400" cy="7048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3"/>
          <p:cNvSpPr/>
          <p:nvPr/>
        </p:nvSpPr>
        <p:spPr>
          <a:xfrm>
            <a:off x="1143000" y="205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用自己的话描述美丽的画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4"/>
          <p:cNvSpPr/>
          <p:nvPr/>
        </p:nvSpPr>
        <p:spPr>
          <a:xfrm flipV="1" rot="10800000">
            <a:off x="-1440" y="4097160"/>
            <a:ext cx="91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森林里，天空湛蓝，湖水清澈，树木茂盛，花儿鲜艳，小鸟在枝头唱歌，一切都那么生机勃勃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990720" y="74628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看看课文是怎么描述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04920" y="52578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整个森林像着了火一样，绿色在消退，枯黄在蔓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sinrin13"/>
          <p:cNvPicPr/>
          <p:nvPr/>
        </p:nvPicPr>
        <p:blipFill>
          <a:blip r:embed="rId1"/>
          <a:stretch/>
        </p:blipFill>
        <p:spPr>
          <a:xfrm>
            <a:off x="380880" y="27000"/>
            <a:ext cx="8382240" cy="5181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380880" y="75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找出一对反义词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899000" y="776160"/>
            <a:ext cx="44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从这两个词中，你感受到了什么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405440" y="5791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蔓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6891840" y="5226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消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533520" y="187416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33"/>
                </a:solidFill>
                <a:latin typeface="Arial"/>
              </a:rPr>
              <a:t>森林中的绿色在逐渐减少，意味着森林即将遭遇灾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457200" y="316944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原来生机勃勃的森林，变成现在这个样子，你的心情如何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5834520" y="304740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33"/>
                </a:solidFill>
                <a:latin typeface="Arial"/>
              </a:rPr>
              <a:t>惋惜、悲伤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sinrin13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267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365040" y="4675320"/>
            <a:ext cx="390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百多年以前，凯巴伯森林一片</a:t>
            </a:r>
            <a:r>
              <a:rPr b="1" lang="zh-CN" sz="3200" spc="-1" strike="noStrike">
                <a:solidFill>
                  <a:srgbClr val="00dc49"/>
                </a:solidFill>
                <a:latin typeface="Times New Roman"/>
                <a:ea typeface="隶书"/>
              </a:rPr>
              <a:t>葱绿，生机勃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714920" y="4648320"/>
            <a:ext cx="39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整个森林像着了火一样，绿色在</a:t>
            </a:r>
            <a:r>
              <a:rPr b="1" lang="zh-CN" sz="3200" spc="-1" strike="noStrike">
                <a:solidFill>
                  <a:srgbClr val="d2c80a"/>
                </a:solidFill>
                <a:latin typeface="Times New Roman"/>
                <a:ea typeface="隶书"/>
              </a:rPr>
              <a:t>消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枯黄在</a:t>
            </a:r>
            <a:r>
              <a:rPr b="1" lang="zh-CN" sz="3200" spc="-1" strike="noStrike">
                <a:solidFill>
                  <a:srgbClr val="d2c80a"/>
                </a:solidFill>
                <a:latin typeface="Times New Roman"/>
                <a:ea typeface="隶书"/>
              </a:rPr>
              <a:t>蔓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lu2_023"/>
          <p:cNvPicPr/>
          <p:nvPr/>
        </p:nvPicPr>
        <p:blipFill>
          <a:blip r:embed="rId2"/>
          <a:stretch/>
        </p:blipFill>
        <p:spPr>
          <a:xfrm>
            <a:off x="0" y="0"/>
            <a:ext cx="4549680" cy="42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0" y="7632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同一座森林，为什么会出现这么大的变化？找出文中有关语句回答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1920" y="281952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sinrin13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6172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45720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可是，随着鹿群的大量繁殖，森林闹起了饥荒。灌木、小树、嫩枝、树皮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一切能吃到的绿色植物，都被饥饿的鹿吃光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28600" y="990720"/>
            <a:ext cx="868680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活动二：归根究底，总结原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朗读课文第一、三自然段，了解鹿群数量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默读课文第二、三自然段，想想鹿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此变化的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默读全文，小组思考讨论引起凯巴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森林如此变化的真正祸首是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lu"/>
          <p:cNvPicPr/>
          <p:nvPr/>
        </p:nvPicPr>
        <p:blipFill>
          <a:blip r:embed="rId1"/>
          <a:stretch/>
        </p:blipFill>
        <p:spPr>
          <a:xfrm>
            <a:off x="2057400" y="838080"/>
            <a:ext cx="4572000" cy="3124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1114200" y="4543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千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628800" y="419112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十万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037280" y="4495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八千只病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440080" y="4572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5869080" y="44956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301680" y="6094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52280" y="2819520"/>
            <a:ext cx="854100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28600" y="609480"/>
            <a:ext cx="8610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朗读课文第三自然段，思考鹿群数量的变化，填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28600" y="1905120"/>
            <a:ext cx="8915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时森林里大约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   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很快，鹿的总数就超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   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仅仅两个冬天，鹿就死去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  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4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，凯巴伯森林只剩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  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病鹿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4453200" y="18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四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96000" y="2406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十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920040" y="2971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六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4300920" y="3505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八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3821400" y="4266720"/>
            <a:ext cx="8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从这组数字中，你体会到了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 flipV="1" rot="10800000">
            <a:off x="0" y="5118480"/>
            <a:ext cx="91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鹿在森林中自由自在的嬉戏，无忧无虑的生儿育女，然而随着鹿的总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猛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森林遭受到了灭顶之灾，也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影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了鹿群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生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未命名 - 1"/>
          <p:cNvPicPr/>
          <p:nvPr/>
        </p:nvPicPr>
        <p:blipFill>
          <a:blip r:embed="rId2"/>
          <a:stretch/>
        </p:blipFill>
        <p:spPr>
          <a:xfrm>
            <a:off x="152280" y="228600"/>
            <a:ext cx="8991720" cy="5870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鹿"/>
          <p:cNvPicPr/>
          <p:nvPr/>
        </p:nvPicPr>
        <p:blipFill>
          <a:blip r:embed="rId3"/>
          <a:stretch/>
        </p:blipFill>
        <p:spPr>
          <a:xfrm rot="21268800">
            <a:off x="4267080" y="3809520"/>
            <a:ext cx="1032120" cy="1317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鹿"/>
          <p:cNvPicPr/>
          <p:nvPr/>
        </p:nvPicPr>
        <p:blipFill>
          <a:blip r:embed="rId4"/>
          <a:stretch/>
        </p:blipFill>
        <p:spPr>
          <a:xfrm rot="21268800">
            <a:off x="5638680" y="4800240"/>
            <a:ext cx="1032120" cy="1317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鹿"/>
          <p:cNvPicPr/>
          <p:nvPr/>
        </p:nvPicPr>
        <p:blipFill>
          <a:blip r:embed="rId5"/>
          <a:stretch/>
        </p:blipFill>
        <p:spPr>
          <a:xfrm rot="21268800">
            <a:off x="2743200" y="3123720"/>
            <a:ext cx="1031760" cy="1317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鹿"/>
          <p:cNvPicPr/>
          <p:nvPr/>
        </p:nvPicPr>
        <p:blipFill>
          <a:blip r:embed="rId6"/>
          <a:stretch/>
        </p:blipFill>
        <p:spPr>
          <a:xfrm rot="21268800">
            <a:off x="3124080" y="4647960"/>
            <a:ext cx="1032120" cy="1317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dw011"/>
          <p:cNvPicPr/>
          <p:nvPr/>
        </p:nvPicPr>
        <p:blipFill>
          <a:blip r:embed="rId7"/>
          <a:stretch/>
        </p:blipFill>
        <p:spPr>
          <a:xfrm>
            <a:off x="5715000" y="3048120"/>
            <a:ext cx="952560" cy="704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dw011"/>
          <p:cNvPicPr/>
          <p:nvPr/>
        </p:nvPicPr>
        <p:blipFill>
          <a:blip r:embed="rId8"/>
          <a:stretch/>
        </p:blipFill>
        <p:spPr>
          <a:xfrm>
            <a:off x="7010280" y="2057400"/>
            <a:ext cx="952560" cy="704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dw011"/>
          <p:cNvPicPr/>
          <p:nvPr/>
        </p:nvPicPr>
        <p:blipFill>
          <a:blip r:embed="rId9"/>
          <a:stretch/>
        </p:blipFill>
        <p:spPr>
          <a:xfrm flipH="1">
            <a:off x="3124080" y="1828800"/>
            <a:ext cx="860400" cy="70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dw011"/>
          <p:cNvPicPr/>
          <p:nvPr/>
        </p:nvPicPr>
        <p:blipFill>
          <a:blip r:embed="rId10"/>
          <a:stretch/>
        </p:blipFill>
        <p:spPr>
          <a:xfrm flipH="1">
            <a:off x="5562720" y="1066680"/>
            <a:ext cx="8604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018 C -0.00503 -0.03078 -0.00122 -0.01852 -0.0224 -0.01365 C -0.02378 -0.01342 -0.02656 -0.01018 -0.02656 -0.00995 C -0.03229 -0.0118 -0.03628 -0.0125 -0.04115 -0.02129 C -0.04358 -0.03055 -0.04635 -0.03912 -0.04878 -0.04861 C -0.04965 -0.05162 -0.05156 -0.05092 -0.05295 -0.05231 C -0.05573 -0.05069 -0.05851 -0.05069 -0.06128 -0.04861 C -0.06389 -0.04653 -0.06597 -0.03773 -0.06892 -0.03403 C -0.0691 -0.03217 -0.06927 -0.03009 -0.06962 -0.02847 C -0.07083 -0.0243 -0.07378 -0.01759 -0.07378 -0.01736 C -0.075 -0.0081 -0.07431 -0.01296 -0.07726 -0.00092 C -0.07778 0.0007 -0.07865 0.0044 -0.07865 0.0044 C -0.08021 0.01644 -0.07812 0.00324 -0.08142 0.01343 C -0.08264 0.0169 -0.08351 0.02084 -0.0842 0.02454 C -0.08524 0.02755 -0.08854 0.02801 -0.08854 0.02824 C -0.09444 0.02709 -0.09844 0.02894 -0.10312 0.02084 C -0.10521 0.01227 -0.1066 0.01597 -0.10868 0.0081 C -0.11406 -0.01134 -0.11806 -0.03472 -0.12604 -0.04861 C -0.12726 -0.05069 -0.12882 -0.05092 -0.13021 -0.05231 C -0.14028 -0.05023 -0.15 -0.04653 -0.16007 -0.04467 C -0.17222 -0.04653 -0.1842 -0.05069 -0.19635 -0.05578 C -0.20122 -0.05764 -0.20608 -0.05949 -0.21094 -0.06134 C -0.2125 -0.0618 -0.2158 -0.06296 -0.2158 -0.06296 C -0.26128 -0.06065 -0.23802 -0.06666 -0.25816 -0.05393 C -0.26111 -0.04861 -0.26285 -0.04838 -0.26649 -0.04676 C -0.27066 -0.0412 -0.27535 -0.03565 -0.27899 -0.02847 C -0.28177 -0.02291 -0.28333 -0.01967 -0.28663 -0.01759 C -0.29323 -0.00879 -0.29896 -0.00139 -0.30625 0.0007 C -0.30729 0.00255 -0.30833 0.00579 -0.30972 0.00625 C -0.31597 0.00787 -0.32448 0.00278 -0.33056 -0.00301 C -0.33385 -0.00231 -0.33733 -0.0044 -0.34028 -0.00092 C -0.34167 0.00047 -0.34167 0.00972 -0.34167 0.00996 C -0.34236 0.02408 -0.34288 0.0331 -0.34444 0.0463 C -0.34531 0.05371 -0.35243 0.0581 -0.35486 0.05903 C -0.36458 0.05718 -0.36406 0.06528 -0.36406 0.05185 E">
                                      <p:cBhvr>
                                        <p:cTn id="397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406 0.05185 C -0.37014 0.0368 -0.3717 0.02384 -0.38334 0.01759 C -0.38594 0.00393 -0.39184 0.00972 -0.4 0.01111 C -0.40521 0.01527 -0.40938 0.02083 -0.41406 0.02615 C -0.42188 0.04514 -0.41163 0.02268 -0.42049 0.03472 C -0.4217 0.03634 -0.42205 0.03935 -0.42327 0.0412 C -0.42552 0.04514 -0.42847 0.04791 -0.4309 0.05185 C -0.43386 0.05092 -0.43976 0.04976 -0.44236 0.0456 C -0.44497 0.0412 -0.44879 0.03032 -0.44879 0.03055 C -0.44931 0.02685 -0.44948 0.02314 -0.45 0.01967 C -0.45035 0.01736 -0.45 0.01412 -0.45122 0.01319 C -0.45295 0.01203 -0.45469 0.01458 -0.4566 0.01527 C -0.45938 0.02222 -0.46094 0.025 -0.46285 0.03264 C -0.4658 0.0449 -0.46528 0.04884 -0.47188 0.05625 C -0.48472 0.0456 -0.4842 0.04351 -0.49497 0.03264 C -0.49983 0.02176 -0.49965 0.01851 -0.50781 0.02176 C -0.51268 0.02708 -0.5132 0.03333 -0.51684 0.0412 C -0.51823 0.05324 -0.52136 0.06365 -0.52327 0.07569 C -0.53629 0.06643 -0.53386 0.06481 -0.54375 0.04976 C -0.554 0.03426 -0.56667 0.02268 -0.57969 0.01527 C -0.58438 0.01597 -0.58924 0.01527 -0.59393 0.01759 C -0.59792 0.01967 -0.60122 0.02592 -0.60521 0.02824 C -0.61077 0.02754 -0.61667 0.02847 -0.62205 0.02615 C -0.62344 0.02546 -0.62379 0.02199 -0.62465 0.01967 C -0.62535 0.01782 -0.63195 -0.00556 -0.63229 -0.00602 C -0.63976 -0.01852 -0.6507 -0.01875 -0.66059 -0.02107 C -0.6941 -0.01899 -0.69375 -0.03149 -0.7066 0.00254 C -0.70851 0.01458 -0.71372 0.02847 -0.72084 0.03264 C -0.72292 0.03194 -0.72518 0.03171 -0.72726 0.03032 C -0.7316 0.02708 -0.73264 0.02129 -0.7375 0.01967 C -0.74028 0.01875 -0.7434 0.01967 -0.74636 0.01967 E">
                                      <p:cBhvr>
                                        <p:cTn id="399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018 C -0.00503 -0.03078 -0.00122 -0.01852 -0.0224 -0.01365 C -0.02378 -0.01342 -0.02656 -0.01018 -0.02656 -0.00995 C -0.03229 -0.0118 -0.03628 -0.0125 -0.04115 -0.02129 C -0.04358 -0.03055 -0.04635 -0.03912 -0.04878 -0.04861 C -0.04965 -0.05162 -0.05156 -0.05092 -0.05295 -0.05231 C -0.05573 -0.05069 -0.05851 -0.05069 -0.06128 -0.04861 C -0.06389 -0.04653 -0.06597 -0.03773 -0.06892 -0.03403 C -0.0691 -0.03217 -0.06927 -0.03009 -0.06962 -0.02847 C -0.07083 -0.0243 -0.07378 -0.01759 -0.07378 -0.01736 C -0.075 -0.0081 -0.07431 -0.01296 -0.07726 -0.00092 C -0.07778 0.0007 -0.07865 0.0044 -0.07865 0.0044 C -0.08021 0.01644 -0.07812 0.00324 -0.08142 0.01343 C -0.08264 0.0169 -0.08351 0.02084 -0.0842 0.02454 C -0.08524 0.02755 -0.08854 0.02801 -0.08854 0.02824 C -0.09444 0.02709 -0.09844 0.02894 -0.10312 0.02084 C -0.10521 0.01227 -0.1066 0.01597 -0.10868 0.0081 C -0.11406 -0.01134 -0.11806 -0.03472 -0.12604 -0.04861 C -0.12726 -0.05069 -0.12882 -0.05092 -0.13021 -0.05231 C -0.14028 -0.05023 -0.15 -0.04653 -0.16007 -0.04467 C -0.17222 -0.04653 -0.1842 -0.05069 -0.19635 -0.05578 C -0.20122 -0.05764 -0.20608 -0.05949 -0.21094 -0.06134 C -0.2125 -0.0618 -0.2158 -0.06296 -0.2158 -0.06296 C -0.26128 -0.06065 -0.23802 -0.06666 -0.25816 -0.05393 C -0.26111 -0.04861 -0.26285 -0.04838 -0.26649 -0.04676 C -0.27066 -0.0412 -0.27535 -0.03565 -0.27899 -0.02847 C -0.28177 -0.02291 -0.28333 -0.01967 -0.28663 -0.01759 C -0.29323 -0.00879 -0.29896 -0.00139 -0.30625 0.0007 C -0.30729 0.00255 -0.30833 0.00579 -0.30972 0.00625 C -0.31597 0.00787 -0.32448 0.00278 -0.33056 -0.00301 C -0.33385 -0.00231 -0.33733 -0.0044 -0.34028 -0.00092 C -0.34167 0.00047 -0.34167 0.00972 -0.34167 0.00996 C -0.34236 0.02408 -0.34288 0.0331 -0.34444 0.0463 C -0.34531 0.05371 -0.35243 0.0581 -0.35486 0.05903 C -0.36458 0.05718 -0.36406 0.06528 -0.36406 0.05185 E">
                                      <p:cBhvr>
                                        <p:cTn id="401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406 0.05185 C -0.37014 0.0368 -0.3717 0.02384 -0.38334 0.01759 C -0.38594 0.00393 -0.39184 0.00972 -0.4 0.01111 C -0.40521 0.01527 -0.40938 0.02083 -0.41406 0.02615 C -0.42188 0.04514 -0.41163 0.02268 -0.42049 0.03472 C -0.4217 0.03634 -0.42205 0.03935 -0.42327 0.0412 C -0.42552 0.04514 -0.42847 0.04791 -0.4309 0.05185 C -0.43386 0.05092 -0.43976 0.04976 -0.44236 0.0456 C -0.44497 0.0412 -0.44879 0.03032 -0.44879 0.03055 C -0.44931 0.02685 -0.44948 0.02314 -0.45 0.01967 C -0.45035 0.01736 -0.45 0.01412 -0.45122 0.01319 C -0.45295 0.01203 -0.45469 0.01458 -0.4566 0.01527 C -0.45938 0.02222 -0.46094 0.025 -0.46285 0.03264 C -0.4658 0.0449 -0.46528 0.04884 -0.47188 0.05625 C -0.48472 0.0456 -0.4842 0.04351 -0.49497 0.03264 C -0.49983 0.02176 -0.49965 0.01851 -0.50781 0.02176 C -0.51268 0.02708 -0.5132 0.03333 -0.51684 0.0412 C -0.51823 0.05324 -0.52136 0.06365 -0.52327 0.07569 C -0.53629 0.06643 -0.53386 0.06481 -0.54375 0.04976 C -0.554 0.03426 -0.56667 0.02268 -0.57969 0.01527 C -0.58438 0.01597 -0.58924 0.01527 -0.59393 0.01759 C -0.59792 0.01967 -0.60122 0.02592 -0.60521 0.02824 C -0.61077 0.02754 -0.61667 0.02847 -0.62205 0.02615 C -0.62344 0.02546 -0.62379 0.02199 -0.62465 0.01967 C -0.62535 0.01782 -0.63195 -0.00556 -0.63229 -0.00602 C -0.63976 -0.01852 -0.6507 -0.01875 -0.66059 -0.02107 C -0.6941 -0.01899 -0.69375 -0.03149 -0.7066 0.00254 C -0.70851 0.01458 -0.71372 0.02847 -0.72084 0.03264 C -0.72292 0.03194 -0.72518 0.03171 -0.72726 0.03032 C -0.7316 0.02708 -0.73264 0.02129 -0.7375 0.01967 C -0.74028 0.01875 -0.7434 0.01967 -0.74636 0.01967 E">
                                      <p:cBhvr>
                                        <p:cTn id="403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0" y="181080"/>
            <a:ext cx="914400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1920" y="281952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6"/>
          <p:cNvPicPr/>
          <p:nvPr/>
        </p:nvPicPr>
        <p:blipFill>
          <a:blip r:embed="rId1"/>
          <a:stretch/>
        </p:blipFill>
        <p:spPr>
          <a:xfrm>
            <a:off x="228600" y="533520"/>
            <a:ext cx="4105440" cy="3240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010j"/>
          <p:cNvPicPr/>
          <p:nvPr/>
        </p:nvPicPr>
        <p:blipFill>
          <a:blip r:embed="rId2"/>
          <a:stretch/>
        </p:blipFill>
        <p:spPr>
          <a:xfrm>
            <a:off x="4800600" y="533520"/>
            <a:ext cx="4065480" cy="3157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52280" y="527364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（                 ）的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484200" y="5029200"/>
            <a:ext cx="309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凶残、贪婪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奸诈、狡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680000" y="530208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（                 ）的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5200560" y="50292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乖巧、可爱、美丽、活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2413800" y="4158720"/>
            <a:ext cx="38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你喜欢狼还是鹿呢？为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298440" y="6094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222120" y="1676520"/>
            <a:ext cx="854100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1710000" y="424800"/>
            <a:ext cx="468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鹿群会发生如此大的变化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6320" y="23274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当地居民恨透了狼。他们组成了狩猎队，到森林中捕杀狼。枪声打破了大森林的宁静。在青烟袅袅的枪口下，狼一个跟着一个，哀嚎着倒在血泊中。凯巴伯森林的枪声响了</a:t>
            </a: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年，狼与其他一些鹿的天敌，总共被杀掉六千多只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152280" y="10360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画出让你感受最深的句子，你读懂了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76320" y="34290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                      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一个跟着一个，哀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7467480" y="1752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残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3685320" y="502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六千多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6095880" y="54864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捕杀数量之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7162920" y="1676520"/>
            <a:ext cx="1676160" cy="990360"/>
          </a:xfrm>
          <a:prstGeom prst="wedgeEllipseCallout">
            <a:avLst>
              <a:gd name="adj1" fmla="val -1134"/>
              <a:gd name="adj2" fmla="val 173078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 flipV="1" rot="10800000">
            <a:off x="5638680" y="5409000"/>
            <a:ext cx="2438640" cy="1219320"/>
          </a:xfrm>
          <a:prstGeom prst="wedgeEllipseCallout">
            <a:avLst>
              <a:gd name="adj1" fmla="val 105273"/>
              <a:gd name="adj2" fmla="val -26953"/>
            </a:avLst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9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339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5"/>
          <p:cNvSpPr/>
          <p:nvPr/>
        </p:nvSpPr>
        <p:spPr>
          <a:xfrm>
            <a:off x="685800" y="41148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鹿群的后面，常常跟着贪婪而凶残的狼，它们总在寻找机会对鹿下毒手。那时森林里大约有四千只鹿，它们要时刻提防狼的暗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324000" y="549360"/>
            <a:ext cx="734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24000" y="404640"/>
            <a:ext cx="87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51000" y="45720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当地居民恨透了狼。他们组成了狩猎队，到森林中捕杀狼。枪声打破了大森林的宁静。在青烟袅袅的枪口下，狼一只跟着一只，哀嚎着倒在血泊中。凯巴伯森林的枪声响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年，狼与其他一些鹿的天敌，总共被杀掉六千多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57360" y="4089240"/>
            <a:ext cx="7335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“恨透”是什么意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、哪些描写表现出当地居民恨透了狼？读读画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311640" y="5094360"/>
            <a:ext cx="238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时间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297000" y="509436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组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6507000" y="5094360"/>
            <a:ext cx="224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杀得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522360" y="1628640"/>
            <a:ext cx="787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青烟袅袅的枪口下，狼一只跟着一只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哀嚎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着倒在血泊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185920" y="1584360"/>
            <a:ext cx="292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青烟袅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66640" y="4824360"/>
            <a:ext cx="76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青烟袅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—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———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森林"/>
          <p:cNvPicPr/>
          <p:nvPr/>
        </p:nvPicPr>
        <p:blipFill>
          <a:blip r:embed="rId1"/>
          <a:stretch/>
        </p:blipFill>
        <p:spPr>
          <a:xfrm>
            <a:off x="228600" y="304920"/>
            <a:ext cx="4191120" cy="4267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sinrin13"/>
          <p:cNvPicPr/>
          <p:nvPr/>
        </p:nvPicPr>
        <p:blipFill>
          <a:blip r:embed="rId2"/>
          <a:stretch/>
        </p:blipFill>
        <p:spPr>
          <a:xfrm>
            <a:off x="4572000" y="304920"/>
            <a:ext cx="4419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lu"/>
          <p:cNvPicPr/>
          <p:nvPr/>
        </p:nvPicPr>
        <p:blipFill>
          <a:blip r:embed="rId1"/>
          <a:stretch/>
        </p:blipFill>
        <p:spPr>
          <a:xfrm>
            <a:off x="4788000" y="-100080"/>
            <a:ext cx="4190760" cy="312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6046920" y="249228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活泼而美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lang"/>
          <p:cNvPicPr/>
          <p:nvPr/>
        </p:nvPicPr>
        <p:blipFill>
          <a:blip r:embed="rId2"/>
          <a:stretch/>
        </p:blipFill>
        <p:spPr>
          <a:xfrm>
            <a:off x="-181080" y="-171360"/>
            <a:ext cx="4284720" cy="2782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1654200" y="2421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贪婪而凶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539640" y="357336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们做梦也不会想到，他们捕杀的狼，居然是森林和鹿群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功臣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而人们特意要保护的鹿，一旦在森林中过多的繁殖，倒成了破坏森林、毁灭自己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祸首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324000" y="457200"/>
            <a:ext cx="842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人们做梦也不会想到，他们捕杀的狼，居然是森林和鹿群的“功臣”。狼吃掉一些鹿，使鹿群不会发展得太快，森林也就不会被糟蹋得这么惨；同时狼吃掉的多半是病鹿，反倒解除了传染病对鹿群的威胁。而人们特意要保护的鹿，一旦在森林中过多地繁殖，倒成了破坏森林、毁灭自己的“祸首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95280" y="48690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狼是森林的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功臣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，是因为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狼是鹿群的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功臣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，是因为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 　  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68280" y="990720"/>
            <a:ext cx="8667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做梦也不会想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他们捕杀的狼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居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是森林和鹿群的“功臣”。狼吃掉一些鹿，使鹿群不会发展得太快，森林也就不会被糟蹋得这么惨；同时狼吃掉的多半是病鹿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反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解除了传染病对鹿群的威胁。而人们特意要保护的鹿，一旦在森林中过多地繁殖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成了破坏森林、毁灭自己的“祸首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95280" y="4869000"/>
            <a:ext cx="912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狼是森林的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功臣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，是因为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狼是鹿群的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功臣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，是因为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 　  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4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试着用“因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句式说说为什么狼是“功臣”，鹿是“祸首”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880" y="3657600"/>
            <a:ext cx="82296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引起凯巴伯森林如此变化的真正祸首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28600" y="14479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引狼计划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了挽救灭狼带来的恶果，美国政府制定了“引狼入室”计划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，从加拿大运来野狼放生到凯巴伯林区，森林又焕发勃勃生机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762120" y="12636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课文写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533520" y="290844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凯巴伯森林附近的居民为了保护鹿群，大量捕杀狼与其他一些鹿的天敌，造成鹿大量病死，森林被严重破坏。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森林"/>
          <p:cNvPicPr/>
          <p:nvPr/>
        </p:nvPicPr>
        <p:blipFill>
          <a:blip r:embed="rId2"/>
          <a:stretch/>
        </p:blipFill>
        <p:spPr>
          <a:xfrm>
            <a:off x="0" y="914400"/>
            <a:ext cx="8991720" cy="5943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鹿"/>
          <p:cNvPicPr/>
          <p:nvPr/>
        </p:nvPicPr>
        <p:blipFill>
          <a:blip r:embed="rId3"/>
          <a:stretch/>
        </p:blipFill>
        <p:spPr>
          <a:xfrm>
            <a:off x="1295280" y="3505320"/>
            <a:ext cx="1179720" cy="2039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鹿"/>
          <p:cNvPicPr/>
          <p:nvPr/>
        </p:nvPicPr>
        <p:blipFill>
          <a:blip r:embed="rId4"/>
          <a:stretch/>
        </p:blipFill>
        <p:spPr>
          <a:xfrm>
            <a:off x="4267080" y="4114800"/>
            <a:ext cx="762120" cy="127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鹿"/>
          <p:cNvPicPr/>
          <p:nvPr/>
        </p:nvPicPr>
        <p:blipFill>
          <a:blip r:embed="rId5"/>
          <a:stretch/>
        </p:blipFill>
        <p:spPr>
          <a:xfrm>
            <a:off x="6858000" y="4724280"/>
            <a:ext cx="990720" cy="1506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鹿"/>
          <p:cNvPicPr/>
          <p:nvPr/>
        </p:nvPicPr>
        <p:blipFill>
          <a:blip r:embed="rId6"/>
          <a:stretch/>
        </p:blipFill>
        <p:spPr>
          <a:xfrm>
            <a:off x="0" y="4191120"/>
            <a:ext cx="1179360" cy="15062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鹿"/>
          <p:cNvPicPr/>
          <p:nvPr/>
        </p:nvPicPr>
        <p:blipFill>
          <a:blip r:embed="rId7"/>
          <a:stretch/>
        </p:blipFill>
        <p:spPr>
          <a:xfrm>
            <a:off x="1828800" y="4800600"/>
            <a:ext cx="1179360" cy="973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dw011"/>
          <p:cNvPicPr/>
          <p:nvPr/>
        </p:nvPicPr>
        <p:blipFill>
          <a:blip r:embed="rId8"/>
          <a:stretch/>
        </p:blipFill>
        <p:spPr>
          <a:xfrm flipH="1">
            <a:off x="1981080" y="2590920"/>
            <a:ext cx="860400" cy="704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dw011"/>
          <p:cNvPicPr/>
          <p:nvPr/>
        </p:nvPicPr>
        <p:blipFill>
          <a:blip r:embed="rId9"/>
          <a:stretch/>
        </p:blipFill>
        <p:spPr>
          <a:xfrm flipH="1">
            <a:off x="609480" y="2743200"/>
            <a:ext cx="860400" cy="457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1" descr="dw011"/>
          <p:cNvPicPr/>
          <p:nvPr/>
        </p:nvPicPr>
        <p:blipFill>
          <a:blip r:embed="rId10"/>
          <a:stretch/>
        </p:blipFill>
        <p:spPr>
          <a:xfrm flipH="1">
            <a:off x="3962520" y="3124080"/>
            <a:ext cx="860400" cy="990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dw011"/>
          <p:cNvPicPr/>
          <p:nvPr/>
        </p:nvPicPr>
        <p:blipFill>
          <a:blip r:embed="rId11"/>
          <a:stretch/>
        </p:blipFill>
        <p:spPr>
          <a:xfrm flipH="1">
            <a:off x="6934320" y="2438280"/>
            <a:ext cx="860400" cy="476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dw011"/>
          <p:cNvPicPr/>
          <p:nvPr/>
        </p:nvPicPr>
        <p:blipFill>
          <a:blip r:embed="rId12"/>
          <a:stretch/>
        </p:blipFill>
        <p:spPr>
          <a:xfrm flipH="1">
            <a:off x="4572000" y="1371600"/>
            <a:ext cx="860400" cy="3808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鹿"/>
          <p:cNvPicPr/>
          <p:nvPr/>
        </p:nvPicPr>
        <p:blipFill>
          <a:blip r:embed="rId13"/>
          <a:stretch/>
        </p:blipFill>
        <p:spPr>
          <a:xfrm>
            <a:off x="2971800" y="4267080"/>
            <a:ext cx="1179360" cy="973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5" descr="dw011"/>
          <p:cNvPicPr/>
          <p:nvPr/>
        </p:nvPicPr>
        <p:blipFill>
          <a:blip r:embed="rId14"/>
          <a:stretch/>
        </p:blipFill>
        <p:spPr>
          <a:xfrm flipH="1">
            <a:off x="6095880" y="3276720"/>
            <a:ext cx="860400" cy="4762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8"/>
          <p:cNvSpPr/>
          <p:nvPr/>
        </p:nvSpPr>
        <p:spPr>
          <a:xfrm>
            <a:off x="0" y="0"/>
            <a:ext cx="89154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狼计划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挽救灭狼带来的恶果，美国政府制定了“引狼入室”计划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，从加拿大运来野狼放生到凯巴伯林区，森林又焕发勃勃生机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186 C 0.00504 -0.00787 0.00921 -0.01319 0.02309 -0.01875 C 0.03837 -0.03263 0.04757 -0.02708 0.07639 -0.02338 C 0.08421 -0.02037 0.09167 -0.01736 0.09948 -0.01412 C 0.10695 -0.01111 0.11476 -0.00069 0.11476 -0.00046 C 0.11598 0.00162 0.11754 0.00371 0.11841 0.00625 C 0.12014 0.01065 0.11511 0.01783 0.12205 0.01991 C 0.12796 0.02153 0.12466 0.01227 0.12622 0.00834 C 0.12709 0.00625 0.12865 0.00394 0.12987 0.00186 C 0.1349 0.00255 0.14306 0.00093 0.14514 0.00394 C 0.15052 0.0125 0.14757 0.022 0.14879 0.03102 C 0.15052 0.04491 0.15087 0.05857 0.15296 0.07223 C 0.15469 0.08287 0.15296 0.08125 0.16459 0.08125 E">
                                      <p:cBhvr>
                                        <p:cTn id="541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0.1956 C 0.06337 0.19491 0.06754 0.1956 0.07101 0.19352 C 0.07517 0.1912 0.07344 0.18426 0.07569 0.18056 C 0.07691 0.17847 0.07899 0.17778 0.08056 0.17639 C 0.08802 0.15625 0.08351 0.16366 0.09167 0.15255 C 0.09479 0.14213 0.09688 0.14143 0.10486 0.14398 C 0.11059 0.14931 0.11424 0.15602 0.12101 0.15903 C 0.12483 0.1669 0.1276 0.17569 0.13212 0.18287 C 0.13403 0.18542 0.13681 0.18657 0.13854 0.18912 C 0.14045 0.19167 0.14201 0.19491 0.14358 0.19792 C 0.14879 0.20787 0.15087 0.21505 0.15799 0.22153 C 0.16181 0.21643 0.16684 0.21273 0.16927 0.20648 C 0.17778 0.18356 0.18247 0.1588 0.19028 0.13542 C 0.19306 0.10903 0.18924 0.13125 0.19826 0.10532 C 0.20278 0.09213 0.19618 0.10023 0.20486 0.09236 C 0.21927 0.10023 0.21042 0.09398 0.22743 0.1162 C 0.22882 0.11829 0.23073 0.12037 0.23229 0.12245 C 0.23507 0.12593 0.24184 0.13125 0.24184 0.13148 C 0.24601 0.13935 0.25191 0.14051 0.25642 0.14838 C 0.26181 0.15764 0.26649 0.16852 0.27101 0.17847 C 0.27361 0.19259 0.27865 0.1919 0.27569 0.20648 C 0.27517 0.19931 0.27465 0.19213 0.27413 0.18495 C 0.27361 0.17639 0.27309 0.16759 0.27257 0.15903 C 0.27205 0.15255 0.26979 0.14606 0.27101 0.13981 C 0.27135 0.13773 0.27413 0.1412 0.27569 0.1419 C 0.27917 0.14653 0.28368 0.15 0.28698 0.15486 C 0.29063 0.16018 0.2967 0.17199 0.2967 0.17222 C 0.29896 0.18171 0.30208 0.19167 0.30642 0.2 C 0.30885 0.20995 0.30799 0.20417 0.30799 0.21713 E">
                                      <p:cBhvr>
                                        <p:cTn id="54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41 0.08125 C 0.16493 0.07917 0.16476 0.07639 0.16597 0.07477 C 0.16875 0.07107 0.17569 0.06621 0.17569 0.06644 C 0.19913 0.07199 0.18837 0.06389 0.19826 0.07917 C 0.19983 0.08149 0.20156 0.08357 0.20312 0.08565 C 0.20712 0.10255 0.2151 0.11505 0.22083 0.13079 C 0.22153 0.13287 0.22135 0.13542 0.22239 0.13727 C 0.22517 0.14213 0.22882 0.14584 0.23212 0.15 C 0.23368 0.15209 0.23698 0.15649 0.23698 0.15672 C 0.23767 0.15649 0.25226 0.15556 0.25642 0.15232 C 0.26771 0.14329 0.27083 0.13727 0.28055 0.12431 C 0.2842 0.11945 0.28455 0.11135 0.28854 0.10718 C 0.29132 0.10417 0.29427 0.10186 0.2967 0.09838 C 0.3092 0.07987 0.29861 0.08519 0.31111 0.08125 C 0.31736 0.07292 0.31875 0.07199 0.32726 0.07477 C 0.33733 0.0838 0.34149 0.09769 0.34983 0.10926 C 0.35226 0.11806 0.35538 0.12338 0.36111 0.12871 C 0.36736 0.11737 0.37656 0.11088 0.38212 0.09838 C 0.38646 0.08843 0.3875 0.07709 0.39514 0.07061 C 0.39792 0.06412 0.40035 0.05741 0.40312 0.05116 C 0.40521 0.04676 0.40955 0.0382 0.40955 0.03843 C 0.41389 0.01482 0.41458 -0.00879 0.41771 -0.03263 C 0.42309 -0.02176 0.42899 -0.00532 0.43698 0.00162 C 0.44635 0.01991 0.43368 -0.00301 0.44514 0.0125 C 0.45226 0.02223 0.44375 0.01713 0.45312 0.02107 C 0.45469 0.01899 0.45625 0.01644 0.45799 0.01459 C 0.46111 0.01135 0.46771 0.00602 0.46771 0.00625 C 0.47465 0.00903 0.47309 0.01274 0.47569 0.02107 C 0.47899 0.03149 0.48038 0.02987 0.48212 0.0426 C 0.4842 0.05811 0.48212 0.05186 0.48698 0.06204 C 0.49097 0.0875 0.49028 0.07616 0.49028 0.0963 E">
                                      <p:cBhvr>
                                        <p:cTn id="546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186 C 0.00504 -0.00787 0.00921 -0.01319 0.02309 -0.01875 C 0.03837 -0.03263 0.04757 -0.02708 0.07639 -0.02338 C 0.08421 -0.02037 0.09167 -0.01736 0.09948 -0.01412 C 0.10695 -0.01111 0.11476 -0.00069 0.11476 -0.00046 C 0.11598 0.00162 0.11754 0.00371 0.11841 0.00625 C 0.12014 0.01065 0.11511 0.01783 0.12205 0.01991 C 0.12796 0.02153 0.12466 0.01227 0.12622 0.00834 C 0.12709 0.00625 0.12865 0.00394 0.12987 0.00186 C 0.1349 0.00255 0.14306 0.00093 0.14514 0.00394 C 0.15052 0.0125 0.14757 0.022 0.14879 0.03102 C 0.15052 0.04491 0.15087 0.05857 0.15296 0.07223 C 0.15469 0.08287 0.15296 0.08125 0.16459 0.08125 E">
                                      <p:cBhvr>
                                        <p:cTn id="548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0.1956 C 0.06337 0.19491 0.06754 0.1956 0.07101 0.19352 C 0.07517 0.1912 0.07344 0.18426 0.07569 0.18056 C 0.07691 0.17847 0.07899 0.17778 0.08056 0.17639 C 0.08802 0.15625 0.08351 0.16366 0.09167 0.15255 C 0.09479 0.14213 0.09688 0.14143 0.10486 0.14398 C 0.11059 0.14931 0.11424 0.15602 0.12101 0.15903 C 0.12483 0.1669 0.1276 0.17569 0.13212 0.18287 C 0.13403 0.18542 0.13681 0.18657 0.13854 0.18912 C 0.14045 0.19167 0.14201 0.19491 0.14358 0.19792 C 0.14879 0.20787 0.15087 0.21505 0.15799 0.22153 C 0.16181 0.21643 0.16684 0.21273 0.16927 0.20648 C 0.17778 0.18356 0.18247 0.1588 0.19028 0.13542 C 0.19306 0.10903 0.18924 0.13125 0.19826 0.10532 C 0.20278 0.09213 0.19618 0.10023 0.20486 0.09236 C 0.21927 0.10023 0.21042 0.09398 0.22743 0.1162 C 0.22882 0.11829 0.23073 0.12037 0.23229 0.12245 C 0.23507 0.12593 0.24184 0.13125 0.24184 0.13148 C 0.24601 0.13935 0.25191 0.14051 0.25642 0.14838 C 0.26181 0.15764 0.26649 0.16852 0.27101 0.17847 C 0.27361 0.19259 0.27865 0.1919 0.27569 0.20648 C 0.27517 0.19931 0.27465 0.19213 0.27413 0.18495 C 0.27361 0.17639 0.27309 0.16759 0.27257 0.15903 C 0.27205 0.15255 0.26979 0.14606 0.27101 0.13981 C 0.27135 0.13773 0.27413 0.1412 0.27569 0.1419 C 0.27917 0.14653 0.28368 0.15 0.28698 0.15486 C 0.29063 0.16018 0.2967 0.17199 0.2967 0.17222 C 0.29896 0.18171 0.30208 0.19167 0.30642 0.2 C 0.30885 0.20995 0.30799 0.20417 0.30799 0.21713 E">
                                      <p:cBhvr>
                                        <p:cTn id="551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41 0.08125 C 0.16493 0.07917 0.16476 0.07639 0.16597 0.07477 C 0.16875 0.07107 0.17569 0.06621 0.17569 0.06644 C 0.19913 0.07199 0.18837 0.06389 0.19826 0.07917 C 0.19983 0.08149 0.20156 0.08357 0.20312 0.08565 C 0.20712 0.10255 0.2151 0.11505 0.22083 0.13079 C 0.22153 0.13287 0.22135 0.13542 0.22239 0.13727 C 0.22517 0.14213 0.22882 0.14584 0.23212 0.15 C 0.23368 0.15209 0.23698 0.15649 0.23698 0.15672 C 0.23767 0.15649 0.25226 0.15556 0.25642 0.15232 C 0.26771 0.14329 0.27083 0.13727 0.28055 0.12431 C 0.2842 0.11945 0.28455 0.11135 0.28854 0.10718 C 0.29132 0.10417 0.29427 0.10186 0.2967 0.09838 C 0.3092 0.07987 0.29861 0.08519 0.31111 0.08125 C 0.31736 0.07292 0.31875 0.07199 0.32726 0.07477 C 0.33733 0.0838 0.34149 0.09769 0.34983 0.10926 C 0.35226 0.11806 0.35538 0.12338 0.36111 0.12871 C 0.36736 0.11737 0.37656 0.11088 0.38212 0.09838 C 0.38646 0.08843 0.3875 0.07709 0.39514 0.07061 C 0.39792 0.06412 0.40035 0.05741 0.40312 0.05116 C 0.40521 0.04676 0.40955 0.0382 0.40955 0.03843 C 0.41389 0.01482 0.41458 -0.00879 0.41771 -0.03263 C 0.42309 -0.02176 0.42899 -0.00532 0.43698 0.00162 C 0.44635 0.01991 0.43368 -0.00301 0.44514 0.0125 C 0.45226 0.02223 0.44375 0.01713 0.45312 0.02107 C 0.45469 0.01899 0.45625 0.01644 0.45799 0.01459 C 0.46111 0.01135 0.46771 0.00602 0.46771 0.00625 C 0.47465 0.00903 0.47309 0.01274 0.47569 0.02107 C 0.47899 0.03149 0.48038 0.02987 0.48212 0.0426 C 0.4842 0.05811 0.48212 0.05186 0.48698 0.06204 C 0.49097 0.0875 0.49028 0.07616 0.49028 0.0963 E">
                                      <p:cBhvr>
                                        <p:cTn id="553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186 C 0.00504 -0.00787 0.00921 -0.01319 0.02309 -0.01875 C 0.03837 -0.03263 0.04757 -0.02708 0.07639 -0.02338 C 0.08421 -0.02037 0.09167 -0.01736 0.09948 -0.01412 C 0.10695 -0.01111 0.11476 -0.00069 0.11476 -0.00046 C 0.11598 0.00162 0.11754 0.00371 0.11841 0.00625 C 0.12014 0.01065 0.11511 0.01783 0.12205 0.01991 C 0.12796 0.02153 0.12466 0.01227 0.12622 0.00834 C 0.12709 0.00625 0.12865 0.00394 0.12987 0.00186 C 0.1349 0.00255 0.14306 0.00093 0.14514 0.00394 C 0.15052 0.0125 0.14757 0.022 0.14879 0.03102 C 0.15052 0.04491 0.15087 0.05857 0.15296 0.07223 C 0.15469 0.08287 0.15296 0.08125 0.16459 0.08125 E">
                                      <p:cBhvr>
                                        <p:cTn id="555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0.1956 C 0.06337 0.19491 0.06754 0.1956 0.07101 0.19352 C 0.07517 0.1912 0.07344 0.18426 0.07569 0.18056 C 0.07691 0.17847 0.07899 0.17778 0.08056 0.17639 C 0.08802 0.15625 0.08351 0.16366 0.09167 0.15255 C 0.09479 0.14213 0.09688 0.14143 0.10486 0.14398 C 0.11059 0.14931 0.11424 0.15602 0.12101 0.15903 C 0.12483 0.1669 0.1276 0.17569 0.13212 0.18287 C 0.13403 0.18542 0.13681 0.18657 0.13854 0.18912 C 0.14045 0.19167 0.14201 0.19491 0.14358 0.19792 C 0.14879 0.20787 0.15087 0.21505 0.15799 0.22153 C 0.16181 0.21643 0.16684 0.21273 0.16927 0.20648 C 0.17778 0.18356 0.18247 0.1588 0.19028 0.13542 C 0.19306 0.10903 0.18924 0.13125 0.19826 0.10532 C 0.20278 0.09213 0.19618 0.10023 0.20486 0.09236 C 0.21927 0.10023 0.21042 0.09398 0.22743 0.1162 C 0.22882 0.11829 0.23073 0.12037 0.23229 0.12245 C 0.23507 0.12593 0.24184 0.13125 0.24184 0.13148 C 0.24601 0.13935 0.25191 0.14051 0.25642 0.14838 C 0.26181 0.15764 0.26649 0.16852 0.27101 0.17847 C 0.27361 0.19259 0.27865 0.1919 0.27569 0.20648 C 0.27517 0.19931 0.27465 0.19213 0.27413 0.18495 C 0.27361 0.17639 0.27309 0.16759 0.27257 0.15903 C 0.27205 0.15255 0.26979 0.14606 0.27101 0.13981 C 0.27135 0.13773 0.27413 0.1412 0.27569 0.1419 C 0.27917 0.14653 0.28368 0.15 0.28698 0.15486 C 0.29063 0.16018 0.2967 0.17199 0.2967 0.17222 C 0.29896 0.18171 0.30208 0.19167 0.30642 0.2 C 0.30885 0.20995 0.30799 0.20417 0.30799 0.21713 E">
                                      <p:cBhvr>
                                        <p:cTn id="55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41 0.08125 C 0.16493 0.07917 0.16476 0.07639 0.16597 0.07477 C 0.16875 0.07107 0.17569 0.06621 0.17569 0.06644 C 0.19913 0.07199 0.18837 0.06389 0.19826 0.07917 C 0.19983 0.08149 0.20156 0.08357 0.20312 0.08565 C 0.20712 0.10255 0.2151 0.11505 0.22083 0.13079 C 0.22153 0.13287 0.22135 0.13542 0.22239 0.13727 C 0.22517 0.14213 0.22882 0.14584 0.23212 0.15 C 0.23368 0.15209 0.23698 0.15649 0.23698 0.15672 C 0.23767 0.15649 0.25226 0.15556 0.25642 0.15232 C 0.26771 0.14329 0.27083 0.13727 0.28055 0.12431 C 0.2842 0.11945 0.28455 0.11135 0.28854 0.10718 C 0.29132 0.10417 0.29427 0.10186 0.2967 0.09838 C 0.3092 0.07987 0.29861 0.08519 0.31111 0.08125 C 0.31736 0.07292 0.31875 0.07199 0.32726 0.07477 C 0.33733 0.0838 0.34149 0.09769 0.34983 0.10926 C 0.35226 0.11806 0.35538 0.12338 0.36111 0.12871 C 0.36736 0.11737 0.37656 0.11088 0.38212 0.09838 C 0.38646 0.08843 0.3875 0.07709 0.39514 0.07061 C 0.39792 0.06412 0.40035 0.05741 0.40312 0.05116 C 0.40521 0.04676 0.40955 0.0382 0.40955 0.03843 C 0.41389 0.01482 0.41458 -0.00879 0.41771 -0.03263 C 0.42309 -0.02176 0.42899 -0.00532 0.43698 0.00162 C 0.44635 0.01991 0.43368 -0.00301 0.44514 0.0125 C 0.45226 0.02223 0.44375 0.01713 0.45312 0.02107 C 0.45469 0.01899 0.45625 0.01644 0.45799 0.01459 C 0.46111 0.01135 0.46771 0.00602 0.46771 0.00625 C 0.47465 0.00903 0.47309 0.01274 0.47569 0.02107 C 0.47899 0.03149 0.48038 0.02987 0.48212 0.0426 C 0.4842 0.05811 0.48212 0.05186 0.48698 0.06204 C 0.49097 0.0875 0.49028 0.07616 0.49028 0.0963 E">
                                      <p:cBhvr>
                                        <p:cTn id="56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186 C 0.00504 -0.00787 0.00921 -0.01319 0.02309 -0.01875 C 0.03837 -0.03263 0.04757 -0.02708 0.07639 -0.02338 C 0.08421 -0.02037 0.09167 -0.01736 0.09948 -0.01412 C 0.10695 -0.01111 0.11476 -0.00069 0.11476 -0.00046 C 0.11598 0.00162 0.11754 0.00371 0.11841 0.00625 C 0.12014 0.01065 0.11511 0.01783 0.12205 0.01991 C 0.12796 0.02153 0.12466 0.01227 0.12622 0.00834 C 0.12709 0.00625 0.12865 0.00394 0.12987 0.00186 C 0.1349 0.00255 0.14306 0.00093 0.14514 0.00394 C 0.15052 0.0125 0.14757 0.022 0.14879 0.03102 C 0.15052 0.04491 0.15087 0.05857 0.15296 0.07223 C 0.15469 0.08287 0.15296 0.08125 0.16459 0.08125 E">
                                      <p:cBhvr>
                                        <p:cTn id="562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8000"/>
                            </p:stCondLst>
                            <p:childTnLst>
                              <p:par>
                                <p:cTn id="5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0.1956 C 0.06337 0.19491 0.06754 0.1956 0.07101 0.19352 C 0.07517 0.1912 0.07344 0.18426 0.07569 0.18056 C 0.07691 0.17847 0.07899 0.17778 0.08056 0.17639 C 0.08802 0.15625 0.08351 0.16366 0.09167 0.15255 C 0.09479 0.14213 0.09688 0.14143 0.10486 0.14398 C 0.11059 0.14931 0.11424 0.15602 0.12101 0.15903 C 0.12483 0.1669 0.1276 0.17569 0.13212 0.18287 C 0.13403 0.18542 0.13681 0.18657 0.13854 0.18912 C 0.14045 0.19167 0.14201 0.19491 0.14358 0.19792 C 0.14879 0.20787 0.15087 0.21505 0.15799 0.22153 C 0.16181 0.21643 0.16684 0.21273 0.16927 0.20648 C 0.17778 0.18356 0.18247 0.1588 0.19028 0.13542 C 0.19306 0.10903 0.18924 0.13125 0.19826 0.10532 C 0.20278 0.09213 0.19618 0.10023 0.20486 0.09236 C 0.21927 0.10023 0.21042 0.09398 0.22743 0.1162 C 0.22882 0.11829 0.23073 0.12037 0.23229 0.12245 C 0.23507 0.12593 0.24184 0.13125 0.24184 0.13148 C 0.24601 0.13935 0.25191 0.14051 0.25642 0.14838 C 0.26181 0.15764 0.26649 0.16852 0.27101 0.17847 C 0.27361 0.19259 0.27865 0.1919 0.27569 0.20648 C 0.27517 0.19931 0.27465 0.19213 0.27413 0.18495 C 0.27361 0.17639 0.27309 0.16759 0.27257 0.15903 C 0.27205 0.15255 0.26979 0.14606 0.27101 0.13981 C 0.27135 0.13773 0.27413 0.1412 0.27569 0.1419 C 0.27917 0.14653 0.28368 0.15 0.28698 0.15486 C 0.29063 0.16018 0.2967 0.17199 0.2967 0.17222 C 0.29896 0.18171 0.30208 0.19167 0.30642 0.2 C 0.30885 0.20995 0.30799 0.20417 0.30799 0.21713 E">
                                      <p:cBhvr>
                                        <p:cTn id="565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41 0.08125 C 0.16493 0.07917 0.16476 0.07639 0.16597 0.07477 C 0.16875 0.07107 0.17569 0.06621 0.17569 0.06644 C 0.19913 0.07199 0.18837 0.06389 0.19826 0.07917 C 0.19983 0.08149 0.20156 0.08357 0.20312 0.08565 C 0.20712 0.10255 0.2151 0.11505 0.22083 0.13079 C 0.22153 0.13287 0.22135 0.13542 0.22239 0.13727 C 0.22517 0.14213 0.22882 0.14584 0.23212 0.15 C 0.23368 0.15209 0.23698 0.15649 0.23698 0.15672 C 0.23767 0.15649 0.25226 0.15556 0.25642 0.15232 C 0.26771 0.14329 0.27083 0.13727 0.28055 0.12431 C 0.2842 0.11945 0.28455 0.11135 0.28854 0.10718 C 0.29132 0.10417 0.29427 0.10186 0.2967 0.09838 C 0.3092 0.07987 0.29861 0.08519 0.31111 0.08125 C 0.31736 0.07292 0.31875 0.07199 0.32726 0.07477 C 0.33733 0.0838 0.34149 0.09769 0.34983 0.10926 C 0.35226 0.11806 0.35538 0.12338 0.36111 0.12871 C 0.36736 0.11737 0.37656 0.11088 0.38212 0.09838 C 0.38646 0.08843 0.3875 0.07709 0.39514 0.07061 C 0.39792 0.06412 0.40035 0.05741 0.40312 0.05116 C 0.40521 0.04676 0.40955 0.0382 0.40955 0.03843 C 0.41389 0.01482 0.41458 -0.00879 0.41771 -0.03263 C 0.42309 -0.02176 0.42899 -0.00532 0.43698 0.00162 C 0.44635 0.01991 0.43368 -0.00301 0.44514 0.0125 C 0.45226 0.02223 0.44375 0.01713 0.45312 0.02107 C 0.45469 0.01899 0.45625 0.01644 0.45799 0.01459 C 0.46111 0.01135 0.46771 0.00602 0.46771 0.00625 C 0.47465 0.00903 0.47309 0.01274 0.47569 0.02107 C 0.47899 0.03149 0.48038 0.02987 0.48212 0.0426 C 0.4842 0.05811 0.48212 0.05186 0.48698 0.06204 C 0.49097 0.0875 0.49028 0.07616 0.49028 0.0963 E">
                                      <p:cBhvr>
                                        <p:cTn id="567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186 C 0.00504 -0.00787 0.00921 -0.01319 0.02309 -0.01875 C 0.03837 -0.03263 0.04757 -0.02708 0.07639 -0.02338 C 0.08421 -0.02037 0.09167 -0.01736 0.09948 -0.01412 C 0.10695 -0.01111 0.11476 -0.00069 0.11476 -0.00046 C 0.11598 0.00162 0.11754 0.00371 0.11841 0.00625 C 0.12014 0.01065 0.11511 0.01783 0.12205 0.01991 C 0.12796 0.02153 0.12466 0.01227 0.12622 0.00834 C 0.12709 0.00625 0.12865 0.00394 0.12987 0.00186 C 0.1349 0.00255 0.14306 0.00093 0.14514 0.00394 C 0.15052 0.0125 0.14757 0.022 0.14879 0.03102 C 0.15052 0.04491 0.15087 0.05857 0.15296 0.07223 C 0.15469 0.08287 0.15296 0.08125 0.16459 0.08125 E">
                                      <p:cBhvr>
                                        <p:cTn id="569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0.1956 C 0.06337 0.19491 0.06754 0.1956 0.07101 0.19352 C 0.07517 0.1912 0.07344 0.18426 0.07569 0.18056 C 0.07691 0.17847 0.07899 0.17778 0.08056 0.17639 C 0.08802 0.15625 0.08351 0.16366 0.09167 0.15255 C 0.09479 0.14213 0.09688 0.14143 0.10486 0.14398 C 0.11059 0.14931 0.11424 0.15602 0.12101 0.15903 C 0.12483 0.1669 0.1276 0.17569 0.13212 0.18287 C 0.13403 0.18542 0.13681 0.18657 0.13854 0.18912 C 0.14045 0.19167 0.14201 0.19491 0.14358 0.19792 C 0.14879 0.20787 0.15087 0.21505 0.15799 0.22153 C 0.16181 0.21643 0.16684 0.21273 0.16927 0.20648 C 0.17778 0.18356 0.18247 0.1588 0.19028 0.13542 C 0.19306 0.10903 0.18924 0.13125 0.19826 0.10532 C 0.20278 0.09213 0.19618 0.10023 0.20486 0.09236 C 0.21927 0.10023 0.21042 0.09398 0.22743 0.1162 C 0.22882 0.11829 0.23073 0.12037 0.23229 0.12245 C 0.23507 0.12593 0.24184 0.13125 0.24184 0.13148 C 0.24601 0.13935 0.25191 0.14051 0.25642 0.14838 C 0.26181 0.15764 0.26649 0.16852 0.27101 0.17847 C 0.27361 0.19259 0.27865 0.1919 0.27569 0.20648 C 0.27517 0.19931 0.27465 0.19213 0.27413 0.18495 C 0.27361 0.17639 0.27309 0.16759 0.27257 0.15903 C 0.27205 0.15255 0.26979 0.14606 0.27101 0.13981 C 0.27135 0.13773 0.27413 0.1412 0.27569 0.1419 C 0.27917 0.14653 0.28368 0.15 0.28698 0.15486 C 0.29063 0.16018 0.2967 0.17199 0.2967 0.17222 C 0.29896 0.18171 0.30208 0.19167 0.30642 0.2 C 0.30885 0.20995 0.30799 0.20417 0.30799 0.21713 E">
                                      <p:cBhvr>
                                        <p:cTn id="572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41 0.08125 C 0.16493 0.07917 0.16476 0.07639 0.16597 0.07477 C 0.16875 0.07107 0.17569 0.06621 0.17569 0.06644 C 0.19913 0.07199 0.18837 0.06389 0.19826 0.07917 C 0.19983 0.08149 0.20156 0.08357 0.20312 0.08565 C 0.20712 0.10255 0.2151 0.11505 0.22083 0.13079 C 0.22153 0.13287 0.22135 0.13542 0.22239 0.13727 C 0.22517 0.14213 0.22882 0.14584 0.23212 0.15 C 0.23368 0.15209 0.23698 0.15649 0.23698 0.15672 C 0.23767 0.15649 0.25226 0.15556 0.25642 0.15232 C 0.26771 0.14329 0.27083 0.13727 0.28055 0.12431 C 0.2842 0.11945 0.28455 0.11135 0.28854 0.10718 C 0.29132 0.10417 0.29427 0.10186 0.2967 0.09838 C 0.3092 0.07987 0.29861 0.08519 0.31111 0.08125 C 0.31736 0.07292 0.31875 0.07199 0.32726 0.07477 C 0.33733 0.0838 0.34149 0.09769 0.34983 0.10926 C 0.35226 0.11806 0.35538 0.12338 0.36111 0.12871 C 0.36736 0.11737 0.37656 0.11088 0.38212 0.09838 C 0.38646 0.08843 0.3875 0.07709 0.39514 0.07061 C 0.39792 0.06412 0.40035 0.05741 0.40312 0.05116 C 0.40521 0.04676 0.40955 0.0382 0.40955 0.03843 C 0.41389 0.01482 0.41458 -0.00879 0.41771 -0.03263 C 0.42309 -0.02176 0.42899 -0.00532 0.43698 0.00162 C 0.44635 0.01991 0.43368 -0.00301 0.44514 0.0125 C 0.45226 0.02223 0.44375 0.01713 0.45312 0.02107 C 0.45469 0.01899 0.45625 0.01644 0.45799 0.01459 C 0.46111 0.01135 0.46771 0.00602 0.46771 0.00625 C 0.47465 0.00903 0.47309 0.01274 0.47569 0.02107 C 0.47899 0.03149 0.48038 0.02987 0.48212 0.0426 C 0.4842 0.05811 0.48212 0.05186 0.48698 0.06204 C 0.49097 0.0875 0.49028 0.07616 0.49028 0.0963 E">
                                      <p:cBhvr>
                                        <p:cTn id="574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0.00186 C 0.00504 -0.00787 0.00921 -0.01319 0.02309 -0.01875 C 0.03837 -0.03263 0.04757 -0.02708 0.07639 -0.02338 C 0.08421 -0.02037 0.09167 -0.01736 0.09948 -0.01412 C 0.10695 -0.01111 0.11476 -0.00069 0.11476 -0.00046 C 0.11598 0.00162 0.11754 0.00371 0.11841 0.00625 C 0.12014 0.01065 0.11511 0.01783 0.12205 0.01991 C 0.12796 0.02153 0.12466 0.01227 0.12622 0.00834 C 0.12709 0.00625 0.12865 0.00394 0.12987 0.00186 C 0.1349 0.00255 0.14306 0.00093 0.14514 0.00394 C 0.15052 0.0125 0.14757 0.022 0.14879 0.03102 C 0.15052 0.04491 0.15087 0.05857 0.15296 0.07223 C 0.15469 0.08287 0.15296 0.08125 0.16459 0.08125 E">
                                      <p:cBhvr>
                                        <p:cTn id="606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0.1956 C 0.06337 0.19491 0.06754 0.1956 0.07101 0.19352 C 0.07517 0.1912 0.07344 0.18426 0.07569 0.18056 C 0.07691 0.17847 0.07899 0.17778 0.08056 0.17639 C 0.08802 0.15625 0.08351 0.16366 0.09167 0.15255 C 0.09479 0.14213 0.09688 0.14143 0.10486 0.14398 C 0.11059 0.14931 0.11424 0.15602 0.12101 0.15903 C 0.12483 0.1669 0.1276 0.17569 0.13212 0.18287 C 0.13403 0.18542 0.13681 0.18657 0.13854 0.18912 C 0.14045 0.19167 0.14201 0.19491 0.14358 0.19792 C 0.14879 0.20787 0.15087 0.21505 0.15799 0.22153 C 0.16181 0.21643 0.16684 0.21273 0.16927 0.20648 C 0.17778 0.18356 0.18247 0.1588 0.19028 0.13542 C 0.19306 0.10903 0.18924 0.13125 0.19826 0.10532 C 0.20278 0.09213 0.19618 0.10023 0.20486 0.09236 C 0.21927 0.10023 0.21042 0.09398 0.22743 0.1162 C 0.22882 0.11829 0.23073 0.12037 0.23229 0.12245 C 0.23507 0.12593 0.24184 0.13125 0.24184 0.13148 C 0.24601 0.13935 0.25191 0.14051 0.25642 0.14838 C 0.26181 0.15764 0.26649 0.16852 0.27101 0.17847 C 0.27361 0.19259 0.27865 0.1919 0.27569 0.20648 C 0.27517 0.19931 0.27465 0.19213 0.27413 0.18495 C 0.27361 0.17639 0.27309 0.16759 0.27257 0.15903 C 0.27205 0.15255 0.26979 0.14606 0.27101 0.13981 C 0.27135 0.13773 0.27413 0.1412 0.27569 0.1419 C 0.27917 0.14653 0.28368 0.15 0.28698 0.15486 C 0.29063 0.16018 0.2967 0.17199 0.2967 0.17222 C 0.29896 0.18171 0.30208 0.19167 0.30642 0.2 C 0.30885 0.20995 0.30799 0.20417 0.30799 0.21713 E">
                                      <p:cBhvr>
                                        <p:cTn id="609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441 0.08125 C 0.16493 0.07917 0.16476 0.07639 0.16597 0.07477 C 0.16875 0.07107 0.17569 0.06621 0.17569 0.06644 C 0.19913 0.07199 0.18837 0.06389 0.19826 0.07917 C 0.19983 0.08149 0.20156 0.08357 0.20312 0.08565 C 0.20712 0.10255 0.2151 0.11505 0.22083 0.13079 C 0.22153 0.13287 0.22135 0.13542 0.22239 0.13727 C 0.22517 0.14213 0.22882 0.14584 0.23212 0.15 C 0.23368 0.15209 0.23698 0.15649 0.23698 0.15672 C 0.23767 0.15649 0.25226 0.15556 0.25642 0.15232 C 0.26771 0.14329 0.27083 0.13727 0.28055 0.12431 C 0.2842 0.11945 0.28455 0.11135 0.28854 0.10718 C 0.29132 0.10417 0.29427 0.10186 0.2967 0.09838 C 0.3092 0.07987 0.29861 0.08519 0.31111 0.08125 C 0.31736 0.07292 0.31875 0.07199 0.32726 0.07477 C 0.33733 0.0838 0.34149 0.09769 0.34983 0.10926 C 0.35226 0.11806 0.35538 0.12338 0.36111 0.12871 C 0.36736 0.11737 0.37656 0.11088 0.38212 0.09838 C 0.38646 0.08843 0.3875 0.07709 0.39514 0.07061 C 0.39792 0.06412 0.40035 0.05741 0.40312 0.05116 C 0.40521 0.04676 0.40955 0.0382 0.40955 0.03843 C 0.41389 0.01482 0.41458 -0.00879 0.41771 -0.03263 C 0.42309 -0.02176 0.42899 -0.00532 0.43698 0.00162 C 0.44635 0.01991 0.43368 -0.00301 0.44514 0.0125 C 0.45226 0.02223 0.44375 0.01713 0.45312 0.02107 C 0.45469 0.01899 0.45625 0.01644 0.45799 0.01459 C 0.46111 0.01135 0.46771 0.00602 0.46771 0.00625 C 0.47465 0.00903 0.47309 0.01274 0.47569 0.02107 C 0.47899 0.03149 0.48038 0.02987 0.48212 0.0426 C 0.4842 0.05811 0.48212 0.05186 0.48698 0.06204 C 0.49097 0.0875 0.49028 0.07616 0.49028 0.0963 E">
                                      <p:cBhvr>
                                        <p:cTn id="611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1920" y="281952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228600" y="152280"/>
            <a:ext cx="8763120" cy="192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村庄的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山谷中，早先有过一个美丽的小村庄。山上的森林郁郁葱葱，村前河水清澈见底，天空湛蓝深远，空气清新甜润。村里住着几十户人家。不知从什么时候起，家家有了锋利的斧头。谁家想盖房，谁家想造犁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就拎起斧头到山上去，把树木一棵一棵砍下来。就这样，山坡上出现了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uǒ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露的土地。 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一年年，一代代，山坡上的树木不断减少，裸露的土地不断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kuò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。树木变成了一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dònɡ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栋房子，变成了各式各样的工具，变成了应有尽有的家具，还有大量的树木随着屋顶冒出的柴烟消失在天空了。不管怎样，家家户户靠着锋利的斧头，日子过得还都不错。然而，不知过了多少年，多少代，在一个雨水奇多的八月，大雨没喘气，一连下了五天五夜，到第六天黎明，雨才停下来。可是，小村庄，却被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áo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iào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洪水不知卷到了何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什么都没有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有靠斧头得到的一切，包括那些锋利的斧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129528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狼和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                                         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森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0" y="1295280"/>
            <a:ext cx="914400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18 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狼和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                           “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功臣”                         “祸首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                                         </a:t>
            </a:r>
            <a:r>
              <a:rPr b="0" lang="zh-CN" sz="2800" spc="-1" strike="noStrike">
                <a:solidFill>
                  <a:srgbClr val="c00000"/>
                </a:solidFill>
                <a:latin typeface="Arial"/>
              </a:rPr>
              <a:t>森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1295280"/>
            <a:ext cx="914400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狼和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功臣”                         “祸首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森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3048120" y="2286000"/>
            <a:ext cx="3200400" cy="1752480"/>
          </a:xfrm>
          <a:custGeom>
            <a:avLst/>
            <a:gdLst/>
            <a:ahLst/>
            <a:rect l="l" t="t" r="r" b="b"/>
            <a:pathLst>
              <a:path w="2016" h="1104">
                <a:moveTo>
                  <a:pt x="0" y="1104"/>
                </a:moveTo>
                <a:cubicBezTo>
                  <a:pt x="312" y="552"/>
                  <a:pt x="624" y="0"/>
                  <a:pt x="960" y="0"/>
                </a:cubicBezTo>
                <a:cubicBezTo>
                  <a:pt x="1296" y="0"/>
                  <a:pt x="1840" y="920"/>
                  <a:pt x="2016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6019920" y="3733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42670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吃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0" y="1295280"/>
            <a:ext cx="914400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狼和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功臣”                         “祸首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森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"/>
          <p:cNvSpPr/>
          <p:nvPr/>
        </p:nvSpPr>
        <p:spPr>
          <a:xfrm>
            <a:off x="3048120" y="2286000"/>
            <a:ext cx="3200400" cy="1752480"/>
          </a:xfrm>
          <a:custGeom>
            <a:avLst/>
            <a:gdLst/>
            <a:ahLst/>
            <a:rect l="l" t="t" r="r" b="b"/>
            <a:pathLst>
              <a:path w="2016" h="1104">
                <a:moveTo>
                  <a:pt x="0" y="1104"/>
                </a:moveTo>
                <a:cubicBezTo>
                  <a:pt x="312" y="552"/>
                  <a:pt x="624" y="0"/>
                  <a:pt x="960" y="0"/>
                </a:cubicBezTo>
                <a:cubicBezTo>
                  <a:pt x="1296" y="0"/>
                  <a:pt x="1840" y="920"/>
                  <a:pt x="2016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6019920" y="3733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5"/>
          <p:cNvSpPr/>
          <p:nvPr/>
        </p:nvSpPr>
        <p:spPr>
          <a:xfrm>
            <a:off x="3048120" y="4419720"/>
            <a:ext cx="990360" cy="1066680"/>
          </a:xfrm>
          <a:custGeom>
            <a:avLst/>
            <a:gdLst/>
            <a:ahLst/>
            <a:rect l="l" t="t" r="r" b="b"/>
            <a:pathLst>
              <a:path w="624" h="672">
                <a:moveTo>
                  <a:pt x="0" y="0"/>
                </a:moveTo>
                <a:cubicBezTo>
                  <a:pt x="20" y="160"/>
                  <a:pt x="40" y="320"/>
                  <a:pt x="144" y="432"/>
                </a:cubicBezTo>
                <a:cubicBezTo>
                  <a:pt x="248" y="544"/>
                  <a:pt x="544" y="632"/>
                  <a:pt x="624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3886200" y="5410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2670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吃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2549160" y="4800600"/>
            <a:ext cx="7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0" y="1295280"/>
            <a:ext cx="914400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狼和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功臣”                         “祸首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森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3048120" y="2286000"/>
            <a:ext cx="3200400" cy="1752480"/>
          </a:xfrm>
          <a:custGeom>
            <a:avLst/>
            <a:gdLst/>
            <a:ahLst/>
            <a:rect l="l" t="t" r="r" b="b"/>
            <a:pathLst>
              <a:path w="2016" h="1104">
                <a:moveTo>
                  <a:pt x="0" y="1104"/>
                </a:moveTo>
                <a:cubicBezTo>
                  <a:pt x="312" y="552"/>
                  <a:pt x="624" y="0"/>
                  <a:pt x="960" y="0"/>
                </a:cubicBezTo>
                <a:cubicBezTo>
                  <a:pt x="1296" y="0"/>
                  <a:pt x="1840" y="920"/>
                  <a:pt x="2016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6019920" y="3733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5"/>
          <p:cNvSpPr/>
          <p:nvPr/>
        </p:nvSpPr>
        <p:spPr>
          <a:xfrm>
            <a:off x="3048120" y="4419720"/>
            <a:ext cx="990360" cy="1066680"/>
          </a:xfrm>
          <a:custGeom>
            <a:avLst/>
            <a:gdLst/>
            <a:ahLst/>
            <a:rect l="l" t="t" r="r" b="b"/>
            <a:pathLst>
              <a:path w="624" h="672">
                <a:moveTo>
                  <a:pt x="0" y="0"/>
                </a:moveTo>
                <a:cubicBezTo>
                  <a:pt x="20" y="160"/>
                  <a:pt x="40" y="320"/>
                  <a:pt x="144" y="432"/>
                </a:cubicBezTo>
                <a:cubicBezTo>
                  <a:pt x="248" y="544"/>
                  <a:pt x="544" y="632"/>
                  <a:pt x="624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6"/>
          <p:cNvSpPr/>
          <p:nvPr/>
        </p:nvSpPr>
        <p:spPr>
          <a:xfrm>
            <a:off x="5029200" y="4495680"/>
            <a:ext cx="1143000" cy="1067040"/>
          </a:xfrm>
          <a:custGeom>
            <a:avLst/>
            <a:gdLst/>
            <a:ahLst/>
            <a:rect l="l" t="t" r="r" b="b"/>
            <a:pathLst>
              <a:path w="720" h="672">
                <a:moveTo>
                  <a:pt x="720" y="0"/>
                </a:moveTo>
                <a:cubicBezTo>
                  <a:pt x="708" y="112"/>
                  <a:pt x="696" y="224"/>
                  <a:pt x="576" y="336"/>
                </a:cubicBezTo>
                <a:cubicBezTo>
                  <a:pt x="456" y="448"/>
                  <a:pt x="228" y="560"/>
                  <a:pt x="0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3886200" y="5410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8"/>
          <p:cNvSpPr/>
          <p:nvPr/>
        </p:nvSpPr>
        <p:spPr>
          <a:xfrm flipH="1">
            <a:off x="5028840" y="54864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2549160" y="4800600"/>
            <a:ext cx="7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5947560" y="4800600"/>
            <a:ext cx="4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破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42670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吃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1295280"/>
            <a:ext cx="914400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狼和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功臣”                         “祸首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森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3048120" y="2286000"/>
            <a:ext cx="3200400" cy="1752480"/>
          </a:xfrm>
          <a:custGeom>
            <a:avLst/>
            <a:gdLst/>
            <a:ahLst/>
            <a:rect l="l" t="t" r="r" b="b"/>
            <a:pathLst>
              <a:path w="2016" h="1104">
                <a:moveTo>
                  <a:pt x="0" y="1104"/>
                </a:moveTo>
                <a:cubicBezTo>
                  <a:pt x="312" y="552"/>
                  <a:pt x="624" y="0"/>
                  <a:pt x="960" y="0"/>
                </a:cubicBezTo>
                <a:cubicBezTo>
                  <a:pt x="1296" y="0"/>
                  <a:pt x="1840" y="920"/>
                  <a:pt x="2016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019920" y="3733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5"/>
          <p:cNvSpPr/>
          <p:nvPr/>
        </p:nvSpPr>
        <p:spPr>
          <a:xfrm>
            <a:off x="3048120" y="4419720"/>
            <a:ext cx="990360" cy="1066680"/>
          </a:xfrm>
          <a:custGeom>
            <a:avLst/>
            <a:gdLst/>
            <a:ahLst/>
            <a:rect l="l" t="t" r="r" b="b"/>
            <a:pathLst>
              <a:path w="624" h="672">
                <a:moveTo>
                  <a:pt x="0" y="0"/>
                </a:moveTo>
                <a:cubicBezTo>
                  <a:pt x="20" y="160"/>
                  <a:pt x="40" y="320"/>
                  <a:pt x="144" y="432"/>
                </a:cubicBezTo>
                <a:cubicBezTo>
                  <a:pt x="248" y="544"/>
                  <a:pt x="544" y="632"/>
                  <a:pt x="624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6"/>
          <p:cNvSpPr/>
          <p:nvPr/>
        </p:nvSpPr>
        <p:spPr>
          <a:xfrm>
            <a:off x="5029200" y="4495680"/>
            <a:ext cx="1143000" cy="1067040"/>
          </a:xfrm>
          <a:custGeom>
            <a:avLst/>
            <a:gdLst/>
            <a:ahLst/>
            <a:rect l="l" t="t" r="r" b="b"/>
            <a:pathLst>
              <a:path w="720" h="672">
                <a:moveTo>
                  <a:pt x="720" y="0"/>
                </a:moveTo>
                <a:cubicBezTo>
                  <a:pt x="708" y="112"/>
                  <a:pt x="696" y="224"/>
                  <a:pt x="576" y="336"/>
                </a:cubicBezTo>
                <a:cubicBezTo>
                  <a:pt x="456" y="448"/>
                  <a:pt x="228" y="560"/>
                  <a:pt x="0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>
            <a:off x="3886200" y="5410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8"/>
          <p:cNvSpPr/>
          <p:nvPr/>
        </p:nvSpPr>
        <p:spPr>
          <a:xfrm flipH="1">
            <a:off x="5028840" y="54864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2549160" y="4800600"/>
            <a:ext cx="7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5947560" y="4800600"/>
            <a:ext cx="4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破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42670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吃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0" y="1295280"/>
            <a:ext cx="914400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狼和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功臣”                         “祸首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森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"/>
          <p:cNvSpPr/>
          <p:nvPr/>
        </p:nvSpPr>
        <p:spPr>
          <a:xfrm>
            <a:off x="3048120" y="2286000"/>
            <a:ext cx="3200400" cy="1752480"/>
          </a:xfrm>
          <a:custGeom>
            <a:avLst/>
            <a:gdLst/>
            <a:ahLst/>
            <a:rect l="l" t="t" r="r" b="b"/>
            <a:pathLst>
              <a:path w="2016" h="1104">
                <a:moveTo>
                  <a:pt x="0" y="1104"/>
                </a:moveTo>
                <a:cubicBezTo>
                  <a:pt x="312" y="552"/>
                  <a:pt x="624" y="0"/>
                  <a:pt x="960" y="0"/>
                </a:cubicBezTo>
                <a:cubicBezTo>
                  <a:pt x="1296" y="0"/>
                  <a:pt x="1840" y="920"/>
                  <a:pt x="2016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6019920" y="3733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5"/>
          <p:cNvSpPr/>
          <p:nvPr/>
        </p:nvSpPr>
        <p:spPr>
          <a:xfrm>
            <a:off x="3048120" y="4419720"/>
            <a:ext cx="990360" cy="1066680"/>
          </a:xfrm>
          <a:custGeom>
            <a:avLst/>
            <a:gdLst/>
            <a:ahLst/>
            <a:rect l="l" t="t" r="r" b="b"/>
            <a:pathLst>
              <a:path w="624" h="672">
                <a:moveTo>
                  <a:pt x="0" y="0"/>
                </a:moveTo>
                <a:cubicBezTo>
                  <a:pt x="20" y="160"/>
                  <a:pt x="40" y="320"/>
                  <a:pt x="144" y="432"/>
                </a:cubicBezTo>
                <a:cubicBezTo>
                  <a:pt x="248" y="544"/>
                  <a:pt x="544" y="632"/>
                  <a:pt x="624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6"/>
          <p:cNvSpPr/>
          <p:nvPr/>
        </p:nvSpPr>
        <p:spPr>
          <a:xfrm>
            <a:off x="5029200" y="4495680"/>
            <a:ext cx="1143000" cy="1067040"/>
          </a:xfrm>
          <a:custGeom>
            <a:avLst/>
            <a:gdLst/>
            <a:ahLst/>
            <a:rect l="l" t="t" r="r" b="b"/>
            <a:pathLst>
              <a:path w="720" h="672">
                <a:moveTo>
                  <a:pt x="720" y="0"/>
                </a:moveTo>
                <a:cubicBezTo>
                  <a:pt x="708" y="112"/>
                  <a:pt x="696" y="224"/>
                  <a:pt x="576" y="336"/>
                </a:cubicBezTo>
                <a:cubicBezTo>
                  <a:pt x="456" y="448"/>
                  <a:pt x="228" y="560"/>
                  <a:pt x="0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886200" y="5410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 flipH="1">
            <a:off x="5028840" y="54864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980880" y="3276720"/>
            <a:ext cx="91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保护生态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2549160" y="4800600"/>
            <a:ext cx="7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5947560" y="4800600"/>
            <a:ext cx="4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破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42670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吃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0" y="1295280"/>
            <a:ext cx="914400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狼和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功臣”                         “祸首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森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3"/>
          <p:cNvSpPr/>
          <p:nvPr/>
        </p:nvSpPr>
        <p:spPr>
          <a:xfrm>
            <a:off x="3048120" y="2286000"/>
            <a:ext cx="3200400" cy="1752480"/>
          </a:xfrm>
          <a:custGeom>
            <a:avLst/>
            <a:gdLst/>
            <a:ahLst/>
            <a:rect l="l" t="t" r="r" b="b"/>
            <a:pathLst>
              <a:path w="2016" h="1104">
                <a:moveTo>
                  <a:pt x="0" y="1104"/>
                </a:moveTo>
                <a:cubicBezTo>
                  <a:pt x="312" y="552"/>
                  <a:pt x="624" y="0"/>
                  <a:pt x="960" y="0"/>
                </a:cubicBezTo>
                <a:cubicBezTo>
                  <a:pt x="1296" y="0"/>
                  <a:pt x="1840" y="920"/>
                  <a:pt x="2016" y="11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6019920" y="3733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5"/>
          <p:cNvSpPr/>
          <p:nvPr/>
        </p:nvSpPr>
        <p:spPr>
          <a:xfrm>
            <a:off x="3048120" y="4419720"/>
            <a:ext cx="990360" cy="1066680"/>
          </a:xfrm>
          <a:custGeom>
            <a:avLst/>
            <a:gdLst/>
            <a:ahLst/>
            <a:rect l="l" t="t" r="r" b="b"/>
            <a:pathLst>
              <a:path w="624" h="672">
                <a:moveTo>
                  <a:pt x="0" y="0"/>
                </a:moveTo>
                <a:cubicBezTo>
                  <a:pt x="20" y="160"/>
                  <a:pt x="40" y="320"/>
                  <a:pt x="144" y="432"/>
                </a:cubicBezTo>
                <a:cubicBezTo>
                  <a:pt x="248" y="544"/>
                  <a:pt x="544" y="632"/>
                  <a:pt x="624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6"/>
          <p:cNvSpPr/>
          <p:nvPr/>
        </p:nvSpPr>
        <p:spPr>
          <a:xfrm>
            <a:off x="5029200" y="4495680"/>
            <a:ext cx="1143000" cy="1067040"/>
          </a:xfrm>
          <a:custGeom>
            <a:avLst/>
            <a:gdLst/>
            <a:ahLst/>
            <a:rect l="l" t="t" r="r" b="b"/>
            <a:pathLst>
              <a:path w="720" h="672">
                <a:moveTo>
                  <a:pt x="720" y="0"/>
                </a:moveTo>
                <a:cubicBezTo>
                  <a:pt x="708" y="112"/>
                  <a:pt x="696" y="224"/>
                  <a:pt x="576" y="336"/>
                </a:cubicBezTo>
                <a:cubicBezTo>
                  <a:pt x="456" y="448"/>
                  <a:pt x="228" y="560"/>
                  <a:pt x="0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>
            <a:off x="3886200" y="5410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"/>
          <p:cNvSpPr/>
          <p:nvPr/>
        </p:nvSpPr>
        <p:spPr>
          <a:xfrm flipH="1">
            <a:off x="5028840" y="54864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3980880" y="3276720"/>
            <a:ext cx="91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保护生态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 flipH="1">
            <a:off x="3504960" y="42670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4267080" y="2286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吃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2549160" y="4800600"/>
            <a:ext cx="7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保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5947560" y="4800600"/>
            <a:ext cx="4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破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808"/>
                </a:solidFill>
                <a:latin typeface="Arial"/>
              </a:rPr>
              <a:t>填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一百多年以前，凯巴伯森林</a:t>
            </a:r>
            <a:r>
              <a:rPr b="1" lang="zh-CN" sz="3200" spc="-1" strike="noStrike" u="sng">
                <a:solidFill>
                  <a:srgbClr val="000808"/>
                </a:solidFill>
                <a:uFillTx/>
                <a:latin typeface="Arial"/>
              </a:rPr>
              <a:t>                     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，鹿</a:t>
            </a:r>
            <a:r>
              <a:rPr b="1" lang="zh-CN" sz="3200" spc="-1" strike="noStrike" u="sng">
                <a:solidFill>
                  <a:srgbClr val="000808"/>
                </a:solidFill>
                <a:uFillTx/>
                <a:latin typeface="Arial"/>
              </a:rPr>
              <a:t>                        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；后来，因为人们</a:t>
            </a:r>
            <a:r>
              <a:rPr b="1" lang="zh-CN" sz="3200" spc="-1" strike="noStrike" u="sng">
                <a:solidFill>
                  <a:srgbClr val="000808"/>
                </a:solidFill>
                <a:uFillTx/>
                <a:latin typeface="Arial"/>
              </a:rPr>
              <a:t>                                                            </a:t>
            </a:r>
            <a:r>
              <a:rPr b="1" lang="en-US" sz="3200" spc="-1" strike="noStrike" u="sng">
                <a:solidFill>
                  <a:srgbClr val="000808"/>
                </a:solidFill>
                <a:uFillTx/>
                <a:latin typeface="Arial"/>
              </a:rPr>
              <a:t>,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森林变得</a:t>
            </a:r>
            <a:r>
              <a:rPr b="1" lang="zh-CN" sz="3200" spc="-1" strike="noStrike" u="sng">
                <a:solidFill>
                  <a:srgbClr val="000808"/>
                </a:solidFill>
                <a:uFillTx/>
                <a:latin typeface="Arial"/>
              </a:rPr>
              <a:t>                                         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，鹿</a:t>
            </a:r>
            <a:r>
              <a:rPr b="1" lang="zh-CN" sz="3200" spc="-1" strike="noStrike" u="sng">
                <a:solidFill>
                  <a:srgbClr val="000808"/>
                </a:solidFill>
                <a:uFillTx/>
                <a:latin typeface="Arial"/>
              </a:rPr>
              <a:t>                                 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。最后人们认识到狼是</a:t>
            </a:r>
            <a:r>
              <a:rPr b="1" lang="zh-CN" sz="3200" spc="-1" strike="noStrike" u="sng">
                <a:solidFill>
                  <a:srgbClr val="000808"/>
                </a:solidFill>
                <a:uFillTx/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鹿是</a:t>
            </a:r>
            <a:r>
              <a:rPr b="1" lang="zh-CN" sz="3200" spc="-1" strike="noStrike" u="sng">
                <a:solidFill>
                  <a:srgbClr val="000808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33520" y="2819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大量捕杀狼与其他一些鹿的天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562720" y="18288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葱绿，生机勃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595520" y="2301840"/>
            <a:ext cx="19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林间嬉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玩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905120" y="32767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像着了火一样，绿色消退，枯黄蔓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143000" y="3886200"/>
            <a:ext cx="33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剩下了八千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572840" y="434340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森林的“功臣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925520" y="434340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森林的“祸首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520"/>
            <a:ext cx="8540640" cy="419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练笔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了这篇课文，我明白了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　　　　　　　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5410080" y="26668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914400" y="3505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914400" y="441972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914400" y="51814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1"/>
          <p:cNvSpPr/>
          <p:nvPr/>
        </p:nvSpPr>
        <p:spPr>
          <a:xfrm>
            <a:off x="914400" y="5919840"/>
            <a:ext cx="53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5"/>
          <p:cNvSpPr/>
          <p:nvPr/>
        </p:nvSpPr>
        <p:spPr>
          <a:xfrm>
            <a:off x="380880" y="1219320"/>
            <a:ext cx="80773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课文告诫人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保护环境、保护生态平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必须认识到自然界各事物间的内在联系，不能随意破坏生态平衡，否则将会产生无法想象的后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DB39-3FD6-47BD-A0F2-19A8ACF5AD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33520" y="228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课文共几个自然节？每一节些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143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节：一百多年前，凯巴伯森林狼鹿共存，狼总在寻找机会对鹿下毒手。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3520" y="25146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节：当地居民大量捕杀狼与其他一些鹿的天敌。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9480" y="38098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节：灾难逐渐降临到凯巴伯森林这片鹿的王国。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51814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808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节：人们做梦也没想到，狼居然是森林和鹿群的“功臣”。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52280" y="228600"/>
            <a:ext cx="91440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808"/>
                </a:solidFill>
                <a:latin typeface="Arial"/>
              </a:rPr>
              <a:t>凯巴伯、葱绿、捕杀、其他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808"/>
                </a:solidFill>
                <a:latin typeface="Arial"/>
              </a:rPr>
              <a:t>饥饿、消退、悲惨、传染、一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457200" y="803160"/>
            <a:ext cx="779796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808"/>
                </a:solidFill>
                <a:latin typeface="Arial"/>
              </a:rPr>
              <a:t>贪婪、毒手、大约、哀嚎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808"/>
                </a:solidFill>
                <a:latin typeface="Arial"/>
              </a:rPr>
              <a:t>繁殖、灌木、蔓延、妖魔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808"/>
                </a:solidFill>
                <a:latin typeface="Arial"/>
              </a:rPr>
              <a:t>威胁、毁灭、祸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28600" y="1218960"/>
            <a:ext cx="854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57200" y="267984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狼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鹿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525400" y="837360"/>
            <a:ext cx="41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从课文中找出两个词来形容狼和鹿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449720" y="2635200"/>
            <a:ext cx="12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功臣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1449720" y="3854520"/>
            <a:ext cx="124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808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808"/>
                </a:solidFill>
                <a:latin typeface="Arial"/>
              </a:rPr>
              <a:t>祸首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2265120" y="1629360"/>
            <a:ext cx="32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这两个词分别是什么意思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2590920" y="26352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（对某项事业有显著功劳的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3499200" y="38545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（引起祸患的主要人物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457200" y="5073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为什么人们喜欢的鹿成了“祸首”，而人们痛恨的狼却成了“功臣”？这究竟是怎么回事呢？我们一起走进课文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51920" y="2819520"/>
            <a:ext cx="854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856560" y="1066680"/>
            <a:ext cx="4586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80880" y="923760"/>
            <a:ext cx="83822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活动一：思考森林的变化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朗读课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，一百多年前的森林是怎样的？后来的森林又是怎样的？画出文中描写凯巴伯森林景色的句子，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小组讨论交流造成森林如此变化的原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22:4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6:26Z</dcterms:modified>
  <cp:revision>18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