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wmf" ContentType="image/x-wmf"/>
  <Override PartName="/ppt/media/image6.gif" ContentType="image/gi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C803D-11A9-4B87-AC07-1847993D748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199E4-5139-4998-8AEB-FFA14D60746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FED4-8AD6-4866-BCA6-8AFC754B5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2AF7-02C7-4CC9-92FF-AE030C726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7883-3809-4724-9A12-4CC733997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5EA3-B46A-4434-893C-2795AE928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9D2E-4CAF-4BD6-9C9E-AD5F5FC76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B17A-CA05-4B63-BD87-A56D184FC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74D1-DAB3-41A5-BF56-C7812959A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28F8-5CEB-443D-8463-B00E50A91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A8EF-D61D-439E-ADB4-B67F8E1D0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207F-30BC-41BC-908B-C43A24F8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2FA9-AF6A-4C05-AD19-38B64C3C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6C89-A226-4D19-AA08-69501FA4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79614-5B7E-46F6-B068-B300DE100C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539640" y="907920"/>
            <a:ext cx="52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黑体"/>
                <a:ea typeface="黑体"/>
              </a:rPr>
              <a:t>湘教版 二年级 下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5"/>
          <p:cNvSpPr txBox="1"/>
          <p:nvPr/>
        </p:nvSpPr>
        <p:spPr>
          <a:xfrm>
            <a:off x="1716120" y="2355840"/>
            <a:ext cx="5256360" cy="12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黑体"/>
              </a:rPr>
              <a:t>22.</a:t>
            </a:r>
            <a:r>
              <a:rPr b="1" lang="zh-CN" sz="1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黑体"/>
              </a:rPr>
              <a:t>两颗种子</a:t>
            </a:r>
            <a:endParaRPr b="1" lang="en-US" sz="18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50" name="Picture 7" descr="MCj01933360000[1]"/>
          <p:cNvPicPr/>
          <p:nvPr/>
        </p:nvPicPr>
        <p:blipFill>
          <a:blip r:embed="rId4"/>
          <a:stretch/>
        </p:blipFill>
        <p:spPr>
          <a:xfrm>
            <a:off x="6972480" y="3789360"/>
            <a:ext cx="1423800" cy="2135160"/>
          </a:xfrm>
          <a:prstGeom prst="rect">
            <a:avLst/>
          </a:prstGeom>
          <a:ln w="0">
            <a:noFill/>
          </a:ln>
        </p:spPr>
      </p:pic>
      <p:sp>
        <p:nvSpPr>
          <p:cNvPr id="51" name="矩形 6"/>
          <p:cNvSpPr/>
          <p:nvPr/>
        </p:nvSpPr>
        <p:spPr>
          <a:xfrm>
            <a:off x="1755360" y="59245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8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900000" y="2708280"/>
            <a:ext cx="684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议一议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老人的话你是怎样理解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细读感悟"/>
          <p:cNvPicPr/>
          <p:nvPr/>
        </p:nvPicPr>
        <p:blipFill>
          <a:blip r:embed="rId1"/>
          <a:stretch/>
        </p:blipFill>
        <p:spPr>
          <a:xfrm>
            <a:off x="611280" y="1052640"/>
            <a:ext cx="1944720" cy="5205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6"/>
          <p:cNvSpPr/>
          <p:nvPr/>
        </p:nvSpPr>
        <p:spPr>
          <a:xfrm>
            <a:off x="755640" y="1844640"/>
            <a:ext cx="49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学习课文第七自然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611280" y="1989000"/>
            <a:ext cx="8136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黑体"/>
              </a:rPr>
              <a:t>一、选择正确的读音打“√”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</a:rPr>
              <a:t>绸缎（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chóu   dàn    chóu   duàn 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</a:rPr>
              <a:t>收获（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shōu  huò   sōu hè 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黑体"/>
              </a:rPr>
              <a:t>二、比一比，再组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</a:rPr>
              <a:t>颗（      ）      存（     ）     况（      ）     奋（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</a:rPr>
              <a:t>棵（    　）　友（      ）     泥（      ）    奇（　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图片1"/>
          <p:cNvPicPr/>
          <p:nvPr/>
        </p:nvPicPr>
        <p:blipFill>
          <a:blip r:embed="rId1"/>
          <a:stretch/>
        </p:blipFill>
        <p:spPr>
          <a:xfrm>
            <a:off x="611280" y="981000"/>
            <a:ext cx="1000080" cy="7621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6"/>
          <p:cNvSpPr/>
          <p:nvPr/>
        </p:nvSpPr>
        <p:spPr>
          <a:xfrm>
            <a:off x="1619280" y="105264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练一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1116000" y="2637000"/>
            <a:ext cx="61214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黑体"/>
              </a:rPr>
              <a:t>三、给多音字注音并组词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</a:rPr>
              <a:t>少　       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</a:rPr>
              <a:t>      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图片1"/>
          <p:cNvPicPr/>
          <p:nvPr/>
        </p:nvPicPr>
        <p:blipFill>
          <a:blip r:embed="rId1"/>
          <a:stretch/>
        </p:blipFill>
        <p:spPr>
          <a:xfrm>
            <a:off x="611280" y="981000"/>
            <a:ext cx="1000080" cy="7621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6"/>
          <p:cNvSpPr/>
          <p:nvPr/>
        </p:nvSpPr>
        <p:spPr>
          <a:xfrm>
            <a:off x="1619280" y="105264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练一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2268360" y="3357720"/>
            <a:ext cx="216000" cy="1079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8"/>
          <p:cNvSpPr/>
          <p:nvPr/>
        </p:nvSpPr>
        <p:spPr>
          <a:xfrm>
            <a:off x="5724360" y="3429000"/>
            <a:ext cx="216000" cy="1079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4"/>
          <p:cNvSpPr txBox="1"/>
          <p:nvPr/>
        </p:nvSpPr>
        <p:spPr>
          <a:xfrm>
            <a:off x="2700360" y="2421000"/>
            <a:ext cx="381636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5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黑体"/>
              </a:rPr>
              <a:t>再见！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pic>
        <p:nvPicPr>
          <p:cNvPr id="93" name="Picture 6" descr="MCj04211540000[1]"/>
          <p:cNvPicPr/>
          <p:nvPr/>
        </p:nvPicPr>
        <p:blipFill>
          <a:blip r:embed="rId1"/>
          <a:stretch/>
        </p:blipFill>
        <p:spPr>
          <a:xfrm>
            <a:off x="7236000" y="3357720"/>
            <a:ext cx="14270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EC2C8-54CD-4F6D-AC57-433FCAE548F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468360" y="1844640"/>
            <a:ext cx="7848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认识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6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个生字，其中会写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颗、存、误、况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丝、奋、实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个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正确、流利地朗读课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体会到只有用汗水浇灌，种子才能变成丰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的果实的道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468360" y="105264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黑体"/>
              </a:rPr>
              <a:t>学习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1"/>
          <p:cNvSpPr/>
          <p:nvPr/>
        </p:nvSpPr>
        <p:spPr>
          <a:xfrm>
            <a:off x="1612800" y="5419800"/>
            <a:ext cx="62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755640" y="1268280"/>
            <a:ext cx="792000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重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掌握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个生字的音、形、义，体会只有付诸行动，付出心血，才能使理想变为现实的道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难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课文最后一段的理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1943280" y="2421000"/>
            <a:ext cx="7200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颗  存  误  况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丝  奋  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2050920" y="213372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k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3419640" y="21337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ú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4788000" y="213372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6084720" y="213372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kuà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2050920" y="371628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3419640" y="371628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è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4788000" y="371628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h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539640" y="105264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生字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1042920" y="2349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自读读课文，想一想：课文写了一件什么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468360" y="98100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阅读思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MCBD06661_0000[1]"/>
          <p:cNvPicPr/>
          <p:nvPr/>
        </p:nvPicPr>
        <p:blipFill>
          <a:blip r:embed="rId1"/>
          <a:stretch/>
        </p:blipFill>
        <p:spPr>
          <a:xfrm>
            <a:off x="6516720" y="4149720"/>
            <a:ext cx="174780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755640" y="1844640"/>
            <a:ext cx="49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学习课文第一、二自然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细读感悟"/>
          <p:cNvPicPr/>
          <p:nvPr/>
        </p:nvPicPr>
        <p:blipFill>
          <a:blip r:embed="rId1"/>
          <a:stretch/>
        </p:blipFill>
        <p:spPr>
          <a:xfrm>
            <a:off x="611280" y="1052640"/>
            <a:ext cx="1944720" cy="5205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7"/>
          <p:cNvSpPr/>
          <p:nvPr/>
        </p:nvSpPr>
        <p:spPr>
          <a:xfrm>
            <a:off x="684360" y="2637000"/>
            <a:ext cx="684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）什么是理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）两位少年提出了一个什么疑问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）他们怎么去解决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细读感悟"/>
          <p:cNvPicPr/>
          <p:nvPr/>
        </p:nvPicPr>
        <p:blipFill>
          <a:blip r:embed="rId1"/>
          <a:stretch/>
        </p:blipFill>
        <p:spPr>
          <a:xfrm>
            <a:off x="611280" y="1052640"/>
            <a:ext cx="1944720" cy="5205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755640" y="1844640"/>
            <a:ext cx="49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学习课文第三自然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755640" y="2708280"/>
            <a:ext cx="59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思考：老人是怎么回答他们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826920" y="371628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请用课文中的话回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细读感悟"/>
          <p:cNvPicPr/>
          <p:nvPr/>
        </p:nvPicPr>
        <p:blipFill>
          <a:blip r:embed="rId1"/>
          <a:stretch/>
        </p:blipFill>
        <p:spPr>
          <a:xfrm>
            <a:off x="611280" y="1052640"/>
            <a:ext cx="1944720" cy="5205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755640" y="1844640"/>
            <a:ext cx="49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学习课文第四、五、六自然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611280" y="2565360"/>
            <a:ext cx="7848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）第一个少年是生怎样保存种子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）自由阅读第六自然段，思考：第二个少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是怎样保存种子的？（用自己的话说一说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细读感悟"/>
          <p:cNvPicPr/>
          <p:nvPr/>
        </p:nvPicPr>
        <p:blipFill>
          <a:blip r:embed="rId1"/>
          <a:stretch/>
        </p:blipFill>
        <p:spPr>
          <a:xfrm>
            <a:off x="611280" y="1052640"/>
            <a:ext cx="1944720" cy="5205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900000" y="2565360"/>
            <a:ext cx="640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两个少年保存种子的方法有什么不同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结果怎样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755640" y="1844640"/>
            <a:ext cx="49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学习课文第四、五、六自然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1T07:42:1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24:52Z</dcterms:modified>
  <cp:revision>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