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click.wav" ContentType="audio/x-wav"/>
  <Override PartName="/ppt/media/image7.png" ContentType="image/png"/>
  <Override PartName="/ppt/media/image1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voltage.wav" ContentType="audio/x-wav"/>
  <Override PartName="/ppt/media/image18.png" ContentType="image/png"/>
  <Override PartName="/ppt/media/type.wav" ContentType="audio/x-wav"/>
  <Override PartName="/ppt/media/image17.png" ContentType="image/png"/>
  <Override PartName="/ppt/media/image8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13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6782-712D-4410-8F8F-E2339A4697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7442-164C-4748-977F-859F02D697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AEEB-1CF7-47DE-881B-AF0BEB0CCC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3F1-426D-469D-BF0B-68F4C688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5DC-EF10-4CA9-B910-2523631C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B4C-4C8E-4B96-9942-30CECE8F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DE2-A05E-40FE-8455-B0175B91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CFF-8637-44EB-B0A8-78142629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E6D-07E0-41C9-8B64-202B3AF9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881-3EDB-4B8E-B22D-76C461DA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8C6-7388-4A5E-B521-2C999F61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3AE-5B98-4816-9ECA-12973A4F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A51-73E7-4241-841F-5D851387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118-E33C-467C-A383-D207A349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358-FAC6-4C8F-863A-ABFF1B60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715D-3A99-432F-8A6E-4F0BC9272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" Target="slide1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lick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486080" y="609480"/>
            <a:ext cx="3352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476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老人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581280" y="3809880"/>
            <a:ext cx="4314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他的儿子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0" name="矩形 1" descr=""/>
          <p:cNvPicPr/>
          <p:nvPr/>
        </p:nvPicPr>
        <p:blipFill>
          <a:blip r:embed="rId4"/>
          <a:stretch/>
        </p:blipFill>
        <p:spPr>
          <a:xfrm>
            <a:off x="2246400" y="2057400"/>
            <a:ext cx="1754280" cy="2216160"/>
          </a:xfrm>
          <a:prstGeom prst="rect">
            <a:avLst/>
          </a:prstGeom>
          <a:ln w="0">
            <a:noFill/>
          </a:ln>
        </p:spPr>
      </p:pic>
      <p:sp>
        <p:nvSpPr>
          <p:cNvPr id="51" name="矩形 5"/>
          <p:cNvSpPr/>
          <p:nvPr/>
        </p:nvSpPr>
        <p:spPr>
          <a:xfrm>
            <a:off x="1839600" y="5791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3504960"/>
            <a:ext cx="69343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按事情发展的顺序理清文章层次，可分三部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8"/>
          <p:cNvSpPr txBox="1"/>
          <p:nvPr/>
        </p:nvSpPr>
        <p:spPr>
          <a:xfrm>
            <a:off x="2666880" y="5334120"/>
            <a:ext cx="4419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latin typeface="华文新魏"/>
              </a:rPr>
              <a:t>哪三部分呢？？？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cc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142640" y="190512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第一部分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至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自然段：交代故事的起因，老人担心儿子坐享其成，不会持家而制造家财被盗的假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6095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二部分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然段 ：详细介绍儿子靠辛勤劳动赚钱养家，节俭简朴，生活一天比一天富足的过程，老人从内心感到高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1981080" y="2743200"/>
            <a:ext cx="54961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部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：老人终于放下心来，道出了事情的真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1475579_357746"/>
          <p:cNvPicPr/>
          <p:nvPr/>
        </p:nvPicPr>
        <p:blipFill>
          <a:blip r:embed="rId2"/>
          <a:stretch/>
        </p:blipFill>
        <p:spPr>
          <a:xfrm>
            <a:off x="4572000" y="2133720"/>
            <a:ext cx="3809880" cy="3857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3228840" cy="3924360"/>
          </a:xfrm>
          <a:prstGeom prst="rect">
            <a:avLst/>
          </a:prstGeom>
          <a:ln w="0">
            <a:noFill/>
          </a:ln>
        </p:spPr>
      </p:pic>
      <p:sp>
        <p:nvSpPr>
          <p:cNvPr id="115" name="动作按钮: 后退或前一项 4">
            <a:hlinkClick r:id="rId4" action="ppaction://hlinksldjump"/>
          </p:cNvPr>
          <p:cNvSpPr/>
          <p:nvPr/>
        </p:nvSpPr>
        <p:spPr>
          <a:xfrm>
            <a:off x="6858000" y="61722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线形标注 3 5"/>
          <p:cNvSpPr/>
          <p:nvPr/>
        </p:nvSpPr>
        <p:spPr>
          <a:xfrm>
            <a:off x="457200" y="76320"/>
            <a:ext cx="304812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50"/>
                </a:moveTo>
                <a:lnTo>
                  <a:pt x="-3600" y="4050"/>
                </a:lnTo>
                <a:lnTo>
                  <a:pt x="3749" y="33413"/>
                </a:lnTo>
                <a:lnTo>
                  <a:pt x="-1800" y="24738"/>
                </a:lnTo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矩形 4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1015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152280" y="12193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前有一个老人，一辈子辛勤劳苦，积攒了不少家产。他并不吝啬，经常周济穷人。尽管他乐善好施，到头来还是留下了一笔可观的财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老人之所以会拥有大量的财产，与他的勤劳、节俭分不开的。与众多富裕的人相比，老人的善良品质熠熠生辉。从这句简短的描述中，我们对老人有了一个整体的认识。“尽管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·······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还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·······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这个这个句子，既可以看出老人的财产很多，也可以看出老人勤俭节约的优良作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1494720" y="5867280"/>
            <a:ext cx="57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这是一个                                                           的老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8"/>
          <p:cNvSpPr/>
          <p:nvPr/>
        </p:nvSpPr>
        <p:spPr>
          <a:xfrm>
            <a:off x="2133720" y="6324480"/>
            <a:ext cx="4572000" cy="1800"/>
          </a:xfrm>
          <a:prstGeom prst="line">
            <a:avLst/>
          </a:prstGeom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4011120" y="58626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辛勤劳苦、不吝啬、经常周济穷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0" y="22096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99"/>
                </a:solidFill>
                <a:latin typeface="Arial"/>
              </a:rPr>
              <a:t>思考探讨：</a:t>
            </a:r>
            <a:r>
              <a:rPr b="0" lang="zh-CN" sz="4000" spc="-1" strike="noStrike">
                <a:solidFill>
                  <a:srgbClr val="660066"/>
                </a:solidFill>
                <a:latin typeface="Arial"/>
              </a:rPr>
              <a:t>为什么老人要制造家财被盗的假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64721221696869140"/>
          <p:cNvPicPr/>
          <p:nvPr/>
        </p:nvPicPr>
        <p:blipFill>
          <a:blip r:embed="rId2"/>
          <a:stretch/>
        </p:blipFill>
        <p:spPr>
          <a:xfrm>
            <a:off x="1752480" y="220968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儿子是如何看待家财丢失的？又是怎样用具体行动去去创造幸福生活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6705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33520" y="1066680"/>
          <a:ext cx="8229600" cy="5130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21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儿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儿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儿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儿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儿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儿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    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父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行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表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矩形 4"/>
          <p:cNvSpPr/>
          <p:nvPr/>
        </p:nvSpPr>
        <p:spPr>
          <a:xfrm>
            <a:off x="915120" y="3244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在工地上运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3356280" y="2971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咬紧牙关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坚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5428440" y="327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买了一个小面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/>
          <p:cNvSpPr/>
          <p:nvPr/>
        </p:nvSpPr>
        <p:spPr>
          <a:xfrm>
            <a:off x="7214400" y="327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留下热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/>
          <p:cNvSpPr/>
          <p:nvPr/>
        </p:nvSpPr>
        <p:spPr>
          <a:xfrm>
            <a:off x="915120" y="4110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有什么干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3191040" y="380988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能吃苦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肯干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0"/>
          <p:cNvSpPr/>
          <p:nvPr/>
        </p:nvSpPr>
        <p:spPr>
          <a:xfrm>
            <a:off x="4953600" y="4033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买了马和马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1"/>
          <p:cNvSpPr/>
          <p:nvPr/>
        </p:nvSpPr>
        <p:spPr>
          <a:xfrm>
            <a:off x="72050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热泪盈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788400" y="4871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新的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3312360" y="4871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愉快、顺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4919040" y="4871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仍然攒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5"/>
          <p:cNvSpPr/>
          <p:nvPr/>
        </p:nvSpPr>
        <p:spPr>
          <a:xfrm>
            <a:off x="7156080" y="4871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不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6"/>
          <p:cNvSpPr/>
          <p:nvPr/>
        </p:nvSpPr>
        <p:spPr>
          <a:xfrm>
            <a:off x="864360" y="5710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开小铺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7"/>
          <p:cNvSpPr/>
          <p:nvPr/>
        </p:nvSpPr>
        <p:spPr>
          <a:xfrm>
            <a:off x="2947320" y="5710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心满意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8"/>
          <p:cNvSpPr/>
          <p:nvPr/>
        </p:nvSpPr>
        <p:spPr>
          <a:xfrm>
            <a:off x="5058360" y="54100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平安体面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过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9"/>
          <p:cNvSpPr/>
          <p:nvPr/>
        </p:nvSpPr>
        <p:spPr>
          <a:xfrm>
            <a:off x="7232040" y="5710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买搞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0"/>
          <p:cNvSpPr/>
          <p:nvPr/>
        </p:nvSpPr>
        <p:spPr>
          <a:xfrm>
            <a:off x="685800" y="228600"/>
            <a:ext cx="4038480" cy="64260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根据课文内容填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儿子吃苦耐劳、勤俭节约，用辛勤的劳动使生活一天天变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315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deff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457200" y="138420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儿子很可惜财宝，但是他更疼爱痛不欲生的父亲：“爸爸，咱们去干活，还会把钱挣回来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在财宝与父亲面前，儿子选择的是通过自己的双手来 赚钱，更重要的是父子间的感情，这也是父亲所希望看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6" descr="图片1"/>
          <p:cNvPicPr/>
          <p:nvPr/>
        </p:nvPicPr>
        <p:blipFill>
          <a:blip r:embed="rId1"/>
          <a:stretch/>
        </p:blipFill>
        <p:spPr>
          <a:xfrm>
            <a:off x="395280" y="228600"/>
            <a:ext cx="2643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认读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个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正确流利地朗读课文，练习按故事发展的顺序复述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感悟勤劳俭朴、积极向上的人生态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deff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380880" y="762120"/>
            <a:ext cx="83822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亲高兴得热泪盈眶，他完全赞同儿子的计划。于是儿子买了马和马车，愉快的开始了新的工作。事情进行得很顺利，父子生活有了改善，但儿子仍然一分一分的攒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里写了老人见儿子用钱有目标，有计划，又能勤俭持家，老人觉得儿子能操持好这个家，因此老人热泪盈眶 。尽管生活有了改善，但儿子还是不满足现状，继续工作着，一如既往的攒钱，希望能像从前那样富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6" descr="图片1"/>
          <p:cNvPicPr/>
          <p:nvPr/>
        </p:nvPicPr>
        <p:blipFill>
          <a:blip r:embed="rId1"/>
          <a:stretch/>
        </p:blipFill>
        <p:spPr>
          <a:xfrm>
            <a:off x="395280" y="76320"/>
            <a:ext cx="26431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3504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  <a:ea typeface="华文隶书"/>
              </a:rPr>
              <a:t>老人为什么道出事情真相？儿子理解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deff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609480" y="1447920"/>
            <a:ext cx="8153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儿子走到父亲面前，吻了吻他的手，激动地说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爸爸，谢谢您给我的教诲。这比您留给我的钱更重要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这两句话是儿子对爸爸说的，爸爸通过试探的办法 ，终于使儿子明白了挣钱的艰辛、挣钱的不易，这样儿子就会非常珍惜爸爸辛辛苦苦挣来的钱财。这比只留下钱财给儿子要重要得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儿子感动于父亲的良苦用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图片1"/>
          <p:cNvPicPr/>
          <p:nvPr/>
        </p:nvPicPr>
        <p:blipFill>
          <a:blip r:embed="rId1"/>
          <a:stretch/>
        </p:blipFill>
        <p:spPr>
          <a:xfrm>
            <a:off x="0" y="457200"/>
            <a:ext cx="3038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deff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609480" y="1905120"/>
            <a:ext cx="8153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亲两次流泪，这是什么样的泪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这是感动、高兴、激动的泪水，此时父亲心里会想到儿子既懂事又孝顺，自己的苦心没有白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儿子是个怎样的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1339200" y="685800"/>
            <a:ext cx="1643760" cy="82512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回顾感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勤劳、孝顺、忠厚老实、聪明、坚强、遇到困难不气馁、吃苦耐劳、勤俭节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"/>
          <p:cNvSpPr/>
          <p:nvPr/>
        </p:nvSpPr>
        <p:spPr>
          <a:xfrm>
            <a:off x="457200" y="5905440"/>
            <a:ext cx="54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deff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609480" y="1905120"/>
            <a:ext cx="8153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联系课文内容说说父亲给儿子的教诲是什么？它比金钱更重要吗？谈谈你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挣钱很难，要学会勤俭节约；要学会自力更生；要有吃苦耐劳的品质、积极向上的处世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1567800" y="838080"/>
            <a:ext cx="1643760" cy="82512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回顾感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老人和他的儿子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680" y="3047760"/>
            <a:ext cx="6934320" cy="2819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活儿很累  咬牙坚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吃苦耐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节衣缩食  从少攒起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节约俭朴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疼惜安慰  分吃面包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---*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孝敬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平平安安  体面生活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积极向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0" y="1066680"/>
            <a:ext cx="9144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通过语言、动作描写，塑造人物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：父亲为了激励儿子，故意制造“财宝全给偷走了”的假象，断了儿子想靠父亲的想法，写出了父亲的决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主次分明，层次清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主要写了儿子运转挣钱，吃苦耐劳，勤俭节约，通过具体事例一一体现，而略写了老人为人处事，家财被盗的假象。这样编排，详略分明，脉络清晰，使读者在感知故事的同时，又深受启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矩形 4" descr=""/>
          <p:cNvPicPr/>
          <p:nvPr/>
        </p:nvPicPr>
        <p:blipFill>
          <a:blip r:embed="rId1"/>
          <a:stretch/>
        </p:blipFill>
        <p:spPr>
          <a:xfrm>
            <a:off x="685800" y="0"/>
            <a:ext cx="3733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巩固拓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666880" y="2971440"/>
            <a:ext cx="56390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述课文：理解老人的良苦用心，懂得我们要有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勤劳俭朴、积极向上的人生态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5948-B35E-4835-865C-2DA666585B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deff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云形标注 16"/>
          <p:cNvSpPr/>
          <p:nvPr/>
        </p:nvSpPr>
        <p:spPr>
          <a:xfrm>
            <a:off x="0" y="765000"/>
            <a:ext cx="3419640" cy="935280"/>
          </a:xfrm>
          <a:prstGeom prst="cloudCallout">
            <a:avLst>
              <a:gd name="adj1" fmla="val 121986"/>
              <a:gd name="adj2" fmla="val 33351"/>
            </a:avLst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95280" y="836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9480" y="300996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574560" y="3789360"/>
            <a:ext cx="18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积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攒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1752480" y="2957400"/>
            <a:ext cx="73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1763640" y="3843360"/>
            <a:ext cx="18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33520" y="2565360"/>
            <a:ext cx="10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835280" y="2492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3"/>
          <p:cNvSpPr/>
          <p:nvPr/>
        </p:nvSpPr>
        <p:spPr>
          <a:xfrm>
            <a:off x="2963520" y="2979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4"/>
          <p:cNvSpPr/>
          <p:nvPr/>
        </p:nvSpPr>
        <p:spPr>
          <a:xfrm>
            <a:off x="2806560" y="3789360"/>
            <a:ext cx="18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门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锁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771640" y="246204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95640" y="2546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5181480" y="2514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6372360" y="2484360"/>
            <a:ext cx="10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7315200" y="248436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hu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5"/>
          <p:cNvSpPr/>
          <p:nvPr/>
        </p:nvSpPr>
        <p:spPr>
          <a:xfrm>
            <a:off x="4124160" y="2957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4030560" y="3770280"/>
            <a:ext cx="18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雇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雇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37"/>
          <p:cNvSpPr/>
          <p:nvPr/>
        </p:nvSpPr>
        <p:spPr>
          <a:xfrm>
            <a:off x="5265360" y="2886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38"/>
          <p:cNvSpPr/>
          <p:nvPr/>
        </p:nvSpPr>
        <p:spPr>
          <a:xfrm>
            <a:off x="6500520" y="2852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9"/>
          <p:cNvSpPr/>
          <p:nvPr/>
        </p:nvSpPr>
        <p:spPr>
          <a:xfrm>
            <a:off x="7580160" y="2886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0"/>
          <p:cNvSpPr/>
          <p:nvPr/>
        </p:nvSpPr>
        <p:spPr>
          <a:xfrm>
            <a:off x="5111640" y="3770280"/>
            <a:ext cx="18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积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储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1"/>
          <p:cNvSpPr/>
          <p:nvPr/>
        </p:nvSpPr>
        <p:spPr>
          <a:xfrm>
            <a:off x="6264360" y="3716280"/>
            <a:ext cx="18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刨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刨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2"/>
          <p:cNvSpPr/>
          <p:nvPr/>
        </p:nvSpPr>
        <p:spPr>
          <a:xfrm>
            <a:off x="7415280" y="3716280"/>
            <a:ext cx="18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砖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deff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2579760"/>
            <a:ext cx="8083440" cy="2653560"/>
          </a:xfrm>
          <a:prstGeom prst="rect">
            <a:avLst/>
          </a:prstGeom>
          <a:noFill/>
          <a:ln w="9360">
            <a:solidFill>
              <a:srgbClr val="cc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辛勤     劳苦    积攒     吝啬     周济     乐善好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操持     试探    惊慌     门锁     撬坏     不翼而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财宝     疼爱    安慰     痛不欲生          咬紧牙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雇用       忠厚老实       供养     省劲     热泪盈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赞同     顺利     改善     置起     体面     心满意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积蓄     镐头    刨开     砖头     窟窿     偷盗     教诲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4716360" y="620640"/>
            <a:ext cx="3564000" cy="863640"/>
          </a:xfrm>
          <a:prstGeom prst="cloudCallout">
            <a:avLst>
              <a:gd name="adj1" fmla="val -103870"/>
              <a:gd name="adj2" fmla="val 10993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003640" y="692280"/>
            <a:ext cx="33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读一读  记一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D:\动态背景图片[1]\动态小图片\图片3.png"/>
          <p:cNvPicPr/>
          <p:nvPr/>
        </p:nvPicPr>
        <p:blipFill>
          <a:blip r:embed="rId1"/>
          <a:stretch/>
        </p:blipFill>
        <p:spPr>
          <a:xfrm>
            <a:off x="755640" y="549360"/>
            <a:ext cx="1512720" cy="14382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u=966727644,812328477&amp;fm=4&amp;gp=0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云形标注 2"/>
          <p:cNvSpPr/>
          <p:nvPr/>
        </p:nvSpPr>
        <p:spPr>
          <a:xfrm>
            <a:off x="3048120" y="0"/>
            <a:ext cx="3504960" cy="1066680"/>
          </a:xfrm>
          <a:prstGeom prst="cloudCallout">
            <a:avLst>
              <a:gd name="adj1" fmla="val -62138"/>
              <a:gd name="adj2" fmla="val 98212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多音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15238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ě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省市 ）  （  省会）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ǐng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省 ）  （   反省）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0" y="5711760"/>
            <a:ext cx="7620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è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挣钱）               （ 挣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0" y="4548240"/>
            <a:ext cx="56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ē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挣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燕尾形 7"/>
          <p:cNvSpPr/>
          <p:nvPr/>
        </p:nvSpPr>
        <p:spPr>
          <a:xfrm flipH="1">
            <a:off x="1143000" y="1905120"/>
            <a:ext cx="457200" cy="1295280"/>
          </a:xfrm>
          <a:custGeom>
            <a:avLst/>
            <a:gdLst>
              <a:gd name="textAreaLeft" fmla="*/ 360 w 457200"/>
              <a:gd name="textAreaRight" fmla="*/ 457920 w 457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8"/>
          <p:cNvSpPr/>
          <p:nvPr/>
        </p:nvSpPr>
        <p:spPr>
          <a:xfrm flipH="1">
            <a:off x="1219320" y="4724280"/>
            <a:ext cx="457200" cy="13716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380880" y="5181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deff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椭圆形标注 2"/>
          <p:cNvSpPr/>
          <p:nvPr/>
        </p:nvSpPr>
        <p:spPr>
          <a:xfrm>
            <a:off x="2971800" y="228600"/>
            <a:ext cx="3352680" cy="1146240"/>
          </a:xfrm>
          <a:prstGeom prst="wedgeEllipseCallout">
            <a:avLst>
              <a:gd name="adj1" fmla="val -33333"/>
              <a:gd name="adj2" fmla="val 97407"/>
            </a:avLst>
          </a:pr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69608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近、反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457200" y="205740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近义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吝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气        教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乐善好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助人为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积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积累     周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济担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担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节衣缩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省吃俭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419720" y="1828800"/>
            <a:ext cx="441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反义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吝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慷慨             富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贫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惊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镇定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乐善好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毛不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节衣缩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铺张浪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翼而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失而复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deff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流程图: 顺序访问存储器 2"/>
          <p:cNvSpPr/>
          <p:nvPr/>
        </p:nvSpPr>
        <p:spPr>
          <a:xfrm>
            <a:off x="0" y="0"/>
            <a:ext cx="3886200" cy="990720"/>
          </a:xfrm>
          <a:prstGeom prst="flowChartMagneticTape">
            <a:avLst/>
          </a:pr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457200" y="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词语理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457200" y="914400"/>
            <a:ext cx="91440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面：光荣，光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训，教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吝啬：过分爱惜自己的财务，当用不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济：对 穷困的人给予物质上的帮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乐善好施：爱做好事，喜欢施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节衣缩食：省吃省穿，泛指节俭。节、缩，节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翼而飞：没有翅膀却能飞，比喻东西突然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痛不欲生：悲痛得不想活下去，形容悲痛到极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泪盈眶：泪水流满眼眶，形容非常感动或激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6" descr="图片1"/>
          <p:cNvPicPr/>
          <p:nvPr/>
        </p:nvPicPr>
        <p:blipFill>
          <a:blip r:embed="rId1"/>
          <a:stretch/>
        </p:blipFill>
        <p:spPr>
          <a:xfrm>
            <a:off x="395280" y="0"/>
            <a:ext cx="2643120" cy="990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457200" y="914400"/>
            <a:ext cx="8381880" cy="3542040"/>
          </a:xfrm>
          <a:prstGeom prst="rect">
            <a:avLst/>
          </a:prstGeom>
          <a:noFill/>
          <a:ln w="9360">
            <a:solidFill>
              <a:srgbClr val="e09a0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由读课文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讲了一件什么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按什么顺序写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可以分为几部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文中的老人给你留下了什么印象？是从哪些地方看出来的？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聪明的老人为了试探儿子能不能操持好这个家，想了一个什么办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儿子能通过父亲的考验吗？他是怎么做的？父亲的表现又是怎样的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儿子是个怎样的人？从课文中哪些地方可以看出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Q_013"/>
          <p:cNvPicPr/>
          <p:nvPr/>
        </p:nvPicPr>
        <p:blipFill>
          <a:blip r:embed="rId2"/>
          <a:stretch/>
        </p:blipFill>
        <p:spPr>
          <a:xfrm>
            <a:off x="7086600" y="304920"/>
            <a:ext cx="1676520" cy="1066680"/>
          </a:xfrm>
          <a:prstGeom prst="rect">
            <a:avLst/>
          </a:prstGeom>
          <a:ln w="0">
            <a:noFill/>
          </a:ln>
        </p:spPr>
      </p:pic>
      <p:sp>
        <p:nvSpPr>
          <p:cNvPr id="100" name="动作按钮: 前进或下一项 4">
            <a:hlinkClick r:id="" action="ppaction://hlinkshowjump?jump=nextslide"/>
          </p:cNvPr>
          <p:cNvSpPr/>
          <p:nvPr/>
        </p:nvSpPr>
        <p:spPr>
          <a:xfrm>
            <a:off x="7391520" y="21337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动作按钮: 前进或下一项 6">
            <a:hlinkClick r:id="rId3" action="ppaction://hlinksldjump"/>
          </p:cNvPr>
          <p:cNvSpPr/>
          <p:nvPr/>
        </p:nvSpPr>
        <p:spPr>
          <a:xfrm>
            <a:off x="7467480" y="32004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>
            <a:off x="380880" y="380880"/>
            <a:ext cx="685800" cy="1143000"/>
          </a:xfrm>
          <a:custGeom>
            <a:avLst/>
            <a:gdLst/>
            <a:ahLst/>
            <a:rect l="l" t="t" r="r" b="b"/>
            <a:pathLst>
              <a:path w="685800" h="1143000">
                <a:moveTo>
                  <a:pt x="0" y="436586"/>
                </a:moveTo>
                <a:lnTo>
                  <a:pt x="261953" y="436589"/>
                </a:lnTo>
                <a:lnTo>
                  <a:pt x="342900" y="0"/>
                </a:lnTo>
                <a:lnTo>
                  <a:pt x="423846" y="436589"/>
                </a:lnTo>
                <a:lnTo>
                  <a:pt x="685799" y="436586"/>
                </a:lnTo>
                <a:lnTo>
                  <a:pt x="473873" y="706409"/>
                </a:lnTo>
                <a:lnTo>
                  <a:pt x="554823" y="1142997"/>
                </a:lnTo>
                <a:lnTo>
                  <a:pt x="342900" y="873168"/>
                </a:lnTo>
                <a:lnTo>
                  <a:pt x="130976" y="1142997"/>
                </a:lnTo>
                <a:lnTo>
                  <a:pt x="211926" y="70640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1619280" y="620640"/>
            <a:ext cx="254484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71" y="4050"/>
                </a:moveTo>
                <a:lnTo>
                  <a:pt x="-3150" y="4050"/>
                </a:lnTo>
                <a:lnTo>
                  <a:pt x="-3150" y="22331"/>
                </a:lnTo>
                <a:lnTo>
                  <a:pt x="6899" y="42916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文章中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755640" y="2362320"/>
            <a:ext cx="7561440" cy="1556280"/>
          </a:xfrm>
          <a:prstGeom prst="rect">
            <a:avLst/>
          </a:prstGeom>
          <a:noFill/>
          <a:ln w="936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记叙了父亲为了让儿子在生活上得到很好的教育，声称自家的财宝丢失，使儿子打工挣钱，感动了父亲的故事。告诉我们要有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勤劳俭朴、积极向上的人生态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Cj04273570000[1]"/>
          <p:cNvPicPr/>
          <p:nvPr/>
        </p:nvPicPr>
        <p:blipFill>
          <a:blip r:embed="rId1"/>
          <a:stretch/>
        </p:blipFill>
        <p:spPr>
          <a:xfrm>
            <a:off x="6659640" y="5373720"/>
            <a:ext cx="2185920" cy="1484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lick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5:20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4:55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