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8.png" ContentType="image/png"/>
  <Override PartName="/ppt/media/image15.jpeg" ContentType="image/jpeg"/>
  <Override PartName="/ppt/media/type.wav" ContentType="audio/x-wav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2CB3-E8E0-43E5-A698-C454296F451A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F94E-C8EF-442B-B4D7-83F9F945F80A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082B-9B29-4F07-8C86-8EA99872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5F61-D14D-42BE-9B2F-DB81EA29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497B-98FD-419C-9A94-A3AE91DE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F2A4-A67A-4F4E-886B-D4F80F721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060C-CB42-4D15-B291-03513EC5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CB3B-45B8-4728-9369-6EE620F7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B3E1-BC96-4EA0-9997-0A82ACA0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BD54-AF23-4F3A-A5CB-CB7AA477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9E39-489E-4B22-83FA-00984543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3C14-6E9B-4741-A0C5-41CB77E5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080D-87B7-42BE-9880-0EA986C3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1549-9F76-4D75-AE16-C98105FD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3D99-C920-4EB0-920F-DBBA3662D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矩形 2" descr=""/>
          <p:cNvPicPr/>
          <p:nvPr/>
        </p:nvPicPr>
        <p:blipFill>
          <a:blip r:embed="rId2"/>
          <a:stretch/>
        </p:blipFill>
        <p:spPr>
          <a:xfrm>
            <a:off x="1187280" y="907920"/>
            <a:ext cx="6597720" cy="1570320"/>
          </a:xfrm>
          <a:prstGeom prst="rect">
            <a:avLst/>
          </a:prstGeom>
          <a:ln w="0">
            <a:noFill/>
          </a:ln>
        </p:spPr>
      </p:pic>
      <p:pic>
        <p:nvPicPr>
          <p:cNvPr id="50" name="矩形 3" descr=""/>
          <p:cNvPicPr/>
          <p:nvPr/>
        </p:nvPicPr>
        <p:blipFill>
          <a:blip r:embed="rId3"/>
          <a:stretch/>
        </p:blipFill>
        <p:spPr>
          <a:xfrm>
            <a:off x="1765440" y="5877000"/>
            <a:ext cx="567216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324000" y="62064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看哪些自然段说的是一个意思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85840" y="2414520"/>
            <a:ext cx="8501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写拉萨的天空湛蓝、透亮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体写拉萨的天空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总写拉萨的天空是神圣之地窗帘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324000" y="62064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看哪些自然段说的是一个意思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285840" y="2414520"/>
            <a:ext cx="8501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写拉萨的天空湛蓝、透亮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2-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体写拉萨的天空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总写拉萨的天空是神圣地窗帘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矩形 2"/>
          <p:cNvSpPr/>
          <p:nvPr/>
        </p:nvSpPr>
        <p:spPr>
          <a:xfrm>
            <a:off x="468360" y="1989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拉萨是有名的日光城。那里的天空总是那么湛蓝、透亮，好像用清水洗过的蓝宝石一样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"/>
          <p:cNvSpPr/>
          <p:nvPr/>
        </p:nvSpPr>
        <p:spPr>
          <a:xfrm>
            <a:off x="395280" y="549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轻声读第一自然段。边读边想，你从这个自然段中知道了什么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395280" y="39574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拉萨是有名的日光城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那里的天空总是那么湛蓝、透亮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矩形 2"/>
          <p:cNvSpPr/>
          <p:nvPr/>
        </p:nvSpPr>
        <p:spPr>
          <a:xfrm>
            <a:off x="468360" y="1989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拉萨是有名的日光城。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里的天空总是那么湛蓝、透亮，好像用清水洗过的蓝宝石一样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"/>
          <p:cNvSpPr/>
          <p:nvPr/>
        </p:nvSpPr>
        <p:spPr>
          <a:xfrm>
            <a:off x="395280" y="549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里”指哪里？“总是”是什么意思？第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句是一个什么句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4"/>
          <p:cNvSpPr/>
          <p:nvPr/>
        </p:nvSpPr>
        <p:spPr>
          <a:xfrm>
            <a:off x="395280" y="395748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那里”指的是拉萨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总是”是一直是，都是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第</a:t>
            </a:r>
            <a:r>
              <a:rPr b="1" lang="en-US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句是个比喻句，是把湛蓝、透亮的天空比作“用清水洗过的蓝宝石”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79280" y="1855800"/>
            <a:ext cx="8640720" cy="25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那里的天空总是那么湛蓝、透亮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像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       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像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矩形 2"/>
          <p:cNvSpPr/>
          <p:nvPr/>
        </p:nvSpPr>
        <p:spPr>
          <a:xfrm>
            <a:off x="250920" y="18842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拉萨，人们说话的声音能碰到蓝天，伸出手来能摸到蓝天。有人说“掬一捧蓝天可以洗脸”，这话真是太妙了。有贴着山顶的白云映衬，湛蓝的天空显得越发纯净；有拉萨河畔草地的对照，湛蓝的天空显得更加明洁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"/>
          <p:cNvSpPr/>
          <p:nvPr/>
        </p:nvSpPr>
        <p:spPr>
          <a:xfrm>
            <a:off x="395280" y="260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轻声读第二自然段。边读边想，你从这个自然段中知道了什么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矩形 2"/>
          <p:cNvSpPr/>
          <p:nvPr/>
        </p:nvSpPr>
        <p:spPr>
          <a:xfrm>
            <a:off x="250920" y="2602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拉萨，人们说话的声音能碰到蓝天，伸出手来能摸到蓝天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知道了什么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5"/>
          <p:cNvSpPr/>
          <p:nvPr/>
        </p:nvSpPr>
        <p:spPr>
          <a:xfrm>
            <a:off x="250920" y="19162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从“在拉萨，人们说话的声音能碰到蓝天，伸出手来能摸到蓝天。”知道拉萨的天空离人很近，人仿佛就在天空中。说明拉萨的天空蓝得透亮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3"/>
          <p:cNvSpPr/>
          <p:nvPr/>
        </p:nvSpPr>
        <p:spPr>
          <a:xfrm>
            <a:off x="324000" y="404352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由天空离人很近，让我想起了古诗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危楼高百尺，手可摘星辰。不敢高声语，恐惊天上人。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只有天在上，更无山与齐。举头红日近，回首白云低。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7"/>
          <p:cNvSpPr/>
          <p:nvPr/>
        </p:nvSpPr>
        <p:spPr>
          <a:xfrm>
            <a:off x="7234560" y="35733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夸张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2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矩形 2"/>
          <p:cNvSpPr/>
          <p:nvPr/>
        </p:nvSpPr>
        <p:spPr>
          <a:xfrm>
            <a:off x="250920" y="836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怎么理解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有人说‘掬一捧蓝天可以洗脸’，这话真是太妙了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4"/>
          <p:cNvSpPr/>
          <p:nvPr/>
        </p:nvSpPr>
        <p:spPr>
          <a:xfrm>
            <a:off x="250920" y="2276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这句话一方面承接上一句“伸手就能摸到蓝天”，说明天与人的距离很近；另一方面又是一个比喻，说蓝天就像一池碧水，可以用来洗脸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3047760" y="479736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比喻中又有夸张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6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矩形 2"/>
          <p:cNvSpPr/>
          <p:nvPr/>
        </p:nvSpPr>
        <p:spPr>
          <a:xfrm>
            <a:off x="250920" y="1884240"/>
            <a:ext cx="85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拉萨，人们说话的声音能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碰到蓝天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伸出手来能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摸到蓝天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有人说“掬一捧蓝天可以洗脸”，这话真是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太妙了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有贴着山顶的白云映衬，湛蓝的天空显得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越发纯净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有拉萨河畔草地的对照，湛蓝的天空显得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更加明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"/>
          <p:cNvSpPr/>
          <p:nvPr/>
        </p:nvSpPr>
        <p:spPr>
          <a:xfrm>
            <a:off x="395280" y="7668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好这段话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矩形 3"/>
          <p:cNvSpPr/>
          <p:nvPr/>
        </p:nvSpPr>
        <p:spPr>
          <a:xfrm>
            <a:off x="395280" y="321300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贴着山顶的白云映衬，湛蓝的天空显得越发纯净；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414360" y="1390680"/>
            <a:ext cx="82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到课题，你想说什么？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png-0003"/>
          <p:cNvPicPr/>
          <p:nvPr/>
        </p:nvPicPr>
        <p:blipFill>
          <a:blip r:embed="rId2"/>
          <a:stretch/>
        </p:blipFill>
        <p:spPr>
          <a:xfrm>
            <a:off x="8031240" y="301464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矩形 3"/>
          <p:cNvSpPr/>
          <p:nvPr/>
        </p:nvSpPr>
        <p:spPr>
          <a:xfrm>
            <a:off x="179280" y="249228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有拉萨河畔草地的对照，湛蓝的天空显得更加明洁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矩形 2"/>
          <p:cNvSpPr/>
          <p:nvPr/>
        </p:nvSpPr>
        <p:spPr>
          <a:xfrm>
            <a:off x="468360" y="135252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拉萨，人们说话的声音（    ），伸出手来（              ）。有人说“（                  ）”，这话真是太妙了。有贴着山顶的（         ），湛蓝的天空显得（          ）；有拉萨河畔（         ），湛蓝的天空显得（            ）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3"/>
          <p:cNvSpPr/>
          <p:nvPr/>
        </p:nvSpPr>
        <p:spPr>
          <a:xfrm>
            <a:off x="395280" y="7668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背诵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矩形 2"/>
          <p:cNvSpPr/>
          <p:nvPr/>
        </p:nvSpPr>
        <p:spPr>
          <a:xfrm>
            <a:off x="179280" y="209556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拉萨的天空蓝得让人神往，它把你的视线紧紧吸引，让你久久不忍移开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3"/>
          <p:cNvSpPr/>
          <p:nvPr/>
        </p:nvSpPr>
        <p:spPr>
          <a:xfrm>
            <a:off x="395280" y="7668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默读第三节，说说你是怎么理解“拉萨的天空蓝得让人神往”的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4"/>
          <p:cNvSpPr/>
          <p:nvPr/>
        </p:nvSpPr>
        <p:spPr>
          <a:xfrm>
            <a:off x="684360" y="356868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神往”是心里向往的意思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到过这里的人，视线会被紧紧吸引，久久不忍移开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回去以后，心里还在想着，向往着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矩形 2"/>
          <p:cNvSpPr/>
          <p:nvPr/>
        </p:nvSpPr>
        <p:spPr>
          <a:xfrm>
            <a:off x="179280" y="209556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拉萨的天空蓝得让人神往，它把你的视线紧紧吸引，让你久久不忍移开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3"/>
          <p:cNvSpPr/>
          <p:nvPr/>
        </p:nvSpPr>
        <p:spPr>
          <a:xfrm>
            <a:off x="395280" y="7668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好第三节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684360" y="35686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语速慢些，深情些，像在回味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20050512081407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7"/>
          <p:cNvSpPr/>
          <p:nvPr/>
        </p:nvSpPr>
        <p:spPr>
          <a:xfrm>
            <a:off x="3327480" y="1346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矩形 3"/>
          <p:cNvSpPr/>
          <p:nvPr/>
        </p:nvSpPr>
        <p:spPr>
          <a:xfrm>
            <a:off x="395280" y="156384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年四季中，不管是隆冬还是盛夏，布达拉宫的上空总是蓝晶晶的。有了这蓝天，依山而建的布达拉宫显得更加雄伟、壮丽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3"/>
          <p:cNvSpPr/>
          <p:nvPr/>
        </p:nvSpPr>
        <p:spPr>
          <a:xfrm>
            <a:off x="395280" y="7668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轻声读第四节，你读懂了什么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4"/>
          <p:cNvSpPr/>
          <p:nvPr/>
        </p:nvSpPr>
        <p:spPr>
          <a:xfrm>
            <a:off x="395280" y="407844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布达拉宫的上空一年四季都是蓝晶晶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有了蓝天的映衬，布达拉宫就更加雄伟、壮丽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矩形 3"/>
          <p:cNvSpPr/>
          <p:nvPr/>
        </p:nvSpPr>
        <p:spPr>
          <a:xfrm>
            <a:off x="395280" y="156384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了这蓝天，雪山显得更加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了这蓝天，湖泊显得更加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719280" y="1413000"/>
            <a:ext cx="8424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4874040" y="119052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了这蓝天，依山而建的布达拉宫显得更加雄伟、壮丽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7" descr="天空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395280" y="1484280"/>
            <a:ext cx="84297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拉萨的天空美吗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拉萨的天空美在哪里呢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png-0003"/>
          <p:cNvPicPr/>
          <p:nvPr/>
        </p:nvPicPr>
        <p:blipFill>
          <a:blip r:embed="rId2"/>
          <a:stretch/>
        </p:blipFill>
        <p:spPr>
          <a:xfrm>
            <a:off x="8028000" y="2421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395280" y="414972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边听朗读，一边看插图；想想刚才提出的问题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矩形 3" descr=""/>
          <p:cNvPicPr/>
          <p:nvPr/>
        </p:nvPicPr>
        <p:blipFill>
          <a:blip r:embed="rId2"/>
          <a:stretch/>
        </p:blipFill>
        <p:spPr>
          <a:xfrm>
            <a:off x="233280" y="620640"/>
            <a:ext cx="867744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1" descr="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71280" y="259920"/>
            <a:ext cx="889344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年四季中，不管是隆冬还是盛夏，布达拉宫的上空总是蓝晶晶的。有了这蓝天，依山而建的布达拉宫显得更加雄伟、壮丽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71280" y="260280"/>
            <a:ext cx="889344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年四季中，不管是隆冬还是盛夏，布达拉宫的上空总是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蓝晶晶</a:t>
            </a:r>
            <a:r>
              <a:rPr b="1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。有了这蓝天，依山而建的布达拉宫显得更加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雄伟、壮丽</a:t>
            </a:r>
            <a:r>
              <a:rPr b="1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9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矩形 2"/>
          <p:cNvSpPr/>
          <p:nvPr/>
        </p:nvSpPr>
        <p:spPr>
          <a:xfrm>
            <a:off x="324000" y="105264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藏语中，拉萨是圣地的意思，那么，这湛蓝的天就是圣地的窗帘了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矩形 2"/>
          <p:cNvSpPr/>
          <p:nvPr/>
        </p:nvSpPr>
        <p:spPr>
          <a:xfrm>
            <a:off x="324000" y="105264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藏语中，拉萨是圣地的意思，那么，这湛蓝的天就是圣地的窗帘了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3"/>
          <p:cNvSpPr/>
          <p:nvPr/>
        </p:nvSpPr>
        <p:spPr>
          <a:xfrm>
            <a:off x="468360" y="4292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窗帘是在什么地方用的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蓝天是窗帘，什么是建筑物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矩形 2"/>
          <p:cNvSpPr/>
          <p:nvPr/>
        </p:nvSpPr>
        <p:spPr>
          <a:xfrm>
            <a:off x="179280" y="154152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拉萨是有名的日光城。那里的天空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总是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么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湛蓝、透亮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好像用清水洗过的蓝宝石一样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2"/>
          <p:cNvSpPr/>
          <p:nvPr/>
        </p:nvSpPr>
        <p:spPr>
          <a:xfrm>
            <a:off x="250920" y="3119400"/>
            <a:ext cx="85690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拉萨，人们说话的声音能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碰到蓝天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伸出手来能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摸到蓝天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有人说“掬一捧蓝天可以洗脸”，这话真是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太妙了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有贴着山顶的白云映衬，湛蓝的天空显得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越发纯净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有拉萨河畔草地的对照，湛蓝的天空显得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更加明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9"/>
          <p:cNvSpPr/>
          <p:nvPr/>
        </p:nvSpPr>
        <p:spPr>
          <a:xfrm>
            <a:off x="395280" y="260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通读全文，进一步感受拉萨的天空的湛蓝、透亮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矩形 3"/>
          <p:cNvSpPr/>
          <p:nvPr/>
        </p:nvSpPr>
        <p:spPr>
          <a:xfrm>
            <a:off x="250920" y="206064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年四季中，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管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隆冬还是盛夏，布达拉宫的上空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总是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蓝晶晶的。有了这蓝天，依山而建的布达拉宫显得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更加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雄伟、壮丽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2"/>
          <p:cNvSpPr/>
          <p:nvPr/>
        </p:nvSpPr>
        <p:spPr>
          <a:xfrm>
            <a:off x="250920" y="436572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藏语中，拉萨是圣地的意思，那么，这湛蓝的天就是圣地的窗帘了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2"/>
          <p:cNvSpPr/>
          <p:nvPr/>
        </p:nvSpPr>
        <p:spPr>
          <a:xfrm>
            <a:off x="179280" y="765000"/>
            <a:ext cx="87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拉萨的天空蓝得让人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神往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它把你的视线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紧紧吸引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让你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久久不忍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移开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langdub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1763640" y="183528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有人说”掬一捧蓝天可以洗脸”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话真是太妙了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langdub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1763640" y="1835280"/>
            <a:ext cx="662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有贴着山顶的白云映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湛蓝的天空显得越发纯净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;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有拉萨河畔草地的对照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湛蓝的天空显得更加明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angdub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1763640" y="183528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一年四季中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不管是隆冬还是盛夏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布达拉宫的上空总是蓝晶晶的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xizhuob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1332000" y="183528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在藏语中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拉萨是圣地的意思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那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湛蓝的天就是圣地的窗帘了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gamebg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755640" y="692280"/>
            <a:ext cx="67690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拉萨    湛蓝    映衬   纯净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河畔    视线    隆冬   蓝晶晶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藏语    圣地    窗帘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掬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不忍移开        布达拉宫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依山而建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矩形 2"/>
          <p:cNvSpPr/>
          <p:nvPr/>
        </p:nvSpPr>
        <p:spPr>
          <a:xfrm>
            <a:off x="1722600" y="1289160"/>
            <a:ext cx="4144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光城”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城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泉城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石城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城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城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城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城－－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江城－－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"/>
          <p:cNvSpPr/>
          <p:nvPr/>
        </p:nvSpPr>
        <p:spPr>
          <a:xfrm>
            <a:off x="3924360" y="1303200"/>
            <a:ext cx="4103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拉萨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重庆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济南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南京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昆明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哈尔滨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苏州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广州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武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293840" y="404640"/>
            <a:ext cx="42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知道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7"/>
          <p:cNvSpPr/>
          <p:nvPr/>
        </p:nvSpPr>
        <p:spPr>
          <a:xfrm>
            <a:off x="500040" y="1125360"/>
            <a:ext cx="828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拉萨的天空有什么特点？读课文后用一两个词来概括一下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2484360" y="2924280"/>
            <a:ext cx="439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湛蓝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1476360" y="4222800"/>
            <a:ext cx="439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湛蓝、透亮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214200" y="428760"/>
            <a:ext cx="86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声读好下面的生字，注意每一笔在田字格里的位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2"/>
          <p:cNvGrpSpPr/>
          <p:nvPr/>
        </p:nvGrpSpPr>
        <p:grpSpPr>
          <a:xfrm>
            <a:off x="285840" y="1265400"/>
            <a:ext cx="5257800" cy="5333760"/>
            <a:chOff x="285840" y="1265400"/>
            <a:chExt cx="5257800" cy="5333760"/>
          </a:xfrm>
        </p:grpSpPr>
        <p:sp>
          <p:nvSpPr>
            <p:cNvPr id="184" name="Rectangle 3"/>
            <p:cNvSpPr/>
            <p:nvPr/>
          </p:nvSpPr>
          <p:spPr>
            <a:xfrm>
              <a:off x="285840" y="1265400"/>
              <a:ext cx="5257800" cy="533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4"/>
            <p:cNvSpPr/>
            <p:nvPr/>
          </p:nvSpPr>
          <p:spPr>
            <a:xfrm>
              <a:off x="285840" y="3932280"/>
              <a:ext cx="52578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5"/>
            <p:cNvSpPr/>
            <p:nvPr/>
          </p:nvSpPr>
          <p:spPr>
            <a:xfrm>
              <a:off x="2876760" y="1265400"/>
              <a:ext cx="0" cy="53337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6"/>
          <p:cNvSpPr/>
          <p:nvPr/>
        </p:nvSpPr>
        <p:spPr>
          <a:xfrm>
            <a:off x="5649840" y="1063800"/>
            <a:ext cx="32083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奇妙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美妙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巧妙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精妙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绝妙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妙用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妙计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奇思妙想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393840" y="1128600"/>
            <a:ext cx="475272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妙</a:t>
            </a:r>
            <a:endParaRPr b="1" lang="en-US" sz="3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7"/>
          <p:cNvSpPr/>
          <p:nvPr/>
        </p:nvSpPr>
        <p:spPr>
          <a:xfrm>
            <a:off x="214200" y="428760"/>
            <a:ext cx="86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声读好下面的生字，注意每一笔在田字格里的位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2"/>
          <p:cNvGrpSpPr/>
          <p:nvPr/>
        </p:nvGrpSpPr>
        <p:grpSpPr>
          <a:xfrm>
            <a:off x="276120" y="1112760"/>
            <a:ext cx="5257800" cy="5334120"/>
            <a:chOff x="276120" y="1112760"/>
            <a:chExt cx="5257800" cy="5334120"/>
          </a:xfrm>
        </p:grpSpPr>
        <p:sp>
          <p:nvSpPr>
            <p:cNvPr id="192" name="Rectangle 3"/>
            <p:cNvSpPr/>
            <p:nvPr/>
          </p:nvSpPr>
          <p:spPr>
            <a:xfrm>
              <a:off x="276120" y="1112760"/>
              <a:ext cx="5257800" cy="533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4"/>
            <p:cNvSpPr/>
            <p:nvPr/>
          </p:nvSpPr>
          <p:spPr>
            <a:xfrm>
              <a:off x="276120" y="3780000"/>
              <a:ext cx="52578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5"/>
            <p:cNvSpPr/>
            <p:nvPr/>
          </p:nvSpPr>
          <p:spPr>
            <a:xfrm>
              <a:off x="2867040" y="1112760"/>
              <a:ext cx="0" cy="5334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 Box 6"/>
          <p:cNvSpPr/>
          <p:nvPr/>
        </p:nvSpPr>
        <p:spPr>
          <a:xfrm>
            <a:off x="6186600" y="1050840"/>
            <a:ext cx="20286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纯正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纯净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纯洁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单纯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纯朴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纯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纯属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671400" y="857160"/>
            <a:ext cx="475308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纯</a:t>
            </a:r>
            <a:endParaRPr b="1" lang="en-US" sz="3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7"/>
          <p:cNvSpPr/>
          <p:nvPr/>
        </p:nvSpPr>
        <p:spPr>
          <a:xfrm>
            <a:off x="214200" y="428760"/>
            <a:ext cx="86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声读好下面的生字，注意每一笔在田字格里的位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"/>
          <p:cNvGrpSpPr/>
          <p:nvPr/>
        </p:nvGrpSpPr>
        <p:grpSpPr>
          <a:xfrm>
            <a:off x="214200" y="1162080"/>
            <a:ext cx="5257800" cy="5334120"/>
            <a:chOff x="214200" y="1162080"/>
            <a:chExt cx="5257800" cy="5334120"/>
          </a:xfrm>
        </p:grpSpPr>
        <p:sp>
          <p:nvSpPr>
            <p:cNvPr id="200" name="Rectangle 3"/>
            <p:cNvSpPr/>
            <p:nvPr/>
          </p:nvSpPr>
          <p:spPr>
            <a:xfrm>
              <a:off x="214200" y="1162080"/>
              <a:ext cx="5257800" cy="533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4"/>
            <p:cNvSpPr/>
            <p:nvPr/>
          </p:nvSpPr>
          <p:spPr>
            <a:xfrm>
              <a:off x="214200" y="3829320"/>
              <a:ext cx="52578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5"/>
            <p:cNvSpPr/>
            <p:nvPr/>
          </p:nvSpPr>
          <p:spPr>
            <a:xfrm>
              <a:off x="2805120" y="1162080"/>
              <a:ext cx="0" cy="5334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6"/>
          <p:cNvSpPr/>
          <p:nvPr/>
        </p:nvSpPr>
        <p:spPr>
          <a:xfrm>
            <a:off x="6400800" y="712800"/>
            <a:ext cx="18860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视线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线条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直线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阵线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防线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线索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线段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火线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322200" y="835200"/>
            <a:ext cx="475308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线</a:t>
            </a:r>
            <a:endParaRPr b="1" lang="en-US" sz="3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7"/>
          <p:cNvSpPr/>
          <p:nvPr/>
        </p:nvSpPr>
        <p:spPr>
          <a:xfrm>
            <a:off x="214200" y="428760"/>
            <a:ext cx="86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声读好下面的生字，注意每一笔在田字格里的位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2"/>
          <p:cNvGrpSpPr/>
          <p:nvPr/>
        </p:nvGrpSpPr>
        <p:grpSpPr>
          <a:xfrm>
            <a:off x="214200" y="1238400"/>
            <a:ext cx="5257800" cy="5333760"/>
            <a:chOff x="214200" y="1238400"/>
            <a:chExt cx="5257800" cy="5333760"/>
          </a:xfrm>
        </p:grpSpPr>
        <p:sp>
          <p:nvSpPr>
            <p:cNvPr id="208" name="Rectangle 3"/>
            <p:cNvSpPr/>
            <p:nvPr/>
          </p:nvSpPr>
          <p:spPr>
            <a:xfrm>
              <a:off x="214200" y="1238400"/>
              <a:ext cx="5257800" cy="533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4"/>
            <p:cNvSpPr/>
            <p:nvPr/>
          </p:nvSpPr>
          <p:spPr>
            <a:xfrm>
              <a:off x="214200" y="3905280"/>
              <a:ext cx="52578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5"/>
            <p:cNvSpPr/>
            <p:nvPr/>
          </p:nvSpPr>
          <p:spPr>
            <a:xfrm>
              <a:off x="2805120" y="1238400"/>
              <a:ext cx="0" cy="53337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 Box 6"/>
          <p:cNvSpPr/>
          <p:nvPr/>
        </p:nvSpPr>
        <p:spPr>
          <a:xfrm>
            <a:off x="6149880" y="712800"/>
            <a:ext cx="2494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建设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建筑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修建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建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建树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建成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建国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兴建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322200" y="1055520"/>
            <a:ext cx="475308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建</a:t>
            </a:r>
            <a:endParaRPr b="1" lang="en-US" sz="3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7"/>
          <p:cNvSpPr/>
          <p:nvPr/>
        </p:nvSpPr>
        <p:spPr>
          <a:xfrm>
            <a:off x="214200" y="428760"/>
            <a:ext cx="86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声读好下面的生字，注意每一笔在田字格里的位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2"/>
          <p:cNvGrpSpPr/>
          <p:nvPr/>
        </p:nvGrpSpPr>
        <p:grpSpPr>
          <a:xfrm>
            <a:off x="214200" y="1265400"/>
            <a:ext cx="5257800" cy="5333760"/>
            <a:chOff x="214200" y="1265400"/>
            <a:chExt cx="5257800" cy="5333760"/>
          </a:xfrm>
        </p:grpSpPr>
        <p:sp>
          <p:nvSpPr>
            <p:cNvPr id="216" name="Rectangle 3"/>
            <p:cNvSpPr/>
            <p:nvPr/>
          </p:nvSpPr>
          <p:spPr>
            <a:xfrm>
              <a:off x="214200" y="1265400"/>
              <a:ext cx="5257800" cy="533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4"/>
            <p:cNvSpPr/>
            <p:nvPr/>
          </p:nvSpPr>
          <p:spPr>
            <a:xfrm>
              <a:off x="214200" y="3932280"/>
              <a:ext cx="52578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5"/>
            <p:cNvSpPr/>
            <p:nvPr/>
          </p:nvSpPr>
          <p:spPr>
            <a:xfrm>
              <a:off x="2805120" y="1265400"/>
              <a:ext cx="0" cy="53337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6"/>
          <p:cNvSpPr/>
          <p:nvPr/>
        </p:nvSpPr>
        <p:spPr>
          <a:xfrm>
            <a:off x="5614920" y="784080"/>
            <a:ext cx="21718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神圣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圣地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圣人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圣水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诗圣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圣洁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圣贤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圣旨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465120" y="793800"/>
            <a:ext cx="475308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圣</a:t>
            </a:r>
            <a:endParaRPr b="1" lang="en-US" sz="3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7"/>
          <p:cNvSpPr/>
          <p:nvPr/>
        </p:nvSpPr>
        <p:spPr>
          <a:xfrm>
            <a:off x="214200" y="428760"/>
            <a:ext cx="86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声读好下面的生字，注意每一笔在田字格里的位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2"/>
          <p:cNvGrpSpPr/>
          <p:nvPr/>
        </p:nvGrpSpPr>
        <p:grpSpPr>
          <a:xfrm>
            <a:off x="214200" y="1336680"/>
            <a:ext cx="5257800" cy="5334120"/>
            <a:chOff x="214200" y="1336680"/>
            <a:chExt cx="5257800" cy="5334120"/>
          </a:xfrm>
        </p:grpSpPr>
        <p:sp>
          <p:nvSpPr>
            <p:cNvPr id="224" name="Rectangle 3"/>
            <p:cNvSpPr/>
            <p:nvPr/>
          </p:nvSpPr>
          <p:spPr>
            <a:xfrm>
              <a:off x="214200" y="1336680"/>
              <a:ext cx="5257800" cy="533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4"/>
            <p:cNvSpPr/>
            <p:nvPr/>
          </p:nvSpPr>
          <p:spPr>
            <a:xfrm>
              <a:off x="214200" y="4003920"/>
              <a:ext cx="52578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5"/>
            <p:cNvSpPr/>
            <p:nvPr/>
          </p:nvSpPr>
          <p:spPr>
            <a:xfrm>
              <a:off x="2805120" y="1336680"/>
              <a:ext cx="0" cy="5334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 Box 6"/>
          <p:cNvSpPr/>
          <p:nvPr/>
        </p:nvSpPr>
        <p:spPr>
          <a:xfrm>
            <a:off x="6257880" y="1214280"/>
            <a:ext cx="21002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门窗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窗口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窗帘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窗台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窗子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窗户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天窗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465120" y="1009800"/>
            <a:ext cx="475308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窗</a:t>
            </a:r>
            <a:endParaRPr b="1" lang="en-US" sz="3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7"/>
          <p:cNvSpPr/>
          <p:nvPr/>
        </p:nvSpPr>
        <p:spPr>
          <a:xfrm>
            <a:off x="214200" y="428760"/>
            <a:ext cx="86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声读好下面的生字，注意每一笔在田字格里的位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2"/>
          <p:cNvGrpSpPr/>
          <p:nvPr/>
        </p:nvGrpSpPr>
        <p:grpSpPr>
          <a:xfrm>
            <a:off x="214200" y="1193760"/>
            <a:ext cx="5257800" cy="5334120"/>
            <a:chOff x="214200" y="1193760"/>
            <a:chExt cx="5257800" cy="5334120"/>
          </a:xfrm>
        </p:grpSpPr>
        <p:sp>
          <p:nvSpPr>
            <p:cNvPr id="232" name="Rectangle 3"/>
            <p:cNvSpPr/>
            <p:nvPr/>
          </p:nvSpPr>
          <p:spPr>
            <a:xfrm>
              <a:off x="214200" y="1193760"/>
              <a:ext cx="5257800" cy="533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4"/>
            <p:cNvSpPr/>
            <p:nvPr/>
          </p:nvSpPr>
          <p:spPr>
            <a:xfrm>
              <a:off x="214200" y="3861000"/>
              <a:ext cx="52578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5"/>
            <p:cNvSpPr/>
            <p:nvPr/>
          </p:nvSpPr>
          <p:spPr>
            <a:xfrm>
              <a:off x="2805120" y="1193760"/>
              <a:ext cx="0" cy="5334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 Box 6"/>
          <p:cNvSpPr/>
          <p:nvPr/>
        </p:nvSpPr>
        <p:spPr>
          <a:xfrm>
            <a:off x="5972040" y="1643040"/>
            <a:ext cx="217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窗帘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门帘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珠帘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帘子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490680" y="795240"/>
            <a:ext cx="475272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帘</a:t>
            </a:r>
            <a:endParaRPr b="1" lang="en-US" sz="3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7"/>
          <p:cNvSpPr/>
          <p:nvPr/>
        </p:nvSpPr>
        <p:spPr>
          <a:xfrm>
            <a:off x="214200" y="428760"/>
            <a:ext cx="86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声读好下面的生字，注意每一笔在田字格里的位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2"/>
          <p:cNvGrpSpPr/>
          <p:nvPr/>
        </p:nvGrpSpPr>
        <p:grpSpPr>
          <a:xfrm>
            <a:off x="214200" y="1193760"/>
            <a:ext cx="5257800" cy="5334120"/>
            <a:chOff x="214200" y="1193760"/>
            <a:chExt cx="5257800" cy="5334120"/>
          </a:xfrm>
        </p:grpSpPr>
        <p:sp>
          <p:nvSpPr>
            <p:cNvPr id="240" name="Rectangle 3"/>
            <p:cNvSpPr/>
            <p:nvPr/>
          </p:nvSpPr>
          <p:spPr>
            <a:xfrm>
              <a:off x="214200" y="1193760"/>
              <a:ext cx="5257800" cy="533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4"/>
            <p:cNvSpPr/>
            <p:nvPr/>
          </p:nvSpPr>
          <p:spPr>
            <a:xfrm>
              <a:off x="214200" y="3861000"/>
              <a:ext cx="52578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5"/>
            <p:cNvSpPr/>
            <p:nvPr/>
          </p:nvSpPr>
          <p:spPr>
            <a:xfrm>
              <a:off x="2805120" y="1193760"/>
              <a:ext cx="0" cy="5334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6"/>
          <p:cNvSpPr/>
          <p:nvPr/>
        </p:nvSpPr>
        <p:spPr>
          <a:xfrm>
            <a:off x="5643720" y="785880"/>
            <a:ext cx="3286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忍受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忍耐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忍痛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忍心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忍让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忍气吞声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490680" y="795240"/>
            <a:ext cx="475272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忍</a:t>
            </a:r>
            <a:endParaRPr b="1" lang="en-US" sz="3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285840" y="928800"/>
            <a:ext cx="857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湛蓝：深蓝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掬：捧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纯净：纯洁干净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河畔：河边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不忍：不忍心，舍不得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圣地：崇高的，神圣的地方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571680" y="357120"/>
            <a:ext cx="828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7"/>
          <p:cNvSpPr/>
          <p:nvPr/>
        </p:nvSpPr>
        <p:spPr>
          <a:xfrm>
            <a:off x="214200" y="428760"/>
            <a:ext cx="86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声读好下面的生字，注意每一笔在田字格里的位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2"/>
          <p:cNvGrpSpPr/>
          <p:nvPr/>
        </p:nvGrpSpPr>
        <p:grpSpPr>
          <a:xfrm>
            <a:off x="214200" y="1193760"/>
            <a:ext cx="5257800" cy="5334120"/>
            <a:chOff x="214200" y="1193760"/>
            <a:chExt cx="5257800" cy="5334120"/>
          </a:xfrm>
        </p:grpSpPr>
        <p:sp>
          <p:nvSpPr>
            <p:cNvPr id="248" name="Rectangle 3"/>
            <p:cNvSpPr/>
            <p:nvPr/>
          </p:nvSpPr>
          <p:spPr>
            <a:xfrm>
              <a:off x="214200" y="1193760"/>
              <a:ext cx="5257800" cy="533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"/>
            <p:cNvSpPr/>
            <p:nvPr/>
          </p:nvSpPr>
          <p:spPr>
            <a:xfrm>
              <a:off x="214200" y="3861000"/>
              <a:ext cx="52578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5"/>
            <p:cNvSpPr/>
            <p:nvPr/>
          </p:nvSpPr>
          <p:spPr>
            <a:xfrm>
              <a:off x="2805120" y="1193760"/>
              <a:ext cx="0" cy="5334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Text Box 6"/>
          <p:cNvSpPr/>
          <p:nvPr/>
        </p:nvSpPr>
        <p:spPr>
          <a:xfrm>
            <a:off x="5643720" y="1285920"/>
            <a:ext cx="31431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亮晶晶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晶亮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晶莹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水晶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结晶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490680" y="795240"/>
            <a:ext cx="475272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晶</a:t>
            </a:r>
            <a:endParaRPr b="1" lang="en-US" sz="3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7"/>
          <p:cNvSpPr/>
          <p:nvPr/>
        </p:nvSpPr>
        <p:spPr>
          <a:xfrm>
            <a:off x="2771640" y="26028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怎么记住这些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250920" y="4587840"/>
            <a:ext cx="57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熟字加偏旁记住的字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—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250920" y="530856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换偏旁记住的字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—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250920" y="602784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笔画加字记住的字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—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68200" y="993600"/>
          <a:ext cx="1711440" cy="1498680"/>
        </p:xfrm>
        <a:graphic>
          <a:graphicData uri="http://schemas.openxmlformats.org/drawingml/2006/table">
            <a:tbl>
              <a:tblPr/>
              <a:tblGrid>
                <a:gridCol w="835200"/>
                <a:gridCol w="876240"/>
              </a:tblGrid>
              <a:tr h="749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矩形 12"/>
          <p:cNvSpPr/>
          <p:nvPr/>
        </p:nvSpPr>
        <p:spPr>
          <a:xfrm>
            <a:off x="441360" y="92232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妙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500200" y="979560"/>
          <a:ext cx="1711440" cy="1498680"/>
        </p:xfrm>
        <a:graphic>
          <a:graphicData uri="http://schemas.openxmlformats.org/drawingml/2006/table">
            <a:tbl>
              <a:tblPr/>
              <a:tblGrid>
                <a:gridCol w="835200"/>
                <a:gridCol w="876240"/>
              </a:tblGrid>
              <a:tr h="749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矩形 12"/>
          <p:cNvSpPr/>
          <p:nvPr/>
        </p:nvSpPr>
        <p:spPr>
          <a:xfrm>
            <a:off x="2673360" y="90792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窗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4659480" y="993600"/>
          <a:ext cx="1711080" cy="1498680"/>
        </p:xfrm>
        <a:graphic>
          <a:graphicData uri="http://schemas.openxmlformats.org/drawingml/2006/table">
            <a:tbl>
              <a:tblPr/>
              <a:tblGrid>
                <a:gridCol w="834840"/>
                <a:gridCol w="876240"/>
              </a:tblGrid>
              <a:tr h="749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矩形 12"/>
          <p:cNvSpPr/>
          <p:nvPr/>
        </p:nvSpPr>
        <p:spPr>
          <a:xfrm>
            <a:off x="4832280" y="922320"/>
            <a:ext cx="135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帘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948360" y="4795920"/>
          <a:ext cx="1711440" cy="1498680"/>
        </p:xfrm>
        <a:graphic>
          <a:graphicData uri="http://schemas.openxmlformats.org/drawingml/2006/table">
            <a:tbl>
              <a:tblPr/>
              <a:tblGrid>
                <a:gridCol w="835200"/>
                <a:gridCol w="876240"/>
              </a:tblGrid>
              <a:tr h="749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矩形 12"/>
          <p:cNvSpPr/>
          <p:nvPr/>
        </p:nvSpPr>
        <p:spPr>
          <a:xfrm>
            <a:off x="7121520" y="472428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晶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6821640" y="979560"/>
          <a:ext cx="1711080" cy="1498680"/>
        </p:xfrm>
        <a:graphic>
          <a:graphicData uri="http://schemas.openxmlformats.org/drawingml/2006/table">
            <a:tbl>
              <a:tblPr/>
              <a:tblGrid>
                <a:gridCol w="834840"/>
                <a:gridCol w="876240"/>
              </a:tblGrid>
              <a:tr h="749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矩形 12"/>
          <p:cNvSpPr/>
          <p:nvPr/>
        </p:nvSpPr>
        <p:spPr>
          <a:xfrm>
            <a:off x="6994440" y="907920"/>
            <a:ext cx="135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圣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50920" y="2863800"/>
          <a:ext cx="1711080" cy="1498680"/>
        </p:xfrm>
        <a:graphic>
          <a:graphicData uri="http://schemas.openxmlformats.org/drawingml/2006/table">
            <a:tbl>
              <a:tblPr/>
              <a:tblGrid>
                <a:gridCol w="834840"/>
                <a:gridCol w="876240"/>
              </a:tblGrid>
              <a:tr h="749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" name="矩形 12"/>
          <p:cNvSpPr/>
          <p:nvPr/>
        </p:nvSpPr>
        <p:spPr>
          <a:xfrm>
            <a:off x="423720" y="2792520"/>
            <a:ext cx="135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建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481120" y="2849400"/>
          <a:ext cx="1711440" cy="1498680"/>
        </p:xfrm>
        <a:graphic>
          <a:graphicData uri="http://schemas.openxmlformats.org/drawingml/2006/table">
            <a:tbl>
              <a:tblPr/>
              <a:tblGrid>
                <a:gridCol w="835200"/>
                <a:gridCol w="876240"/>
              </a:tblGrid>
              <a:tr h="749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矩形 12"/>
          <p:cNvSpPr/>
          <p:nvPr/>
        </p:nvSpPr>
        <p:spPr>
          <a:xfrm>
            <a:off x="2654280" y="277812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线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660920" y="2867040"/>
          <a:ext cx="1711440" cy="1498680"/>
        </p:xfrm>
        <a:graphic>
          <a:graphicData uri="http://schemas.openxmlformats.org/drawingml/2006/table">
            <a:tbl>
              <a:tblPr/>
              <a:tblGrid>
                <a:gridCol w="835200"/>
                <a:gridCol w="876240"/>
              </a:tblGrid>
              <a:tr h="749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矩形 12"/>
          <p:cNvSpPr/>
          <p:nvPr/>
        </p:nvSpPr>
        <p:spPr>
          <a:xfrm>
            <a:off x="4834080" y="279576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纯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6891480" y="2852640"/>
          <a:ext cx="1711080" cy="1498680"/>
        </p:xfrm>
        <a:graphic>
          <a:graphicData uri="http://schemas.openxmlformats.org/drawingml/2006/table">
            <a:tbl>
              <a:tblPr/>
              <a:tblGrid>
                <a:gridCol w="834840"/>
                <a:gridCol w="876240"/>
              </a:tblGrid>
              <a:tr h="749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矩形 12"/>
          <p:cNvSpPr/>
          <p:nvPr/>
        </p:nvSpPr>
        <p:spPr>
          <a:xfrm>
            <a:off x="7064280" y="2781360"/>
            <a:ext cx="135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忍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矩形 2"/>
          <p:cNvSpPr/>
          <p:nvPr/>
        </p:nvSpPr>
        <p:spPr>
          <a:xfrm>
            <a:off x="684360" y="333360"/>
            <a:ext cx="67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用映衬的手法突出景物的特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324000" y="981000"/>
          <a:ext cx="8496000" cy="5746680"/>
        </p:xfrm>
        <a:graphic>
          <a:graphicData uri="http://schemas.openxmlformats.org/drawingml/2006/table">
            <a:tbl>
              <a:tblPr/>
              <a:tblGrid>
                <a:gridCol w="2889000"/>
                <a:gridCol w="5607000"/>
              </a:tblGrid>
              <a:tr h="204624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用人的感觉衬蓝天近人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在拉萨，人们说话的声音能碰到蓝天，伸出手来能摸到蓝天。有人说“掬一捧蓝天可以洗脸”，这话真是太妙了。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</a:tr>
              <a:tr h="10717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白云衬蓝天的纯净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有贴着山顶的白云映衬，湛蓝的天空显得越发纯净；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绿草衬蓝天的明洁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有拉萨河畔草地的对照，湛蓝的天空显得更加明洁。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</a:tr>
              <a:tr h="155880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蓝天衬布达拉宫的雄伟、壮丽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有了这蓝天，依山而建的布达拉宫显得更加雄伟、壮丽。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矩形 3"/>
          <p:cNvSpPr/>
          <p:nvPr/>
        </p:nvSpPr>
        <p:spPr>
          <a:xfrm>
            <a:off x="2759760" y="6224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妙喻传神，令人遐想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250920" y="1701720"/>
          <a:ext cx="8713800" cy="4032360"/>
        </p:xfrm>
        <a:graphic>
          <a:graphicData uri="http://schemas.openxmlformats.org/drawingml/2006/table">
            <a:tbl>
              <a:tblPr/>
              <a:tblGrid>
                <a:gridCol w="2963880"/>
                <a:gridCol w="5749920"/>
              </a:tblGrid>
              <a:tr h="17413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天如蓝宝石，突出“湛蓝、透亮”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那里的天空总是那么湛蓝、透亮，好像用清水洗过的蓝宝石一样。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</a:tr>
              <a:tr h="229104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蓝天如圣地的窗帘，激起人对那神秘境界的遐想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在藏语中，拉萨是圣地的意思，那么，这湛蓝的天就是圣地的窗帘了。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文本框 1"/>
          <p:cNvSpPr/>
          <p:nvPr/>
        </p:nvSpPr>
        <p:spPr>
          <a:xfrm>
            <a:off x="939960" y="6213600"/>
            <a:ext cx="53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矩形 2"/>
          <p:cNvSpPr/>
          <p:nvPr/>
        </p:nvSpPr>
        <p:spPr>
          <a:xfrm>
            <a:off x="395280" y="404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课堂小结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"/>
          <p:cNvSpPr/>
          <p:nvPr/>
        </p:nvSpPr>
        <p:spPr>
          <a:xfrm>
            <a:off x="3059280" y="2421000"/>
            <a:ext cx="217440" cy="1728720"/>
          </a:xfrm>
          <a:custGeom>
            <a:avLst/>
            <a:gdLst>
              <a:gd name="textAreaLeft" fmla="*/ 138960 w 217440"/>
              <a:gd name="textAreaRight" fmla="*/ 217800 w 217440"/>
              <a:gd name="textAreaTop" fmla="*/ 29160 h 1728720"/>
              <a:gd name="textAreaBottom" fmla="*/ 169956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84"/>
                  <a:pt x="10800" y="1167"/>
                </a:cubicBezTo>
                <a:lnTo>
                  <a:pt x="10800" y="9633"/>
                </a:lnTo>
                <a:cubicBezTo>
                  <a:pt x="10800" y="10217"/>
                  <a:pt x="5400" y="10800"/>
                  <a:pt x="0" y="10800"/>
                </a:cubicBezTo>
                <a:cubicBezTo>
                  <a:pt x="5400" y="10800"/>
                  <a:pt x="10800" y="11384"/>
                  <a:pt x="10800" y="11967"/>
                </a:cubicBezTo>
                <a:lnTo>
                  <a:pt x="10800" y="20433"/>
                </a:lnTo>
                <a:cubicBezTo>
                  <a:pt x="10800" y="2101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7"/>
          <p:cNvSpPr/>
          <p:nvPr/>
        </p:nvSpPr>
        <p:spPr>
          <a:xfrm>
            <a:off x="485280" y="2997360"/>
            <a:ext cx="22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拉萨的天空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8"/>
          <p:cNvSpPr/>
          <p:nvPr/>
        </p:nvSpPr>
        <p:spPr>
          <a:xfrm>
            <a:off x="4475520" y="19908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湛蓝、透亮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9"/>
          <p:cNvSpPr/>
          <p:nvPr/>
        </p:nvSpPr>
        <p:spPr>
          <a:xfrm>
            <a:off x="4748400" y="2997360"/>
            <a:ext cx="28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纯净、明洁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让人神往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12"/>
          <p:cNvSpPr/>
          <p:nvPr/>
        </p:nvSpPr>
        <p:spPr>
          <a:xfrm>
            <a:off x="3780000" y="38624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蓝晶晶  窗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4"/>
          <p:cNvSpPr/>
          <p:nvPr/>
        </p:nvSpPr>
        <p:spPr>
          <a:xfrm flipH="1">
            <a:off x="6300720" y="2421000"/>
            <a:ext cx="287280" cy="1728720"/>
          </a:xfrm>
          <a:custGeom>
            <a:avLst/>
            <a:gdLst>
              <a:gd name="textAreaLeft" fmla="*/ 183960 w 287280"/>
              <a:gd name="textAreaRight" fmla="*/ 288000 w 287280"/>
              <a:gd name="textAreaTop" fmla="*/ 38880 h 1728720"/>
              <a:gd name="textAreaBottom" fmla="*/ 168984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78"/>
                  <a:pt x="10800" y="1556"/>
                </a:cubicBezTo>
                <a:lnTo>
                  <a:pt x="10800" y="9244"/>
                </a:lnTo>
                <a:cubicBezTo>
                  <a:pt x="10800" y="10022"/>
                  <a:pt x="5400" y="10800"/>
                  <a:pt x="0" y="10800"/>
                </a:cubicBezTo>
                <a:cubicBezTo>
                  <a:pt x="5400" y="10800"/>
                  <a:pt x="10800" y="11578"/>
                  <a:pt x="10800" y="12356"/>
                </a:cubicBezTo>
                <a:lnTo>
                  <a:pt x="10800" y="20044"/>
                </a:lnTo>
                <a:cubicBezTo>
                  <a:pt x="10800" y="2082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8"/>
          <p:cNvSpPr/>
          <p:nvPr/>
        </p:nvSpPr>
        <p:spPr>
          <a:xfrm>
            <a:off x="324000" y="692280"/>
            <a:ext cx="8459640" cy="11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蓝（          ）     村（          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篮（          ）     衬（          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伴（          ）     结（          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畔（          ）     洁（          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往（          ）     静（          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住（          ）     净（          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夏（          ）     宫（          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（          ）     官（          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24000" y="260280"/>
            <a:ext cx="815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比一比，再组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0803-FC69-4C3D-AE7C-124DD82E4E3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-14400" y="0"/>
            <a:ext cx="91728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7"/>
          <p:cNvPicPr/>
          <p:nvPr/>
        </p:nvPicPr>
        <p:blipFill>
          <a:blip r:embed="rId2"/>
          <a:stretch/>
        </p:blipFill>
        <p:spPr>
          <a:xfrm>
            <a:off x="71280" y="115920"/>
            <a:ext cx="8893440" cy="66978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1928880" y="4071960"/>
            <a:ext cx="13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拉萨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500040" y="1071720"/>
            <a:ext cx="8352000" cy="20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“拉萨”在藏语中为“圣地”或“佛地”之意，长期以来就是西藏政治、经济、文化、宗教的中心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金碧辉煌、雄伟壮丽的布达拉宫，是至高无上政教合一政权的象征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285840" y="928800"/>
            <a:ext cx="857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71680" y="357120"/>
            <a:ext cx="828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1874880" y="1577880"/>
            <a:ext cx="55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己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朗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文几遍，长句子或难读的句子多读几遍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做到不错读，不漏读，不重读，不打结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矩形 5"/>
          <p:cNvSpPr/>
          <p:nvPr/>
        </p:nvSpPr>
        <p:spPr>
          <a:xfrm>
            <a:off x="395280" y="2349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拉萨是有名的日光城。那里的天空总是那么湛蓝、透亮，好像用清水洗过的蓝宝石一样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7"/>
          <p:cNvSpPr/>
          <p:nvPr/>
        </p:nvSpPr>
        <p:spPr>
          <a:xfrm flipV="1">
            <a:off x="2194920" y="2445840"/>
            <a:ext cx="215640" cy="50508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11"/>
          <p:cNvSpPr/>
          <p:nvPr/>
        </p:nvSpPr>
        <p:spPr>
          <a:xfrm flipV="1">
            <a:off x="8243280" y="2445840"/>
            <a:ext cx="215640" cy="5749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15"/>
          <p:cNvSpPr/>
          <p:nvPr/>
        </p:nvSpPr>
        <p:spPr>
          <a:xfrm flipV="1">
            <a:off x="5938200" y="2949120"/>
            <a:ext cx="215640" cy="57636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7"/>
          <p:cNvSpPr/>
          <p:nvPr/>
        </p:nvSpPr>
        <p:spPr>
          <a:xfrm>
            <a:off x="324000" y="407664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拉萨，人们说话的声音能碰到蓝天，伸出手来能摸到蓝天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18"/>
          <p:cNvSpPr/>
          <p:nvPr/>
        </p:nvSpPr>
        <p:spPr>
          <a:xfrm flipV="1">
            <a:off x="6300720" y="4149720"/>
            <a:ext cx="216000" cy="57456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19"/>
          <p:cNvSpPr/>
          <p:nvPr/>
        </p:nvSpPr>
        <p:spPr>
          <a:xfrm flipV="1">
            <a:off x="3059280" y="4723920"/>
            <a:ext cx="217440" cy="57636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0"/>
          <p:cNvSpPr/>
          <p:nvPr/>
        </p:nvSpPr>
        <p:spPr>
          <a:xfrm>
            <a:off x="179280" y="530064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了这蓝天，依山而建的布达拉宫显得更加雄伟、壮丽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21"/>
          <p:cNvSpPr/>
          <p:nvPr/>
        </p:nvSpPr>
        <p:spPr>
          <a:xfrm flipV="1">
            <a:off x="8028000" y="5373720"/>
            <a:ext cx="216000" cy="57456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7"/>
          <p:cNvSpPr/>
          <p:nvPr/>
        </p:nvSpPr>
        <p:spPr>
          <a:xfrm>
            <a:off x="324000" y="62064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给课文标上自然小节，说说每节的意思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285840" y="1285920"/>
            <a:ext cx="8501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写拉萨的天空湛蓝、透亮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拉萨的天空离人近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拉萨的天空令人神往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拉萨的天空一年四季蓝晶晶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拉萨的天空是圣地的窗帘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13:18:4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2:59Z</dcterms:modified>
  <cp:revision>14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