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8432-A388-42A3-81B4-95A3B9FB22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2037-B21F-4E3C-B8BF-81895FBDAC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D3C-78D0-4223-ACEF-BD76F749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A49-269C-4317-9A08-6CBE898A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B4D-996C-4472-BA9C-7B91D73E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6C1-EEC8-4DE5-BCEE-8BCDEA55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AEF-F2C9-4944-A27C-50693C91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D96-F2D6-4545-A5BD-8854C57F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FAD-93E7-44B1-94BC-9032792A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80D-2362-4D28-B339-B70AA0CB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D20-D5F8-48CF-9AD1-ABE49D85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7E9-16A0-4FDC-9EEE-F6DCC1F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989-90D7-4E18-AEEA-9F52A307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073-2508-45C0-A598-A016C4C0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78B4-1604-433E-9D44-395FD126C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妈妈01"/>
          <p:cNvPicPr/>
          <p:nvPr/>
        </p:nvPicPr>
        <p:blipFill>
          <a:blip r:embed="rId1"/>
          <a:stretch/>
        </p:blipFill>
        <p:spPr>
          <a:xfrm>
            <a:off x="4691160" y="1692360"/>
            <a:ext cx="2979720" cy="4162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671040" y="2297160"/>
            <a:ext cx="2618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礼  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125800" y="797040"/>
            <a:ext cx="46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湘教版一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1722240" y="6093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小男孩04"/>
          <p:cNvPicPr/>
          <p:nvPr/>
        </p:nvPicPr>
        <p:blipFill>
          <a:blip r:embed="rId1"/>
          <a:stretch/>
        </p:blipFill>
        <p:spPr>
          <a:xfrm>
            <a:off x="250920" y="3500280"/>
            <a:ext cx="2436840" cy="30625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5"/>
          <p:cNvSpPr/>
          <p:nvPr/>
        </p:nvSpPr>
        <p:spPr>
          <a:xfrm>
            <a:off x="2627280" y="1413000"/>
            <a:ext cx="5472000" cy="3095640"/>
          </a:xfrm>
          <a:prstGeom prst="cloudCallout">
            <a:avLst>
              <a:gd name="adj1" fmla="val -45879"/>
              <a:gd name="adj2" fmla="val 6256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看草儿（       ）了，树叶（       ）。（       ）的迎春花，像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外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32000" y="2707920"/>
            <a:ext cx="728352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诵全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收到小袋鼠亚特寄来的礼物后，熊猫盼盼会给他寄去什么礼物呢？先说说，再写下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66B5-72DE-452D-B5F0-62CA136BA5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流利地朗读课文，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课文内容，知道南北半球季节相反，激发了解自然的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4859280" cy="62485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 rot="5400000">
            <a:off x="717120" y="31780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课文欣赏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2146320" y="333360"/>
            <a:ext cx="50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417920" y="501480"/>
            <a:ext cx="4726080" cy="635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461880"/>
            <a:ext cx="445608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小卡通06"/>
          <p:cNvPicPr/>
          <p:nvPr/>
        </p:nvPicPr>
        <p:blipFill>
          <a:blip r:embed="rId1"/>
          <a:stretch/>
        </p:blipFill>
        <p:spPr>
          <a:xfrm>
            <a:off x="539640" y="3213000"/>
            <a:ext cx="2533680" cy="25923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>
            <a:off x="0" y="620640"/>
            <a:ext cx="4105440" cy="2158920"/>
          </a:xfrm>
          <a:prstGeom prst="cloudCallout">
            <a:avLst>
              <a:gd name="adj1" fmla="val -19449"/>
              <a:gd name="adj2" fmla="val 7602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习生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427640" y="1484280"/>
            <a:ext cx="446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秋  员  粉真  节  相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76240" y="1414440"/>
            <a:ext cx="55915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484360" y="2492280"/>
            <a:ext cx="44640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收到了哪些礼物？是谁送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读课文我们来理解重点语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小卡通10"/>
          <p:cNvPicPr/>
          <p:nvPr/>
        </p:nvPicPr>
        <p:blipFill>
          <a:blip r:embed="rId1"/>
          <a:stretch/>
        </p:blipFill>
        <p:spPr>
          <a:xfrm>
            <a:off x="5580000" y="2492280"/>
            <a:ext cx="3168720" cy="3456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5"/>
          <p:cNvSpPr/>
          <p:nvPr/>
        </p:nvSpPr>
        <p:spPr>
          <a:xfrm>
            <a:off x="755640" y="1628640"/>
            <a:ext cx="4321080" cy="3529080"/>
          </a:xfrm>
          <a:prstGeom prst="cloudCallout">
            <a:avLst>
              <a:gd name="adj1" fmla="val 75754"/>
              <a:gd name="adj2" fmla="val 2782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春天收到秋天的礼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多么有趣呀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58560" y="184464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黄金黄的油菜花开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黄金黄的油菜花开了，远远看去像一块大大的黄色地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雪白雪白的梨花开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雪白雪白的梨花开了，风一吹，好像一群白色的蝴蝶在跳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3564000" y="1125360"/>
            <a:ext cx="1866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练习比喻句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44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5:44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