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1E15-487A-4A7C-9AEA-6D46714B3D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E53CE-63CE-48C9-A8C0-56604EA0CF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0530-9517-434C-B63F-DC8B5508F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7E9-491D-4E01-866B-549AD6E4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E8A-3B7E-40D7-AC0B-7FA6F867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D292-177B-4145-A8AC-953C80EF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E43-F7AB-4701-8FA8-5C2C5DA7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E6C5-62D2-4346-8C8A-B098A3B4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0A90-9116-47FF-98A9-A43234BC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D06-3741-4FD3-97BD-50B1876B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5669-AED8-4094-BC25-D7C2090E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204-C497-4F4F-BE0D-E61444A7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735-E1A0-4E21-9082-A2178F72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209-E7CB-4930-BDD8-7AF39F8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4A53-D412-497B-800E-B3A31457D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7"/>
          <p:cNvSpPr txBox="1"/>
          <p:nvPr/>
        </p:nvSpPr>
        <p:spPr>
          <a:xfrm>
            <a:off x="1905120" y="2133720"/>
            <a:ext cx="5410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中宋"/>
              </a:rPr>
              <a:t>芦叶船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中宋"/>
              <a:ea typeface="华文中宋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64800" y="57276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990720" y="137160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讨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描述的芦叶船的哪些地方给你留下了深刻印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25142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喜欢“我”的童年生活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希望有怎样的童年生活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1219320" y="1447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熟读课文，整体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1760" y="2133360"/>
            <a:ext cx="784836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那里河道特别多，有横的、竖的，像蜘蛛网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98480" y="420516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Wingdings" charset="2"/>
              <a:buChar char="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只见这只芦叶船越开越远，一会儿就看不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19320" y="1066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理解感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14400" y="2437920"/>
            <a:ext cx="769608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只见这只芦叶船顺着风，顶着浪，越开越远，一会儿就看不见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295280" y="12193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理解感悟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1426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  <a:ea typeface="隶书"/>
              </a:rPr>
              <a:t>拓展实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7524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文把怎样做芦叶船、怎样玩芦叶船写得非常生动。你最喜欢玩什么？能用你的笔告诉大家吗？课后同学们写一写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9766-4AF3-4907-9D82-67F60A53BD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23880" y="22093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学会本课生字新词，积累词汇；有感情地朗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课文内容，了解芦叶船给水乡的孩子所带来的欢乐，体味愉快的童年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23880" y="99072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隶书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076400" y="5654520"/>
            <a:ext cx="674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6"/>
          <p:cNvSpPr/>
          <p:nvPr/>
        </p:nvSpPr>
        <p:spPr>
          <a:xfrm>
            <a:off x="4343400" y="34671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762120" y="2209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芦苇</a:t>
            </a:r>
            <a:r>
              <a:rPr b="0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2008050809285974084"/>
          <p:cNvPicPr/>
          <p:nvPr/>
        </p:nvPicPr>
        <p:blipFill>
          <a:blip r:embed="rId1"/>
          <a:stretch/>
        </p:blipFill>
        <p:spPr>
          <a:xfrm>
            <a:off x="2362320" y="1143000"/>
            <a:ext cx="6019560" cy="46483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2361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怎么做芦叶船</a:t>
            </a:r>
            <a:r>
              <a:rPr b="0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36bfd8fcfbaa2d5cd7887d51"/>
          <p:cNvPicPr/>
          <p:nvPr/>
        </p:nvPicPr>
        <p:blipFill>
          <a:blip r:embed="rId1"/>
          <a:stretch/>
        </p:blipFill>
        <p:spPr>
          <a:xfrm>
            <a:off x="4038480" y="1066680"/>
            <a:ext cx="4524480" cy="4686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4"/>
          <p:cNvSpPr/>
          <p:nvPr/>
        </p:nvSpPr>
        <p:spPr>
          <a:xfrm>
            <a:off x="1261440" y="28947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芦叶船真好玩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4fd0d6107322f809b8127b51"/>
          <p:cNvPicPr/>
          <p:nvPr/>
        </p:nvPicPr>
        <p:blipFill>
          <a:blip r:embed="rId1"/>
          <a:stretch/>
        </p:blipFill>
        <p:spPr>
          <a:xfrm>
            <a:off x="3886200" y="1066680"/>
            <a:ext cx="4743360" cy="4552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隶书"/>
              </a:rPr>
              <a:t>自读课文，自学生字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，要求读准生字的音，边读边思考：课文讲了一件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7400" y="21337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喇  港  竖  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苇  崇  叭  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隶书"/>
                <a:ea typeface="隶书"/>
              </a:rPr>
              <a:t>桅  唾  沫  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13712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细读课文，理解感情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一想：课文讲了关于芦叶船的什么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再把自己感兴趣的内容多读几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838080" y="2514240"/>
            <a:ext cx="74678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同学们说说“我们”放芦叶船时产生过哪些联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会产生这些联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19320" y="14479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隶书"/>
              </a:rPr>
              <a:t>熟读课文，整体感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3T12:49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7:45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