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235E-FA5C-4EFB-9183-6E65F1325B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080C-B061-4682-8F31-E89D06CF45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1D9-94BA-46D8-B841-60E88B5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35A-5DC8-46ED-BABD-14985E1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7DC-E07A-45B5-A1B8-B8415FF6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4ED-9817-4B2D-8624-C7B205D6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DA6-2386-44C6-944A-07C2E01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CCD-8237-4154-A203-6E6F487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8A9-F483-4438-9440-DB881BE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FF9-24D3-4C09-98B5-F017BA3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337-D0BF-4212-8116-ED1C6A7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E48-DC2E-42B0-B695-70B9C08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1F8-8A1C-46E9-8043-A6A134F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1E5-DA5D-41D5-87DE-405CD118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093-298C-44B7-9F52-9C0A5C1A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9"/>
          <p:cNvSpPr txBox="1"/>
          <p:nvPr/>
        </p:nvSpPr>
        <p:spPr>
          <a:xfrm>
            <a:off x="1835280" y="2421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00000"/>
                </a:solidFill>
                <a:latin typeface="黑体"/>
              </a:rPr>
              <a:t>狼牙山五壮士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00000"/>
              </a:solidFill>
              <a:latin typeface="黑体"/>
              <a:ea typeface="黑体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96956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83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补充成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38080" y="2362320"/>
            <a:ext cx="7315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气（ ）山河     全神（ ）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斩钉（ ）铁     横七（ ）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居高（ ）下     昂首（ ）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2384280" y="585000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"/>
          <p:cNvSpPr/>
          <p:nvPr/>
        </p:nvSpPr>
        <p:spPr>
          <a:xfrm>
            <a:off x="0" y="83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按意思写成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62120" y="1981080"/>
            <a:ext cx="7986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比喻处理事情或说话坚决果断，毫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犹豫。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处在高处，俯视低处。形容所处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势有利。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形容气势十分雄壮。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71640" y="2492280"/>
            <a:ext cx="31482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4B73-188C-44FE-8C53-E92BAF017C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1"/>
          <p:cNvSpPr/>
          <p:nvPr/>
        </p:nvSpPr>
        <p:spPr>
          <a:xfrm>
            <a:off x="468360" y="981000"/>
            <a:ext cx="7920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狼牙山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狼牙山位于保定西北约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里的易县境内。因其群峰状似狼牙，直刺云天，故名狼牙山，为易州十景之一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狼牙竞秀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狼牙山东西、东南各长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里，面积为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2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平方公里。环山共有五坨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峰，主峰莲花瓣海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10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，西、北两面均为峭壁悬崖，山势险峻。东、南两面稍缓，各有一条羊肠小路通向主峰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闫王鼻子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鬼脸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险要之处非贴壁不可逾越。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棋盘陀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上有一小片开阔地，靠南面山崖旁有一棵古松，松下即是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棋盘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相传为神仙之遗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6877080" y="1844640"/>
            <a:ext cx="14414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马宝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948360" y="3213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宋学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948360" y="4005360"/>
            <a:ext cx="1676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德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948360" y="4941720"/>
            <a:ext cx="1676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福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877080" y="2492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葛振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狼牙山五壮士"/>
          <p:cNvPicPr/>
          <p:nvPr/>
        </p:nvPicPr>
        <p:blipFill>
          <a:blip r:embed="rId1"/>
          <a:stretch/>
        </p:blipFill>
        <p:spPr>
          <a:xfrm>
            <a:off x="900000" y="1844640"/>
            <a:ext cx="52628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90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自学生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080" y="20574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寇 晋 挥 葛 尸 悬</a:t>
            </a: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41148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崖 斩 磨 罢 豪 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547640" y="1700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ò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u    j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ì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n     hu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ī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ɡ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ĕ     shī   x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676520" y="3657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á    zhăn   mò    bà      háo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38120" y="1413000"/>
            <a:ext cx="8153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冀  批  挥  抡  绷  瞄  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坠 涧  拧  砸 叽 呱 嗖  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09520" y="80316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  pī    huī  lūn  bēng mi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  tu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ó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1800" y="30243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zhu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i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 n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í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g   z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ī  guā  sōu   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836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阅读课文，划分段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676520" y="1676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接受任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76520" y="2590920"/>
            <a:ext cx="6172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诱敌上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痛击敌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676520" y="4114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把敌人引上绝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676520" y="5105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四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英勇歼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676520" y="5943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五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7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壮烈跳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55640" y="1989000"/>
            <a:ext cx="838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组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先读一读学习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抓词句，谈谈五壮士的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壮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现在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有感情地读一读这些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合作学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11280" y="15573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辨字组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5280" y="2362320"/>
            <a:ext cx="6705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撤（ ）   晋（ ）   寇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撒（ ）   普（ ）   冠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棋（ ）   狠（ ）   冀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旗（ ）   恨（ ）   翼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期（ ）   痕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0" y="76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课后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8366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填适当的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38080" y="190512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山路   （  ）地瞄准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力气   （  ）地躺着尸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怒火   （  ）地完成任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喜悦   （  ）地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9:43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41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