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rtoon21.wav" ContentType="audio/x-wav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applause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0792-4EEA-40D0-86BD-4B4ECCD5FA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EF05-8B24-4B84-9132-DFA2E84E106A}" type="slidenum">
              <a:rPr b="0" lang="zh-CN" sz="1200" spc="-1" strike="noStrike">
                <a:solidFill>
                  <a:srgbClr val="2e4f5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D972-4F7C-4232-AE5F-21F9CA26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20BC9-873D-4AD0-8F8A-DD77E370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B7B01-1D93-4A5B-B14D-88050204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E6CF-BB6D-4B40-BBFF-F3D4B86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29D3-03B1-469D-9F99-5E0E5B14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822C-D58E-4DB1-873C-2F8C3DCB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2CDF6-D215-42D3-8485-89E52CA4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5D351-F873-4DB1-BEC4-19357872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32310-A940-4E1B-A952-5EDE7DDA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98E02-1856-40C5-92FC-7C28F863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62F73-A7E1-4A33-8544-43C9D2CD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CCD2-93EC-4CFF-8C9C-9437815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5731-A1FE-4E29-8A2D-CA5052A8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D3F49-6D49-4E9B-BD46-9D50E3AC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B4D5A-0157-41DF-8BDE-E9CF8131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022B0-2AC0-4C59-93EA-462AC83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AB2BF-A48F-486E-93EB-C0B8DDAD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05D05-6761-4C61-8790-5F8836F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74348-04C7-482D-8D26-85418866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AE151-C98A-4825-AB36-BFAC6D73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35DC0-59C3-4093-A382-A64E37D9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231A3-2CA1-4382-8FAA-409B43E6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45511-C094-450C-AAAC-2407D9E2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8FF38-A869-4DB4-ACBD-4222583A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2B16-AA08-4291-BAEA-EF7AFDA9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E3CE7-E922-4754-B148-662A6D60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335E1-FD6B-4922-9499-E8657AB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99A43-F35F-4494-A3BC-122D8453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AFF33-3DC1-4633-B0EC-E672922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008AA-E022-4C34-9504-EE4C8AC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6B1-8834-46D4-BDA5-E25B8FA8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27587-CC7A-49C5-86C2-0E531904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D3862-332D-46B8-8897-06F74305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9E299-F892-453C-B69A-D267F052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A203E-7DC2-468D-BC1B-B9233E20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DE6DD-B0CF-49AC-8F74-1EDC805E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3E56A-866F-402F-B5CE-98143000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DF64C-4B02-4B9B-97F2-4062A12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48AD6-B6F0-4CFA-B504-C5A93761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36664-D03F-4CFA-BD1C-79BB6FC3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D89FB-5E5D-48F0-81A5-964733B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FC6-96B4-49E9-83C4-34612002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80C24-09BD-48F7-B119-18992D68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CD60D-3181-4F9D-87A1-A8118F52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6C087-7E2E-4B49-AA73-9D8B0469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0B201-8B73-4DFE-9794-D8B79D29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D06A0-D83B-4795-9E4A-69DEF429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DDBFD-02A9-48A9-A971-E0EBC350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415FD-E29D-4615-AC82-EDB200CC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A7B6-BB98-4307-84A3-6AF1420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78CDB-A9A9-4DEB-A495-75278133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65B21-917C-4DA2-BDFA-6DC00CDB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C21-EA99-437E-AB39-7A797EB0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3CB3B-6E9A-46D2-9EEA-4BC86EB8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94984-11DB-4844-BC44-BE8F0C1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0719D-E158-4B23-9225-8C39BEF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10DE5-3382-4C5C-B198-CE0BF5EA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F0EF5-10EF-4BEE-8A27-2E08F0EB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C2C5-8A97-43BD-B536-71609F7E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692EA-88BC-4459-B43E-0FECC2A8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AA9F3-4C56-480C-938C-A81E97E0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14933-25B9-4FF5-A42B-04E2DA5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8A7D7-8DB8-416B-9E40-9C3A2C64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907-17D0-4BB5-8E1A-223AE4D1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47D63-6B27-43B7-BC0A-4F169F67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139F1-14D8-492A-81A4-CB9A4568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3BC84-1C37-46AD-84DA-2CF1BE02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5F13F-F475-436D-B0A6-2A149550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AD48E-FDBF-47D1-934A-8A8A276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BFF78-5340-4919-9C07-55EDD1B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FAD1A-08AD-40FE-BA7D-3E2CB4D0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39624-DA42-4FE7-8B2F-B9ADC5C7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A822D-A294-4011-AA41-D58B344C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7B55-12D0-4686-A711-17E29697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782-0C32-4491-AD92-CB125CF4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16E-5001-46DA-ACCD-24084C6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13F-E369-4AAE-B641-EB2D87CF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19E-76FB-4D11-9E7F-9879FD0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3C8-B160-4B22-80B6-1F15F954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7F1-521B-46FE-99A5-326C7D9F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772-49D0-40F6-BE52-0FDC5F0F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8892-63C8-4890-A4C0-5FF5BB28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5800-EA1C-4B39-98F6-D90F3638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FF20-2994-4B91-9376-6564EE9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3284-177D-48FC-A260-277FA09A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5DA7-F19E-4E42-B10B-814A568E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9181-3965-4A72-A843-D58167D5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E32E-018E-4340-B12D-12351659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CEBE-5707-4167-A7B0-1B50F929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09F3-FD35-46F6-996E-50C2984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9398-773F-439E-9935-40BEB37D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DAB6-8267-460B-9946-DADD7CF0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0CB3-AA66-4D19-B82C-25E1604C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AAF5-60C2-4257-B00E-B74D4814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6B4F-22B4-48C0-8363-640A0DEE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84B7-344B-4F0B-B869-576120E4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CE9A-996E-468E-83B3-0429A27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C344-389D-482A-B6CF-E87033F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EFBC-79C9-4B75-BA1A-FEE96777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F984-E6F9-43DD-8001-1235DE04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F8CF-9821-459F-AA45-65B593F3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DECF-1251-4825-9077-B5FE0D1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C776-252F-44F3-9DD3-7E14621F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6D6E-CDD4-43A0-B0DC-CE7FAA21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B86C-06CD-47E6-8F79-B3A11834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EF36-E325-41B4-9A00-317B5508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775C0-CCE2-490F-9BAF-C3BCF571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D6F1-C342-4318-92D0-B3B6E442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019E0-1970-4C30-B1DF-461CD9CA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9AC8-6922-4F0F-BD18-FF9E69A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11E8-470B-4DEE-8316-3CC4548C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B0F1-6881-4F38-87EA-4F12F24A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5E30-3139-41CC-B0B4-BDE9FBEB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0A9A-DFA7-4C4D-B6A3-66F1B47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AE03-1DA1-4872-914C-6FF09CFF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BE08-41FD-407E-9049-2224366E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F41E7-E219-4D73-99C4-54383F27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98A48-2E38-495A-8D70-788C57A1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3322-DC15-45AA-A134-3C52B487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E309-C828-493C-8D82-1D443695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7B840-08C5-49DF-9E26-BA4A862F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4D55-11BF-497E-B5ED-A3FD5C24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73B2-D762-4C0F-88CC-61F6292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7A3D8-B5D9-4D54-AE0D-D051B0A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7059-7BE4-4914-B299-02832C47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577D8-43DB-418F-ABC6-BE9F99F4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E718-336B-4D35-9C2F-CB7A4290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28DC4-3C5D-46D8-AE8F-97DD6DE1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3684-9A76-4D5C-B607-977BCA21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52D0-29E2-4B0B-B64F-72277A7C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E3BED-94D9-4424-89E0-89D917B2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E526E-C11A-4BD4-B040-0AE64F15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A6F79-5FA1-402D-B454-6BD3C6C1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4B722-3E54-4FB2-A2EF-86A02F13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8AA9-2C69-48F9-8465-B4FC9B45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E447-1175-47D1-AF15-8DCCE2F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5F2A-77E8-4BCE-B2E6-D73F155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C1536-0E14-4FF6-9BF2-CD2AA93C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956A-B959-4EB4-B9E3-8C18ACA3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2759-F881-4F52-8F9D-6A04ABB1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63DD9-8B61-4C93-BDF2-7CD2BA61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EAD42-A77D-48A2-8243-9730A1D2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9D08-9073-492C-8C5E-DEA5CC84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D6E5-69DA-4C67-A7DA-0D8762C4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6324-5A77-42AD-9E5A-DBA8F148F3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7A56-B7BC-4636-AE92-EEC557969E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760C-8EAF-4795-9121-71A5041397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45C6-868D-4152-A767-35A2DFD50C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1B62-C06E-41FC-AA69-C160A43F07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FE68-532D-4EC0-ABB6-E093CEAB4D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BCB-A5D6-4BC8-920E-BD10EF8C4B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5A3-20E8-4759-88EF-424551F383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DCF-48CC-4DAB-859A-61B53F67CB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6857-E819-4FD8-9BE6-0FEA35C289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99FC-349E-4B00-9592-464DAF3389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9F8F-A370-4550-9067-0E54FBBF8F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audio" Target="../media/Cartoon21.wav"/><Relationship Id="rId17" Type="http://schemas.openxmlformats.org/officeDocument/2006/relationships/audio" Target="../media/Cartoon21.wav"/><Relationship Id="rId18" Type="http://schemas.openxmlformats.org/officeDocument/2006/relationships/audio" Target="../media/Cartoon21.wav"/><Relationship Id="rId19" Type="http://schemas.openxmlformats.org/officeDocument/2006/relationships/audio" Target="../media/Cartoon21.wav"/><Relationship Id="rId20" Type="http://schemas.openxmlformats.org/officeDocument/2006/relationships/audio" Target="../media/Cartoon21.wav"/><Relationship Id="rId21" Type="http://schemas.openxmlformats.org/officeDocument/2006/relationships/audio" Target="../media/Cartoon21.wav"/><Relationship Id="rId22" Type="http://schemas.openxmlformats.org/officeDocument/2006/relationships/audio" Target="../media/Cartoon21.wav"/><Relationship Id="rId23" Type="http://schemas.openxmlformats.org/officeDocument/2006/relationships/audio" Target="../media/Cartoon21.wav"/><Relationship Id="rId24" Type="http://schemas.openxmlformats.org/officeDocument/2006/relationships/audio" Target="../media/Cartoon21.wav"/><Relationship Id="rId25" Type="http://schemas.openxmlformats.org/officeDocument/2006/relationships/audio" Target="../media/Cartoon21.wav"/><Relationship Id="rId26" Type="http://schemas.openxmlformats.org/officeDocument/2006/relationships/audio" Target="../media/Cartoon21.wav"/><Relationship Id="rId27" Type="http://schemas.openxmlformats.org/officeDocument/2006/relationships/audio" Target="../media/Cartoon21.wav"/><Relationship Id="rId28" Type="http://schemas.openxmlformats.org/officeDocument/2006/relationships/audio" Target="../media/applause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1332000" y="1628640"/>
            <a:ext cx="6624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500" spc="-1" strike="noStrike">
                <a:solidFill>
                  <a:srgbClr val="2e4f56"/>
                </a:solidFill>
                <a:latin typeface="隶书"/>
                <a:ea typeface="隶书"/>
              </a:rPr>
              <a:t>美的回答 </a:t>
            </a:r>
            <a:endParaRPr b="0" lang="en-US" sz="115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76" name="矩形 5"/>
          <p:cNvSpPr/>
          <p:nvPr/>
        </p:nvSpPr>
        <p:spPr>
          <a:xfrm>
            <a:off x="1823040" y="5732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33b41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233b41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233b41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2556000" y="476280"/>
            <a:ext cx="53337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f56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的回答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植树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种花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爱护燕子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保护青蛙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热爱大自然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自然就给我们美的回答：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间田野长满绿树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市乡村开遍鲜花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燕子为我们跳起舞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青蛙说我们顶呱呱</a:t>
            </a:r>
            <a:r>
              <a:rPr b="1" lang="zh-CN" sz="2400" spc="-1" strike="noStrike">
                <a:solidFill>
                  <a:srgbClr val="2e4f5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619280" y="476280"/>
            <a:ext cx="53341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f56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的回答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热爱大自然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自然就给我们美的回答：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间田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市乡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燕子为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青蛙说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2e4f5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2333520" y="476280"/>
            <a:ext cx="53341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f56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的回答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自然就给我们美的回答：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间田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市乡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燕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青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zh-CN" sz="2400" spc="-1" strike="noStrike">
                <a:solidFill>
                  <a:srgbClr val="2e4f5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19366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419366"/>
                </a:solidFill>
                <a:latin typeface="Verdana"/>
              </a:rPr>
              <a:t>认识词语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9366"/>
                </a:solidFill>
                <a:latin typeface="Verdana"/>
              </a:rPr>
              <a:t>回答               植树              种花  </a:t>
            </a:r>
            <a:endParaRPr b="0" lang="en-US" sz="36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9366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9366"/>
                </a:solidFill>
                <a:latin typeface="Verdana"/>
              </a:rPr>
              <a:t>青蛙              就是              田野  </a:t>
            </a:r>
            <a:endParaRPr b="0" lang="en-US" sz="36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9366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9366"/>
                </a:solidFill>
                <a:latin typeface="Verdana"/>
              </a:rPr>
              <a:t>自然               乡村              保护 </a:t>
            </a:r>
            <a:endParaRPr b="0" lang="en-US" sz="36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93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9366"/>
                </a:solidFill>
                <a:latin typeface="Verdana"/>
              </a:rPr>
              <a:t>顶呱呱           城市</a:t>
            </a:r>
            <a:endParaRPr b="0" lang="en-US" sz="36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Verdana"/>
              </a:rPr>
              <a:t>思考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“</a:t>
            </a:r>
            <a:r>
              <a:rPr b="0" lang="zh-CN" sz="2800" spc="-1" strike="noStrike">
                <a:solidFill>
                  <a:srgbClr val="419366"/>
                </a:solidFill>
                <a:latin typeface="Verdana"/>
              </a:rPr>
              <a:t>我们”做了什么？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19366"/>
                </a:solidFill>
                <a:latin typeface="Verdana"/>
              </a:rPr>
              <a:t>植树    种花    爱护燕子    保护青蛙 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19366"/>
                </a:solidFill>
                <a:latin typeface="Verdana"/>
              </a:rPr>
              <a:t>人们付出了劳动，付出了爱心。结果怎样？ 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19366"/>
                </a:solidFill>
                <a:latin typeface="Verdana"/>
              </a:rPr>
              <a:t>长满绿树                开遍鲜花       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19366"/>
                </a:solidFill>
                <a:latin typeface="Verdana"/>
              </a:rPr>
              <a:t>为我们跳舞            说我们顶呱呱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4"/>
          <p:cNvSpPr/>
          <p:nvPr/>
        </p:nvSpPr>
        <p:spPr>
          <a:xfrm>
            <a:off x="2627280" y="33480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e4f56"/>
                </a:solidFill>
                <a:latin typeface="Times New Roman"/>
              </a:rPr>
              <a:t>问答读书</a:t>
            </a: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332000" y="1413000"/>
            <a:ext cx="640872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b66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甲：我们植树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66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乙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66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甲：我们种花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66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乙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66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甲：我们保护燕子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66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乙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66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甲：我们爱护青蛙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66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乙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571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Verdana"/>
              </a:rPr>
              <a:t>扩展想象</a:t>
            </a:r>
            <a:r>
              <a:rPr b="1" lang="zh-CN" sz="3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99640" y="2276280"/>
            <a:ext cx="55422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9366"/>
                </a:solidFill>
                <a:latin typeface="Verdana"/>
              </a:rPr>
              <a:t>我们还能为大自然做哪些事？大自然又会给我们哪些美的回答？ </a:t>
            </a:r>
            <a:endParaRPr b="0" lang="en-US" sz="40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80" name="文本框 1"/>
          <p:cNvSpPr/>
          <p:nvPr/>
        </p:nvSpPr>
        <p:spPr>
          <a:xfrm>
            <a:off x="1042920" y="520560"/>
            <a:ext cx="74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4f56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2e4f56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2e4f56"/>
                </a:solidFill>
                <a:latin typeface="Times New Roman"/>
              </a:rPr>
              <a:t>模板尽在：</a:t>
            </a:r>
            <a:r>
              <a:rPr b="0" lang="zh-CN" sz="2000" spc="-1" strike="noStrike">
                <a:solidFill>
                  <a:srgbClr val="2e4f56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图片 5" descr="logo.png"/>
          <p:cNvPicPr/>
          <p:nvPr/>
        </p:nvPicPr>
        <p:blipFill>
          <a:blip r:embed="rId2"/>
          <a:stretch/>
        </p:blipFill>
        <p:spPr>
          <a:xfrm>
            <a:off x="0" y="0"/>
            <a:ext cx="1015920" cy="3808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8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33498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200612261782115"/>
          <p:cNvPicPr/>
          <p:nvPr/>
        </p:nvPicPr>
        <p:blipFill>
          <a:blip r:embed="rId4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无标题"/>
          <p:cNvPicPr/>
          <p:nvPr/>
        </p:nvPicPr>
        <p:blipFill>
          <a:blip r:embed="rId5"/>
          <a:stretch/>
        </p:blipFill>
        <p:spPr>
          <a:xfrm>
            <a:off x="0" y="335772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8" descr="200831395520535"/>
          <p:cNvPicPr/>
          <p:nvPr/>
        </p:nvPicPr>
        <p:blipFill>
          <a:blip r:embed="rId6"/>
          <a:stretch/>
        </p:blipFill>
        <p:spPr>
          <a:xfrm>
            <a:off x="4500720" y="3284640"/>
            <a:ext cx="46432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2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200" spc="-1" strike="noStrike" u="sng">
                <a:solidFill>
                  <a:srgbClr val="b66d48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b66d48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2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2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b66d48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e4f5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B2FD-AFCF-4583-A659-CA4DFA4896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7" name="AutoShape 6"/>
          <p:cNvCxnSpPr>
            <a:stCxn id="578" idx="2"/>
            <a:endCxn id="579" idx="1"/>
          </p:cNvCxnSpPr>
          <p:nvPr/>
        </p:nvCxnSpPr>
        <p:spPr>
          <a:xfrm flipH="1">
            <a:off x="1753560" y="1857240"/>
            <a:ext cx="2113560" cy="4269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80" name="WordArt 2"/>
          <p:cNvSpPr txBox="1"/>
          <p:nvPr/>
        </p:nvSpPr>
        <p:spPr>
          <a:xfrm>
            <a:off x="324000" y="333360"/>
            <a:ext cx="7084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今天我们的学习目标：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39528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e4f5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2e4f56"/>
                </a:solidFill>
                <a:latin typeface="Arial"/>
              </a:rPr>
              <a:t>、会认、会读</a:t>
            </a:r>
            <a:r>
              <a:rPr b="0" lang="en-US" sz="3200" spc="-1" strike="noStrike">
                <a:solidFill>
                  <a:srgbClr val="2e4f56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2e4f56"/>
                </a:solidFill>
                <a:latin typeface="Arial"/>
              </a:rPr>
              <a:t>个生字，并能组词。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404640" y="3494160"/>
            <a:ext cx="73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e4f56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2e4f56"/>
                </a:solidFill>
                <a:latin typeface="Arial"/>
              </a:rPr>
              <a:t>、能正确流利的朗读课文，背诵课文。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754280" y="5715000"/>
            <a:ext cx="76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e4f56"/>
                </a:solidFill>
                <a:latin typeface="Arial"/>
                <a:ea typeface="黑体"/>
              </a:rPr>
              <a:t>小朋友，你有信心完成吗？</a:t>
            </a:r>
            <a:endParaRPr b="0" lang="en-US" sz="4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7238880" y="3429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e4f5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5"/>
          <p:cNvSpPr/>
          <p:nvPr/>
        </p:nvSpPr>
        <p:spPr>
          <a:xfrm>
            <a:off x="380880" y="765000"/>
            <a:ext cx="83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学指导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2e4f56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4f56"/>
                </a:solidFill>
                <a:latin typeface="Arial"/>
              </a:rPr>
              <a:t>大声齐读课文一遍，再自由读两遍</a:t>
            </a:r>
            <a:r>
              <a:rPr b="0" lang="zh-CN" sz="3600" spc="-1" strike="noStrike">
                <a:solidFill>
                  <a:srgbClr val="2e4f56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4f56"/>
                </a:solidFill>
                <a:latin typeface="Arial"/>
              </a:rPr>
              <a:t>要求</a:t>
            </a:r>
            <a:r>
              <a:rPr b="0" lang="zh-CN" sz="3600" spc="-1" strike="noStrike">
                <a:solidFill>
                  <a:srgbClr val="2e4f56"/>
                </a:solidFill>
                <a:latin typeface="Arial"/>
              </a:rPr>
              <a:t>：坐姿端正，声音洪亮，眼睛看书，    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e4f56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2e4f56"/>
                </a:solidFill>
                <a:latin typeface="Arial"/>
              </a:rPr>
              <a:t>右手点字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e4f56"/>
                </a:solidFill>
                <a:latin typeface="Arial"/>
              </a:rPr>
              <a:t>时间：</a:t>
            </a:r>
            <a:r>
              <a:rPr b="0" lang="zh-CN" sz="3600" spc="-1" strike="noStrike">
                <a:solidFill>
                  <a:srgbClr val="2e4f56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2e4f56"/>
                </a:solidFill>
                <a:latin typeface="Arial"/>
              </a:rPr>
              <a:t>分钟，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5"/>
          <p:cNvSpPr/>
          <p:nvPr/>
        </p:nvSpPr>
        <p:spPr>
          <a:xfrm>
            <a:off x="371520" y="627120"/>
            <a:ext cx="877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学指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2e4f56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e4f56"/>
                </a:solidFill>
                <a:latin typeface="Arial"/>
              </a:rPr>
              <a:t>在课文中圈出黑板上的字，并每词大声朗读三遍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f56"/>
                </a:solidFill>
                <a:latin typeface="Arial"/>
              </a:rPr>
              <a:t>要求</a:t>
            </a:r>
            <a:r>
              <a:rPr b="0" lang="zh-CN" sz="4000" spc="-1" strike="noStrike">
                <a:solidFill>
                  <a:srgbClr val="2e4f56"/>
                </a:solidFill>
                <a:latin typeface="Arial"/>
              </a:rPr>
              <a:t>：坐姿端正，独立完成，时间</a:t>
            </a:r>
            <a:r>
              <a:rPr b="0" lang="zh-CN" sz="4000" spc="-1" strike="noStrike">
                <a:solidFill>
                  <a:srgbClr val="2e4f56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2e4f56"/>
                </a:solidFill>
                <a:latin typeface="Arial"/>
              </a:rPr>
              <a:t>分钟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 rot="11002800">
            <a:off x="3492360" y="1191240"/>
            <a:ext cx="7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e4f5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900000" y="1844640"/>
            <a:ext cx="799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692280" y="1916280"/>
            <a:ext cx="7740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树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花        爱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保    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大自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野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城     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村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呱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给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466560" y="1052640"/>
            <a:ext cx="8425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e4f56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2e4f56"/>
                </a:solidFill>
                <a:latin typeface="Times New Roman"/>
              </a:rPr>
              <a:t>dá        zhí        zhòng         hù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e4f56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2e4f56"/>
                </a:solidFill>
                <a:latin typeface="Times New Roman"/>
              </a:rPr>
              <a:t>bǎo  hù       wā           rán      yě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e4f56"/>
                </a:solidFill>
                <a:latin typeface="Times New Roman"/>
              </a:rPr>
              <a:t>chéng  shì  xiāng  dǐng  guā      jiù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2"/>
          <p:cNvSpPr/>
          <p:nvPr/>
        </p:nvSpPr>
        <p:spPr>
          <a:xfrm>
            <a:off x="125892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 rot="11002800">
            <a:off x="3492360" y="1191240"/>
            <a:ext cx="7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e4f5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900000" y="692280"/>
            <a:ext cx="18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字词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900000" y="1844640"/>
            <a:ext cx="7991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植（）                 种（）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爱护（）             保（）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答（）                 长（）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蛙（）                 城（）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呱（）                 乡（）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野（）                 市（）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美（）                 就（）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32"/>
          <p:cNvSpPr/>
          <p:nvPr/>
        </p:nvSpPr>
        <p:spPr>
          <a:xfrm>
            <a:off x="3416040" y="62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植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95" name="Text Box 33"/>
          <p:cNvSpPr/>
          <p:nvPr/>
        </p:nvSpPr>
        <p:spPr>
          <a:xfrm>
            <a:off x="3796200" y="5943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乡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4100760" y="5486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呱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97" name="Text Box 93"/>
          <p:cNvSpPr/>
          <p:nvPr/>
        </p:nvSpPr>
        <p:spPr>
          <a:xfrm>
            <a:off x="4357800" y="51055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答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916360" y="1673280"/>
            <a:ext cx="4321080" cy="5184360"/>
            <a:chOff x="2916360" y="1673280"/>
            <a:chExt cx="4321080" cy="5184360"/>
          </a:xfrm>
        </p:grpSpPr>
        <p:grpSp>
          <p:nvGrpSpPr>
            <p:cNvPr id="599" name="Group 7"/>
            <p:cNvGrpSpPr/>
            <p:nvPr/>
          </p:nvGrpSpPr>
          <p:grpSpPr>
            <a:xfrm>
              <a:off x="2916360" y="4265640"/>
              <a:ext cx="2160720" cy="2592000"/>
              <a:chOff x="2916360" y="4265640"/>
              <a:chExt cx="2160720" cy="2592000"/>
            </a:xfrm>
          </p:grpSpPr>
          <p:grpSp>
            <p:nvGrpSpPr>
              <p:cNvPr id="600" name="Group 8"/>
              <p:cNvGrpSpPr/>
              <p:nvPr/>
            </p:nvGrpSpPr>
            <p:grpSpPr>
              <a:xfrm>
                <a:off x="2916360" y="6413040"/>
                <a:ext cx="370800" cy="444600"/>
                <a:chOff x="2916360" y="6413040"/>
                <a:chExt cx="370800" cy="444600"/>
              </a:xfrm>
            </p:grpSpPr>
            <p:sp>
              <p:nvSpPr>
                <p:cNvPr id="601" name="Line 5"/>
                <p:cNvSpPr/>
                <p:nvPr/>
              </p:nvSpPr>
              <p:spPr>
                <a:xfrm>
                  <a:off x="2916360" y="641304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Line 7"/>
                <p:cNvSpPr/>
                <p:nvPr/>
              </p:nvSpPr>
              <p:spPr>
                <a:xfrm flipH="1">
                  <a:off x="2916360" y="641304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1"/>
              <p:cNvGrpSpPr/>
              <p:nvPr/>
            </p:nvGrpSpPr>
            <p:grpSpPr>
              <a:xfrm>
                <a:off x="3286440" y="6005880"/>
                <a:ext cx="370800" cy="444600"/>
                <a:chOff x="3286440" y="6005880"/>
                <a:chExt cx="370800" cy="444600"/>
              </a:xfrm>
            </p:grpSpPr>
            <p:sp>
              <p:nvSpPr>
                <p:cNvPr id="604" name="Line 10"/>
                <p:cNvSpPr/>
                <p:nvPr/>
              </p:nvSpPr>
              <p:spPr>
                <a:xfrm>
                  <a:off x="3286440" y="600588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Line 11"/>
                <p:cNvSpPr/>
                <p:nvPr/>
              </p:nvSpPr>
              <p:spPr>
                <a:xfrm flipH="1">
                  <a:off x="3286440" y="60058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4"/>
              <p:cNvGrpSpPr/>
              <p:nvPr/>
            </p:nvGrpSpPr>
            <p:grpSpPr>
              <a:xfrm>
                <a:off x="3625920" y="5598360"/>
                <a:ext cx="370800" cy="444600"/>
                <a:chOff x="3625920" y="5598360"/>
                <a:chExt cx="370800" cy="444600"/>
              </a:xfrm>
            </p:grpSpPr>
            <p:sp>
              <p:nvSpPr>
                <p:cNvPr id="607" name="Line 13"/>
                <p:cNvSpPr/>
                <p:nvPr/>
              </p:nvSpPr>
              <p:spPr>
                <a:xfrm>
                  <a:off x="3625920" y="559836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Line 14"/>
                <p:cNvSpPr/>
                <p:nvPr/>
              </p:nvSpPr>
              <p:spPr>
                <a:xfrm flipH="1">
                  <a:off x="3625920" y="559836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7"/>
              <p:cNvGrpSpPr/>
              <p:nvPr/>
            </p:nvGrpSpPr>
            <p:grpSpPr>
              <a:xfrm>
                <a:off x="3997080" y="5154480"/>
                <a:ext cx="370800" cy="444600"/>
                <a:chOff x="3997080" y="5154480"/>
                <a:chExt cx="370800" cy="444600"/>
              </a:xfrm>
            </p:grpSpPr>
            <p:sp>
              <p:nvSpPr>
                <p:cNvPr id="610" name="Line 16"/>
                <p:cNvSpPr/>
                <p:nvPr/>
              </p:nvSpPr>
              <p:spPr>
                <a:xfrm>
                  <a:off x="3997080" y="515448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Line 17"/>
                <p:cNvSpPr/>
                <p:nvPr/>
              </p:nvSpPr>
              <p:spPr>
                <a:xfrm flipH="1">
                  <a:off x="3997080" y="51544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20"/>
              <p:cNvGrpSpPr/>
              <p:nvPr/>
            </p:nvGrpSpPr>
            <p:grpSpPr>
              <a:xfrm>
                <a:off x="4336560" y="4710240"/>
                <a:ext cx="370800" cy="444960"/>
                <a:chOff x="4336560" y="4710240"/>
                <a:chExt cx="370800" cy="444960"/>
              </a:xfrm>
            </p:grpSpPr>
            <p:sp>
              <p:nvSpPr>
                <p:cNvPr id="613" name="Line 19"/>
                <p:cNvSpPr/>
                <p:nvPr/>
              </p:nvSpPr>
              <p:spPr>
                <a:xfrm>
                  <a:off x="4336560" y="4710240"/>
                  <a:ext cx="0" cy="44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Line 20"/>
                <p:cNvSpPr/>
                <p:nvPr/>
              </p:nvSpPr>
              <p:spPr>
                <a:xfrm flipH="1">
                  <a:off x="4336560" y="471024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23"/>
              <p:cNvGrpSpPr/>
              <p:nvPr/>
            </p:nvGrpSpPr>
            <p:grpSpPr>
              <a:xfrm>
                <a:off x="4706280" y="4265640"/>
                <a:ext cx="370800" cy="444600"/>
                <a:chOff x="4706280" y="4265640"/>
                <a:chExt cx="370800" cy="444600"/>
              </a:xfrm>
            </p:grpSpPr>
            <p:sp>
              <p:nvSpPr>
                <p:cNvPr id="616" name="Line 22"/>
                <p:cNvSpPr/>
                <p:nvPr/>
              </p:nvSpPr>
              <p:spPr>
                <a:xfrm>
                  <a:off x="4706280" y="426564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Line 23"/>
                <p:cNvSpPr/>
                <p:nvPr/>
              </p:nvSpPr>
              <p:spPr>
                <a:xfrm flipH="1">
                  <a:off x="4706280" y="426564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8" name="Group 26"/>
            <p:cNvGrpSpPr/>
            <p:nvPr/>
          </p:nvGrpSpPr>
          <p:grpSpPr>
            <a:xfrm>
              <a:off x="5077080" y="1673280"/>
              <a:ext cx="2160360" cy="2592000"/>
              <a:chOff x="5077080" y="1673280"/>
              <a:chExt cx="2160360" cy="2592000"/>
            </a:xfrm>
          </p:grpSpPr>
          <p:grpSp>
            <p:nvGrpSpPr>
              <p:cNvPr id="619" name="Group 27"/>
              <p:cNvGrpSpPr/>
              <p:nvPr/>
            </p:nvGrpSpPr>
            <p:grpSpPr>
              <a:xfrm>
                <a:off x="5077080" y="3820680"/>
                <a:ext cx="370800" cy="444600"/>
                <a:chOff x="5077080" y="3820680"/>
                <a:chExt cx="370800" cy="444600"/>
              </a:xfrm>
            </p:grpSpPr>
            <p:sp>
              <p:nvSpPr>
                <p:cNvPr id="620" name="Line 75"/>
                <p:cNvSpPr/>
                <p:nvPr/>
              </p:nvSpPr>
              <p:spPr>
                <a:xfrm>
                  <a:off x="5077080" y="382068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Line 76"/>
                <p:cNvSpPr/>
                <p:nvPr/>
              </p:nvSpPr>
              <p:spPr>
                <a:xfrm flipH="1">
                  <a:off x="5077080" y="38206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Group 30"/>
              <p:cNvGrpSpPr/>
              <p:nvPr/>
            </p:nvGrpSpPr>
            <p:grpSpPr>
              <a:xfrm>
                <a:off x="5447160" y="3413520"/>
                <a:ext cx="370800" cy="444600"/>
                <a:chOff x="5447160" y="3413520"/>
                <a:chExt cx="370800" cy="444600"/>
              </a:xfrm>
            </p:grpSpPr>
            <p:sp>
              <p:nvSpPr>
                <p:cNvPr id="623" name="Line 78"/>
                <p:cNvSpPr/>
                <p:nvPr/>
              </p:nvSpPr>
              <p:spPr>
                <a:xfrm>
                  <a:off x="5447160" y="341352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79"/>
                <p:cNvSpPr/>
                <p:nvPr/>
              </p:nvSpPr>
              <p:spPr>
                <a:xfrm flipH="1">
                  <a:off x="5447160" y="341352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Group 33"/>
              <p:cNvGrpSpPr/>
              <p:nvPr/>
            </p:nvGrpSpPr>
            <p:grpSpPr>
              <a:xfrm>
                <a:off x="5786640" y="3006000"/>
                <a:ext cx="370800" cy="444600"/>
                <a:chOff x="5786640" y="3006000"/>
                <a:chExt cx="370800" cy="444600"/>
              </a:xfrm>
            </p:grpSpPr>
            <p:sp>
              <p:nvSpPr>
                <p:cNvPr id="626" name="Line 81"/>
                <p:cNvSpPr/>
                <p:nvPr/>
              </p:nvSpPr>
              <p:spPr>
                <a:xfrm>
                  <a:off x="5786640" y="300600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Line 82"/>
                <p:cNvSpPr/>
                <p:nvPr/>
              </p:nvSpPr>
              <p:spPr>
                <a:xfrm flipH="1">
                  <a:off x="5786640" y="300600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36"/>
              <p:cNvGrpSpPr/>
              <p:nvPr/>
            </p:nvGrpSpPr>
            <p:grpSpPr>
              <a:xfrm>
                <a:off x="6157440" y="2562120"/>
                <a:ext cx="370800" cy="444600"/>
                <a:chOff x="6157440" y="2562120"/>
                <a:chExt cx="370800" cy="444600"/>
              </a:xfrm>
            </p:grpSpPr>
            <p:sp>
              <p:nvSpPr>
                <p:cNvPr id="629" name="Line 84"/>
                <p:cNvSpPr/>
                <p:nvPr/>
              </p:nvSpPr>
              <p:spPr>
                <a:xfrm>
                  <a:off x="6157440" y="256212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85"/>
                <p:cNvSpPr/>
                <p:nvPr/>
              </p:nvSpPr>
              <p:spPr>
                <a:xfrm flipH="1">
                  <a:off x="6157440" y="256212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Group 39"/>
              <p:cNvGrpSpPr/>
              <p:nvPr/>
            </p:nvGrpSpPr>
            <p:grpSpPr>
              <a:xfrm>
                <a:off x="6496920" y="2117880"/>
                <a:ext cx="370800" cy="444960"/>
                <a:chOff x="6496920" y="2117880"/>
                <a:chExt cx="370800" cy="444960"/>
              </a:xfrm>
            </p:grpSpPr>
            <p:sp>
              <p:nvSpPr>
                <p:cNvPr id="632" name="Line 87"/>
                <p:cNvSpPr/>
                <p:nvPr/>
              </p:nvSpPr>
              <p:spPr>
                <a:xfrm>
                  <a:off x="6496920" y="2117880"/>
                  <a:ext cx="0" cy="44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88"/>
                <p:cNvSpPr/>
                <p:nvPr/>
              </p:nvSpPr>
              <p:spPr>
                <a:xfrm flipH="1">
                  <a:off x="6496920" y="21178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Group 42"/>
              <p:cNvGrpSpPr/>
              <p:nvPr/>
            </p:nvGrpSpPr>
            <p:grpSpPr>
              <a:xfrm>
                <a:off x="6866640" y="1673280"/>
                <a:ext cx="370800" cy="444600"/>
                <a:chOff x="6866640" y="1673280"/>
                <a:chExt cx="370800" cy="444600"/>
              </a:xfrm>
            </p:grpSpPr>
            <p:sp>
              <p:nvSpPr>
                <p:cNvPr id="635" name="Line 90"/>
                <p:cNvSpPr/>
                <p:nvPr/>
              </p:nvSpPr>
              <p:spPr>
                <a:xfrm>
                  <a:off x="6866640" y="1673280"/>
                  <a:ext cx="0" cy="44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91"/>
                <p:cNvSpPr/>
                <p:nvPr/>
              </p:nvSpPr>
              <p:spPr>
                <a:xfrm flipH="1">
                  <a:off x="6866640" y="1673280"/>
                  <a:ext cx="3708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600" spc="-1" strike="noStrike">
                    <a:solidFill>
                      <a:srgbClr val="2e4f5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7" name="Text Box 94"/>
          <p:cNvSpPr/>
          <p:nvPr/>
        </p:nvSpPr>
        <p:spPr>
          <a:xfrm>
            <a:off x="478656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护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38" name="Text Box 95"/>
          <p:cNvSpPr/>
          <p:nvPr/>
        </p:nvSpPr>
        <p:spPr>
          <a:xfrm>
            <a:off x="516780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野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39" name="Text Box 96"/>
          <p:cNvSpPr/>
          <p:nvPr/>
        </p:nvSpPr>
        <p:spPr>
          <a:xfrm>
            <a:off x="554868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市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40" name="Text Box 97"/>
          <p:cNvSpPr/>
          <p:nvPr/>
        </p:nvSpPr>
        <p:spPr>
          <a:xfrm>
            <a:off x="5929560" y="3352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保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41" name="Text Box 98"/>
          <p:cNvSpPr/>
          <p:nvPr/>
        </p:nvSpPr>
        <p:spPr>
          <a:xfrm>
            <a:off x="6234480" y="2971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种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42" name="Text Box 99"/>
          <p:cNvSpPr/>
          <p:nvPr/>
        </p:nvSpPr>
        <p:spPr>
          <a:xfrm>
            <a:off x="6691680" y="2514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顶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43" name="Text Box 100"/>
          <p:cNvSpPr/>
          <p:nvPr/>
        </p:nvSpPr>
        <p:spPr>
          <a:xfrm>
            <a:off x="707256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蛙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44" name="Text Box 101"/>
          <p:cNvSpPr/>
          <p:nvPr/>
        </p:nvSpPr>
        <p:spPr>
          <a:xfrm>
            <a:off x="7377480" y="1676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f56"/>
                </a:solidFill>
                <a:latin typeface="Times New Roman"/>
                <a:ea typeface="仿宋"/>
              </a:rPr>
              <a:t>就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pic>
        <p:nvPicPr>
          <p:cNvPr id="645" name="Picture 109" descr="月亮"/>
          <p:cNvPicPr/>
          <p:nvPr/>
        </p:nvPicPr>
        <p:blipFill>
          <a:blip r:embed="rId2"/>
          <a:stretch/>
        </p:blipFill>
        <p:spPr>
          <a:xfrm>
            <a:off x="-34920" y="174600"/>
            <a:ext cx="2320920" cy="19288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19" descr="猴子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286000" y="609588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20" descr="猴子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627280" y="5589720"/>
            <a:ext cx="633600" cy="761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21" descr="猴子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3048120" y="525780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22" descr="猴子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433680" y="4797360"/>
            <a:ext cx="633600" cy="7621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23" descr="猴子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780000" y="436572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24" descr="猴子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154400" y="3962520"/>
            <a:ext cx="633600" cy="7617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25" descr="猴子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4514760" y="3459240"/>
            <a:ext cx="633600" cy="761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6" descr="猴子"/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4932360" y="302724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27" descr="猴子"/>
          <p:cNvPicPr/>
          <p:nvPr/>
        </p:nvPicPr>
        <p:blipFill>
          <a:blip r:embed="rId11">
            <a:lum bright="-6000"/>
          </a:blip>
          <a:stretch/>
        </p:blipFill>
        <p:spPr>
          <a:xfrm>
            <a:off x="5234040" y="263700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39" descr="猴子"/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5594400" y="223524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40" descr="猴子"/>
          <p:cNvPicPr/>
          <p:nvPr/>
        </p:nvPicPr>
        <p:blipFill>
          <a:blip r:embed="rId13">
            <a:lum bright="-6000"/>
          </a:blip>
          <a:stretch/>
        </p:blipFill>
        <p:spPr>
          <a:xfrm>
            <a:off x="5954760" y="177336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1" descr="猴子"/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6300720" y="1341360"/>
            <a:ext cx="633600" cy="7621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42" descr="猴子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6732720" y="907920"/>
            <a:ext cx="633240" cy="762120"/>
          </a:xfrm>
          <a:prstGeom prst="rect">
            <a:avLst/>
          </a:prstGeom>
          <a:ln w="0">
            <a:noFill/>
          </a:ln>
        </p:spPr>
      </p:pic>
      <p:sp>
        <p:nvSpPr>
          <p:cNvPr id="659" name="TextBox 68"/>
          <p:cNvSpPr/>
          <p:nvPr/>
        </p:nvSpPr>
        <p:spPr>
          <a:xfrm>
            <a:off x="1676520" y="609480"/>
            <a:ext cx="50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仿宋"/>
              </a:rPr>
              <a:t>游戏：小猴子爬楼梯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toon21.wav"/>
                                        </p:tgtEl>
                                      </p:cMediaNode>
                                    </p:audio>
                                    <p:animMotion origin="layout" path="M 3.61111E-006 -4.44444E-006 C 0.00364 -0.00972 0.01545 -0.04513 0.02257 -0.05601 C 0.02951 -0.06643 0.03802 -0.06365 0.04218 -0.06597 E">
                                      <p:cBhvr>
                                        <p:cTn id="24" dur="1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toon21.wav"/>
                                        </p:tgtEl>
                                      </p:cMediaNode>
                                    </p:audio>
                                    <p:animMotion origin="layout" path="M -1.11111E-006 1.11022E-016 C 0.00365 -0.0088 0.01615 -0.04074 0.02344 -0.05046 C 0.03073 -0.05995 0.03958 -0.05741 0.0441 -0.05949 E">
                                      <p:cBhvr>
                                        <p:cTn id="33" dur="1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toon21.wav"/>
                                        </p:tgtEl>
                                      </p:cMediaNode>
                                    </p:audio>
                                    <p:animMotion origin="layout" path="M 0.00312 -0.00254 C 0.00677 -0.01227 0.01857 -0.04745 0.02587 -0.0581 C 0.03281 -0.06852 0.04132 -0.06574 0.04566 -0.06805 E">
                                      <p:cBhvr>
                                        <p:cTn id="44" dur="1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toon21.wav"/>
                                        </p:tgtEl>
                                      </p:cMediaNode>
                                    </p:audio>
                                    <p:animMotion origin="layout" path="M 0.00642 -0.0051 C 0.01007 -0.01482 0.02204 -0.05 0.02916 -0.06088 C 0.03628 -0.0713 0.04479 -0.06852 0.04913 -0.07084 E">
                                      <p:cBhvr>
                                        <p:cTn id="55" dur="1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toon21.wav"/>
                                        </p:tgtEl>
                                      </p:cMediaNode>
                                    </p:audio>
                                    <p:animMotion origin="layout" path="M -1.38889E-006 7.40741E-007 C 0.00278 -0.0088 0.01198 -0.03958 0.01754 -0.04931 C 0.02292 -0.05833 0.02952 -0.05602 0.03299 -0.0581 E">
                                      <p:cBhvr>
                                        <p:cTn id="66" dur="1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toon21.wav"/>
                                        </p:tgtEl>
                                      </p:cMediaNode>
                                    </p:audio>
                                    <p:animMotion origin="layout" path="M -0.00469 0.0007 C -0.00104 -0.0081 0.01076 -0.03981 0.01805 -0.04953 C 0.025 -0.05902 0.03351 -0.05648 0.03785 -0.05856 E">
                                      <p:cBhvr>
                                        <p:cTn id="77" dur="1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toon21.wav"/>
                                        </p:tgtEl>
                                      </p:cMediaNode>
                                    </p:audio>
                                    <p:animMotion origin="layout" path="M -1.11111E-006 -3.7037E-006 C 0.00399 -0.00879 0.01719 -0.04074 0.02517 -0.05046 C 0.03299 -0.05995 0.04254 -0.0574 0.04722 -0.05949 E">
                                      <p:cBhvr>
                                        <p:cTn id="88" dur="1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toon21.wav"/>
                                        </p:tgtEl>
                                      </p:cMediaNode>
                                    </p:audio>
                                    <p:animMotion origin="layout" path="M 0.00156 0.00347 C 0.00468 -0.00533 0.01475 -0.03727 0.02083 -0.04699 C 0.02691 -0.05648 0.0342 -0.05394 0.03784 -0.05602 E">
                                      <p:cBhvr>
                                        <p:cTn id="99" dur="1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toon21.wav"/>
                                        </p:tgtEl>
                                      </p:cMediaNode>
                                    </p:audio>
                                    <p:animMotion origin="layout" path="M 0.00486 0.00093 C 0.00851 -0.0088 0.02049 -0.04398 0.02761 -0.05463 C 0.03473 -0.06505 0.04323 -0.06227 0.04757 -0.06458 E">
                                      <p:cBhvr>
                                        <p:cTn id="110" dur="1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toon21.wav"/>
                                        </p:tgtEl>
                                      </p:cMediaNode>
                                    </p:audio>
                                    <p:animMotion origin="layout" path="M 0.0033 -0.00602 C 0.00695 -0.01481 0.01893 -0.04676 0.02605 -0.05648 C 0.03316 -0.06597 0.04167 -0.06342 0.04601 -0.06551 E">
                                      <p:cBhvr>
                                        <p:cTn id="121" dur="1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toon21.wav"/>
                                        </p:tgtEl>
                                      </p:cMediaNode>
                                    </p:audio>
                                    <p:animMotion origin="layout" path="M 0.00659 0.00185 C 0.00955 -0.00787 0.01927 -0.04306 0.025 -0.05394 C 0.03073 -0.06435 0.03784 -0.06158 0.04132 -0.06389 E">
                                      <p:cBhvr>
                                        <p:cTn id="132" dur="1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toon21.wav"/>
                                        </p:tgtEl>
                                      </p:cMediaNode>
                                    </p:audio>
                                    <p:animMotion origin="layout" path="M 0.00347 -0.00092 C 0.00712 -0.01064 0.01962 -0.04583 0.02691 -0.05671 C 0.0342 -0.06713 0.04305 -0.06435 0.04757 -0.06666 E">
                                      <p:cBhvr>
                                        <p:cTn id="144" dur="1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5"/>
          <p:cNvSpPr/>
          <p:nvPr/>
        </p:nvSpPr>
        <p:spPr>
          <a:xfrm>
            <a:off x="357120" y="523800"/>
            <a:ext cx="846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学指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2e4f56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f56"/>
                </a:solidFill>
                <a:latin typeface="Arial"/>
              </a:rPr>
              <a:t>标出书上</a:t>
            </a:r>
            <a:r>
              <a:rPr b="1" lang="en-US" sz="4000" spc="-1" strike="noStrike">
                <a:solidFill>
                  <a:srgbClr val="2e4f56"/>
                </a:solidFill>
                <a:latin typeface="Arial"/>
              </a:rPr>
              <a:t>41</a:t>
            </a:r>
            <a:r>
              <a:rPr b="1" lang="zh-CN" sz="4000" spc="-1" strike="noStrike">
                <a:solidFill>
                  <a:srgbClr val="2e4f56"/>
                </a:solidFill>
                <a:latin typeface="Arial"/>
              </a:rPr>
              <a:t>页二类生字的拼音。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4f56"/>
                </a:solidFill>
                <a:latin typeface="Arial"/>
              </a:rPr>
              <a:t>要求：坐姿端正，独立完成，时间</a:t>
            </a:r>
            <a:r>
              <a:rPr b="1" lang="zh-CN" sz="4000" spc="-1" strike="noStrike">
                <a:solidFill>
                  <a:srgbClr val="2e4f5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2e4f56"/>
                </a:solidFill>
                <a:latin typeface="Arial"/>
              </a:rPr>
              <a:t>分钟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34"/>
          <p:cNvSpPr/>
          <p:nvPr/>
        </p:nvSpPr>
        <p:spPr>
          <a:xfrm>
            <a:off x="2268360" y="549360"/>
            <a:ext cx="439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读书要注意</a:t>
            </a:r>
            <a:endParaRPr b="0" lang="en-US" sz="6600" spc="-1" strike="noStrike">
              <a:solidFill>
                <a:srgbClr val="2e4f56"/>
              </a:solidFill>
              <a:latin typeface="Times New Roman"/>
            </a:endParaRPr>
          </a:p>
        </p:txBody>
      </p:sp>
      <p:pic>
        <p:nvPicPr>
          <p:cNvPr id="662" name="Picture 35" descr="200792391942303_2"/>
          <p:cNvPicPr/>
          <p:nvPr/>
        </p:nvPicPr>
        <p:blipFill>
          <a:blip r:embed="rId2"/>
          <a:stretch/>
        </p:blipFill>
        <p:spPr>
          <a:xfrm>
            <a:off x="468360" y="2709720"/>
            <a:ext cx="1317600" cy="14414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6" descr="200792391942303_2"/>
          <p:cNvPicPr/>
          <p:nvPr/>
        </p:nvPicPr>
        <p:blipFill>
          <a:blip r:embed="rId3"/>
          <a:stretch/>
        </p:blipFill>
        <p:spPr>
          <a:xfrm>
            <a:off x="5076720" y="2708280"/>
            <a:ext cx="1317600" cy="1441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7" descr="200792391942303_2"/>
          <p:cNvPicPr/>
          <p:nvPr/>
        </p:nvPicPr>
        <p:blipFill>
          <a:blip r:embed="rId4"/>
          <a:stretch/>
        </p:blipFill>
        <p:spPr>
          <a:xfrm>
            <a:off x="2700360" y="2708280"/>
            <a:ext cx="1317600" cy="1441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8" descr="200792391942303_2"/>
          <p:cNvPicPr/>
          <p:nvPr/>
        </p:nvPicPr>
        <p:blipFill>
          <a:blip r:embed="rId5"/>
          <a:stretch/>
        </p:blipFill>
        <p:spPr>
          <a:xfrm>
            <a:off x="7308720" y="2689200"/>
            <a:ext cx="1317600" cy="1441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40"/>
          <p:cNvSpPr/>
          <p:nvPr/>
        </p:nvSpPr>
        <p:spPr>
          <a:xfrm>
            <a:off x="217440" y="31449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确流利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340000" y="3213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音洪亮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68" name="Text Box 44"/>
          <p:cNvSpPr/>
          <p:nvPr/>
        </p:nvSpPr>
        <p:spPr>
          <a:xfrm>
            <a:off x="4788000" y="3141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爱听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669" name="Text Box 45"/>
          <p:cNvSpPr/>
          <p:nvPr/>
        </p:nvSpPr>
        <p:spPr>
          <a:xfrm>
            <a:off x="7093080" y="312264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姿端正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6:17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4:40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