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niao010.wav" ContentType="audio/x-wav"/>
  <Override PartName="/ppt/media/image8.png" ContentType="image/png"/>
  <Override PartName="/ppt/media/image13.jpeg" ContentType="image/jpeg"/>
  <Override PartName="/ppt/media/chimes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4.gif" ContentType="image/gif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970C-954F-4E0A-8FA2-42CA2A16C4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F0A3-84BC-490A-83BC-6D0B269E28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FD9-5CD9-4181-8213-A3A36219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34C-67B2-4A59-B1D7-AD4E32C5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1D4-144A-4ABA-8358-B4575D2D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26F-E248-421B-9D29-A048047E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E3B-1530-487F-93E7-561E7BA7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C1B-EF56-4971-9211-6E07451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FA9-C453-4597-9BE5-054C33BD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680-29FF-4368-8176-58443351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09B-CBAF-412F-926B-61154DB2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E68-BFDB-4481-9BEA-A650F1FB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9D7-AA75-4137-B586-1DAFEAB2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9BA-8B70-4152-B1D4-3345A266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A61F-EF2C-48DC-8415-04A139F9B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audio" Target="../media/niao010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447920" y="2043000"/>
            <a:ext cx="64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3300"/>
                </a:solidFill>
                <a:latin typeface="Arial"/>
                <a:ea typeface="隶书"/>
              </a:rPr>
              <a:t>米佳的日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09480" y="1001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湘教版一年级语文上册第九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941120" y="541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solidFill>
            <a:srgbClr val="99ff66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108000" y="765000"/>
            <a:ext cx="3384360" cy="1800360"/>
            <a:chOff x="108000" y="765000"/>
            <a:chExt cx="3384360" cy="1800360"/>
          </a:xfrm>
        </p:grpSpPr>
        <p:pic>
          <p:nvPicPr>
            <p:cNvPr id="105" name="Picture 4" descr="huacao2_0468"/>
            <p:cNvPicPr/>
            <p:nvPr/>
          </p:nvPicPr>
          <p:blipFill>
            <a:blip r:embed="rId1"/>
            <a:stretch/>
          </p:blipFill>
          <p:spPr>
            <a:xfrm>
              <a:off x="108000" y="765000"/>
              <a:ext cx="15285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WordArt 5"/>
            <p:cNvSpPr txBox="1"/>
            <p:nvPr/>
          </p:nvSpPr>
          <p:spPr>
            <a:xfrm>
              <a:off x="1763640" y="836640"/>
              <a:ext cx="172872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round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隶书"/>
                </a:rPr>
                <a:t>想一想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07" name="Text Box 6"/>
          <p:cNvSpPr/>
          <p:nvPr/>
        </p:nvSpPr>
        <p:spPr>
          <a:xfrm>
            <a:off x="1905120" y="236232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</a:rPr>
              <a:t>四个季节都有什么景色，有哪些特点，为什么米佳的日记希望永远是春夏秋冬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10" name="Picture 4" descr="5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>
            <a:off x="1042920" y="304920"/>
            <a:ext cx="398628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画家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52280" y="2438280"/>
            <a:ext cx="5292720" cy="2133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44520" y="2543040"/>
            <a:ext cx="48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请你用自己手中的画笔把你心中四季的景色画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2438280" y="1828800"/>
            <a:ext cx="3657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FA3-07B6-4742-846C-9E2DCAE2B3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4" name="Picture 2" descr="C:\Documents and Settings\Administrator\桌面\桂桂图片夹\11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1285920" y="785880"/>
            <a:ext cx="71280" cy="142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5"/>
          <p:cNvSpPr/>
          <p:nvPr/>
        </p:nvSpPr>
        <p:spPr>
          <a:xfrm>
            <a:off x="-108000" y="692280"/>
            <a:ext cx="4248360" cy="57862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786280"/>
              <a:gd name="textAreaBottom" fmla="*/ 5578920 h 5786280"/>
            </a:gdLst>
            <a:ahLst/>
            <a:rect l="textAreaLeft" t="textAreaTop" r="textAreaRight" b="textAreaBottom"/>
            <a:pathLst>
              <a:path w="21600" h="29419">
                <a:moveTo>
                  <a:pt x="3600" y="0"/>
                </a:moveTo>
                <a:arcTo wR="3600" hR="3600" stAng="16200000" swAng="-5400000"/>
                <a:lnTo>
                  <a:pt x="0" y="25819"/>
                </a:lnTo>
                <a:arcTo wR="3600" hR="3600" stAng="10800000" swAng="-5400000"/>
                <a:lnTo>
                  <a:pt x="18000" y="29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-181080" y="12682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alibri"/>
              </a:rPr>
              <a:t>　　　</a:t>
            </a:r>
            <a:r>
              <a:rPr b="0" lang="zh-CN" sz="1800" spc="-1" strike="noStrike">
                <a:solidFill>
                  <a:srgbClr val="0000ff"/>
                </a:solidFill>
                <a:latin typeface="方正综艺简体"/>
                <a:ea typeface="方正综艺简体"/>
              </a:rPr>
              <a:t>　</a:t>
            </a:r>
            <a:r>
              <a:rPr b="0" lang="zh-CN" sz="4000" spc="-1" strike="noStrike">
                <a:solidFill>
                  <a:srgbClr val="0000ff"/>
                </a:solidFill>
                <a:latin typeface="方正综艺简体"/>
                <a:ea typeface="方正综艺简体"/>
              </a:rPr>
              <a:t>请小朋友借助拼音自由大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7"/>
          <p:cNvSpPr/>
          <p:nvPr/>
        </p:nvSpPr>
        <p:spPr>
          <a:xfrm>
            <a:off x="-108000" y="3000240"/>
            <a:ext cx="4176720" cy="3429000"/>
          </a:xfrm>
          <a:prstGeom prst="pie">
            <a:avLst/>
          </a:prstGeom>
          <a:solidFill>
            <a:srgbClr val="ff99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综艺简体"/>
                <a:ea typeface="方正综艺简体"/>
              </a:rPr>
              <a:t>　　要目视双行，读准字音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图片11"/>
          <p:cNvPicPr/>
          <p:nvPr/>
        </p:nvPicPr>
        <p:blipFill>
          <a:blip r:embed="rId1"/>
          <a:stretch/>
        </p:blipFill>
        <p:spPr>
          <a:xfrm>
            <a:off x="-324000" y="-157320"/>
            <a:ext cx="3383280" cy="2291040"/>
          </a:xfrm>
          <a:prstGeom prst="rect">
            <a:avLst/>
          </a:prstGeom>
          <a:ln w="0">
            <a:noFill/>
          </a:ln>
        </p:spPr>
      </p:pic>
      <p:sp>
        <p:nvSpPr>
          <p:cNvPr id="60" name="WordArt 15"/>
          <p:cNvSpPr txBox="1"/>
          <p:nvPr/>
        </p:nvSpPr>
        <p:spPr>
          <a:xfrm>
            <a:off x="2928960" y="214200"/>
            <a:ext cx="15717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会读</a:t>
            </a:r>
            <a:endParaRPr b="0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785880" y="3857760"/>
            <a:ext cx="100008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3786120" y="2071800"/>
            <a:ext cx="100008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"/>
          <p:cNvSpPr/>
          <p:nvPr/>
        </p:nvSpPr>
        <p:spPr>
          <a:xfrm>
            <a:off x="785880" y="2071800"/>
            <a:ext cx="100008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1"/>
          <p:cNvSpPr/>
          <p:nvPr/>
        </p:nvSpPr>
        <p:spPr>
          <a:xfrm>
            <a:off x="3786120" y="3857760"/>
            <a:ext cx="100008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6429240" y="2071800"/>
            <a:ext cx="100044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6500880" y="3857760"/>
            <a:ext cx="100008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1928880" y="45007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跳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4"/>
          <p:cNvSpPr/>
          <p:nvPr/>
        </p:nvSpPr>
        <p:spPr>
          <a:xfrm>
            <a:off x="4929120" y="264312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冬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4929120" y="44290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兴趣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7"/>
          <p:cNvSpPr/>
          <p:nvPr/>
        </p:nvSpPr>
        <p:spPr>
          <a:xfrm>
            <a:off x="7572240" y="27860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们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8"/>
          <p:cNvSpPr/>
          <p:nvPr/>
        </p:nvSpPr>
        <p:spPr>
          <a:xfrm>
            <a:off x="7572240" y="44290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永久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1"/>
          <p:cNvSpPr/>
          <p:nvPr/>
        </p:nvSpPr>
        <p:spPr>
          <a:xfrm>
            <a:off x="1928880" y="2714760"/>
            <a:ext cx="171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饭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755640" y="1413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755640" y="321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3780000" y="141300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3780000" y="3213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6516720" y="141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6443640" y="3213000"/>
            <a:ext cx="15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ǒ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1908000" y="5942160"/>
            <a:ext cx="55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6"/>
          <p:cNvSpPr/>
          <p:nvPr/>
        </p:nvSpPr>
        <p:spPr>
          <a:xfrm>
            <a:off x="533520" y="22860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0a0"/>
                </a:solidFill>
                <a:latin typeface="方正综艺简体"/>
                <a:ea typeface="方正综艺简体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176040" y="2714760"/>
            <a:ext cx="26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50"/>
                </a:solidFill>
                <a:latin typeface="黑体"/>
                <a:ea typeface="黑体"/>
              </a:rPr>
              <a:t>米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376200" y="3857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黑体"/>
                <a:ea typeface="黑体"/>
              </a:rPr>
              <a:t>高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948040" y="4937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可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747880" y="38577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永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486400" y="2743200"/>
            <a:ext cx="13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冬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76200" y="4929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2990880" y="2714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他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边框1"/>
          <p:cNvPicPr/>
          <p:nvPr/>
        </p:nvPicPr>
        <p:blipFill>
          <a:blip r:embed="rId1"/>
          <a:stretch/>
        </p:blipFill>
        <p:spPr>
          <a:xfrm>
            <a:off x="539640" y="457200"/>
            <a:ext cx="3117960" cy="1297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1187280" y="744480"/>
            <a:ext cx="460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286000" y="2666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茸茸    黄澄澄    红艳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362320" y="36576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               )       (                     )       (                   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4595760" cy="617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4648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4492800" cy="624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476600" y="304920"/>
            <a:ext cx="4667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4038480" cy="3665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28600" y="251460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课文中的四季是什么样子的找出自己喜欢的季节，并说说为什么喜欢这个季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1"/>
          <p:cNvPicPr/>
          <p:nvPr/>
        </p:nvPicPr>
        <p:blipFill>
          <a:blip r:embed="rId2"/>
          <a:stretch/>
        </p:blipFill>
        <p:spPr>
          <a:xfrm>
            <a:off x="380880" y="1066680"/>
            <a:ext cx="2000520" cy="943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iao0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533520" y="9144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比一比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858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四个自然段写了四个季节，请你比较一下，米佳在这四个季节中都做了什么不同的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85800" y="3276720"/>
            <a:ext cx="7696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冬天米佳在冰面上滑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夏天米佳在草地上看花朵，追蝴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秋天米佳捉小鱼，采野果，在树荫下翻跟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春天米佳摘野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42:36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1:19:27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