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A504-ADBE-41C7-B902-E759EFC50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0531-7DF0-4A25-8363-AC536AC02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ED0B-C77B-4E7F-A9FC-7292D3003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8568-4B52-4F1A-B18F-6F1CDF130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CE84-A841-4243-9AF0-BFB9AFFB0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27C5-C09C-4C03-AF25-256957889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2CF3-8B0C-4D34-A6AD-104C6B578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ADFD-3268-41CA-9572-D6CAD3CE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0113-722F-47DE-9031-B380796D9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064E-CC31-4BAD-8384-2C3F2B990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7ADF-D823-4904-80B5-BE9F01E8F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DD08-53F9-4925-8BA8-2BCC31D0A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17DB-E904-49F3-8099-647ABB2EC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C786-14CF-41E2-ABDF-B13641395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EED8-8C59-48A5-998B-D875D09F4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DCCE-3217-4F45-B43F-138248956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6B53-0C88-4A34-9CD5-27DC75C6A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A4E7-0C41-4B86-9F22-2D6DC98E7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4AE2-DAE1-4298-85CE-5032B45A8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50C7-BE48-4221-8427-3530BFEE0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79A4-B4D6-4791-BC84-ADA943F94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B35F-B59A-41B9-A0E7-8558A9E61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0381-85CA-46AF-8055-D5015677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AB24-714E-41DB-9218-44DC137DC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3BE4-0C4F-4015-801C-D272C9BBC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CFC6-C970-473F-A448-51BE14452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6658-3058-4AFB-823C-E22CA7551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308F-A7B0-4DF4-AF7C-D8A356352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AF79-DE41-4BD5-8B7D-39FD66E1D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11E-AB34-4633-9F31-456A8FBF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B62-3469-483B-9DD7-400C0A05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CE7-EF21-4BBB-8086-4175C553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BB9-9489-4C5C-8D6C-4C84AB77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631-CB0A-474D-A467-7D0FE8B9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4D3-31AC-4E0A-BDBD-8FE43F98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CD4-C6BC-4CCD-A340-02B62077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F78-6559-41A8-9FCF-2D48AAA3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045-0DC8-493C-A245-8185992E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1EC1-6BA7-4155-8F14-D27839E2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198-BC5F-46ED-A460-CF7084F3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338-99FA-4DB8-999C-A1CE5951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1D2D-805B-46D8-9A17-424E87D0E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1898640" y="2319480"/>
            <a:ext cx="5398920" cy="3589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73200" y="457200"/>
            <a:ext cx="6099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妈妈睡了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852200" y="60181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睡梦中的妈妈好慈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800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妈妈在微微地笑着，她的嘴巴、眼角都挂着笑意，好像在睡梦中妈妈又想好了一个故事，等一会儿要讲给我听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8妈妈睡觉1"/>
          <p:cNvPicPr/>
          <p:nvPr/>
        </p:nvPicPr>
        <p:blipFill>
          <a:blip r:embed="rId1"/>
          <a:stretch/>
        </p:blipFill>
        <p:spPr>
          <a:xfrm>
            <a:off x="4884840" y="1219320"/>
            <a:ext cx="425916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哪里看出睡梦中的妈妈好累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18妈妈睡觉1"/>
          <p:cNvPicPr/>
          <p:nvPr/>
        </p:nvPicPr>
        <p:blipFill>
          <a:blip r:embed="rId1"/>
          <a:stretch/>
        </p:blipFill>
        <p:spPr>
          <a:xfrm>
            <a:off x="509760" y="1341360"/>
            <a:ext cx="8208720" cy="511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赶回"/>
          <p:cNvPicPr/>
          <p:nvPr/>
        </p:nvPicPr>
        <p:blipFill>
          <a:blip r:embed="rId2"/>
          <a:stretch/>
        </p:blipFill>
        <p:spPr>
          <a:xfrm>
            <a:off x="7596360" y="5661000"/>
            <a:ext cx="114768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34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睡梦中的妈妈好累。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18课妈~1"/>
          <p:cNvPicPr/>
          <p:nvPr/>
        </p:nvPicPr>
        <p:blipFill>
          <a:blip r:embed="rId1"/>
          <a:stretch/>
        </p:blipFill>
        <p:spPr>
          <a:xfrm>
            <a:off x="4724280" y="1219320"/>
            <a:ext cx="4419720" cy="5029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赶回"/>
          <p:cNvPicPr/>
          <p:nvPr/>
        </p:nvPicPr>
        <p:blipFill>
          <a:blip r:embed="rId2"/>
          <a:stretch/>
        </p:blipFill>
        <p:spPr>
          <a:xfrm>
            <a:off x="7667640" y="5734080"/>
            <a:ext cx="1147680" cy="874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152280" y="140508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妈妈的呼吸那么深沉，又那么均匀。她细软的头发粘在微微渗出汗珠儿的额头上。窗外，小鸟儿在唱着歌，风在树叶间散步，发出沙沙的响声，可是妈妈全听不到。她干了好多活儿，累了，乏了，她真该好好儿睡一觉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1000" y="16765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真美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54680" y="35812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好慈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65040" y="48769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好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2049480" y="1492200"/>
            <a:ext cx="144360" cy="1079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490840" y="128916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明亮的眼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562480" y="186516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弯弯的眉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2500560" y="23684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润的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15400" y="33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看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81904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想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495680" y="1676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唱催眠的歌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624560" y="372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559960" y="3278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微微地笑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2480040" y="4149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挂着笑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>
            <a:off x="1905120" y="343548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359680" y="3505320"/>
            <a:ext cx="9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想好了一个故事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讲给我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2543040" y="48895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呼吸深沉，均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540520" y="537840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软的头发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微微渗出汗珠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额头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1905120" y="487692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5187240" y="5257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累了，乏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776340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7485840" y="1447920"/>
            <a:ext cx="911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妈妈爱我，我爱妈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4" descr="kakhl"/>
          <p:cNvPicPr/>
          <p:nvPr/>
        </p:nvPicPr>
        <p:blipFill>
          <a:blip r:embed="rId1"/>
          <a:stretch/>
        </p:blipFill>
        <p:spPr>
          <a:xfrm>
            <a:off x="7380360" y="4724280"/>
            <a:ext cx="1469880" cy="1487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5" descr="赶回"/>
          <p:cNvPicPr/>
          <p:nvPr/>
        </p:nvPicPr>
        <p:blipFill>
          <a:blip r:embed="rId2"/>
          <a:stretch/>
        </p:blipFill>
        <p:spPr>
          <a:xfrm>
            <a:off x="7596360" y="5983200"/>
            <a:ext cx="1147680" cy="874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665280" y="3808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睡梦中的妈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3" descr="ljadfs"/>
          <p:cNvPicPr/>
          <p:nvPr/>
        </p:nvPicPr>
        <p:blipFill>
          <a:blip r:embed="rId3"/>
          <a:stretch/>
        </p:blipFill>
        <p:spPr>
          <a:xfrm>
            <a:off x="0" y="5691240"/>
            <a:ext cx="1371600" cy="11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90720" y="3657600"/>
            <a:ext cx="729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窗外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鸟儿在唱着歌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风在树叶间散步，发出沙沙的响声，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妈妈全听不到。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14400" y="1143000"/>
            <a:ext cx="7653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窗外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鸟儿在叫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风在吹树叶，发出沙沙的响声，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妈妈全听不到。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595680" y="228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比一比，欣赏佳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赶回"/>
          <p:cNvPicPr/>
          <p:nvPr/>
        </p:nvPicPr>
        <p:blipFill>
          <a:blip r:embed="rId1"/>
          <a:stretch/>
        </p:blipFill>
        <p:spPr>
          <a:xfrm>
            <a:off x="7596360" y="5661000"/>
            <a:ext cx="1147680" cy="8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80880" y="3808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这句话运用了拟人的修辞手法，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小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当做人来写，生动形象的写出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小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的美妙动听的叫声，表达出作者的喜爱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80880" y="35812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这句话运用了拟人的修辞手法，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当做人来写，生动形象的写出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的轻柔温和的样子，表达出作者的喜爱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455840" y="185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kuang2a"/>
          <p:cNvPicPr/>
          <p:nvPr/>
        </p:nvPicPr>
        <p:blipFill>
          <a:blip r:embed="rId1"/>
          <a:stretch/>
        </p:blipFill>
        <p:spPr>
          <a:xfrm>
            <a:off x="1600200" y="0"/>
            <a:ext cx="6718320" cy="5715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905120" y="1398600"/>
            <a:ext cx="6065640" cy="3202200"/>
          </a:xfrm>
          <a:prstGeom prst="rect">
            <a:avLst/>
          </a:prstGeom>
          <a:solidFill>
            <a:srgbClr val="99ff3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爱你的妈妈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想对妈妈说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想为妈妈做什么？ </a:t>
            </a: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dha"/>
          <p:cNvPicPr/>
          <p:nvPr/>
        </p:nvPicPr>
        <p:blipFill>
          <a:blip r:embed="rId2"/>
          <a:stretch/>
        </p:blipFill>
        <p:spPr>
          <a:xfrm>
            <a:off x="2227320" y="4005360"/>
            <a:ext cx="2343240" cy="2638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赶回"/>
          <p:cNvPicPr/>
          <p:nvPr/>
        </p:nvPicPr>
        <p:blipFill>
          <a:blip r:embed="rId3"/>
          <a:stretch/>
        </p:blipFill>
        <p:spPr>
          <a:xfrm>
            <a:off x="7596360" y="5661000"/>
            <a:ext cx="1147680" cy="8748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1"/>
          <p:cNvSpPr/>
          <p:nvPr/>
        </p:nvSpPr>
        <p:spPr>
          <a:xfrm>
            <a:off x="936720" y="689040"/>
            <a:ext cx="54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404960" y="12952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  <a:ea typeface="楷体_GB2312"/>
              </a:rPr>
              <a:t>作个关心父母的好孩子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dha"/>
          <p:cNvPicPr/>
          <p:nvPr/>
        </p:nvPicPr>
        <p:blipFill>
          <a:blip r:embed="rId1"/>
          <a:stretch/>
        </p:blipFill>
        <p:spPr>
          <a:xfrm>
            <a:off x="2227320" y="2819520"/>
            <a:ext cx="3395520" cy="382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4" descr="kakhl"/>
          <p:cNvPicPr/>
          <p:nvPr/>
        </p:nvPicPr>
        <p:blipFill>
          <a:blip r:embed="rId2"/>
          <a:stretch/>
        </p:blipFill>
        <p:spPr>
          <a:xfrm>
            <a:off x="6019920" y="3124080"/>
            <a:ext cx="14698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454C-F2DE-4898-A66E-114F8B7390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W_008"/>
          <p:cNvPicPr/>
          <p:nvPr/>
        </p:nvPicPr>
        <p:blipFill>
          <a:blip r:embed="rId1"/>
          <a:stretch/>
        </p:blipFill>
        <p:spPr>
          <a:xfrm>
            <a:off x="1763640" y="2637000"/>
            <a:ext cx="303120" cy="37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W_008"/>
          <p:cNvPicPr/>
          <p:nvPr/>
        </p:nvPicPr>
        <p:blipFill>
          <a:blip r:embed="rId2"/>
          <a:stretch/>
        </p:blipFill>
        <p:spPr>
          <a:xfrm>
            <a:off x="1763640" y="1300320"/>
            <a:ext cx="303120" cy="37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W_008"/>
          <p:cNvPicPr/>
          <p:nvPr/>
        </p:nvPicPr>
        <p:blipFill>
          <a:blip r:embed="rId3"/>
          <a:stretch/>
        </p:blipFill>
        <p:spPr>
          <a:xfrm>
            <a:off x="1692360" y="4076640"/>
            <a:ext cx="303120" cy="37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W_008"/>
          <p:cNvPicPr/>
          <p:nvPr/>
        </p:nvPicPr>
        <p:blipFill>
          <a:blip r:embed="rId4"/>
          <a:stretch/>
        </p:blipFill>
        <p:spPr>
          <a:xfrm>
            <a:off x="1751040" y="5334120"/>
            <a:ext cx="360360" cy="447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871720" y="1163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文中学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892240" y="249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理解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763000" y="3894120"/>
            <a:ext cx="16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欣赏佳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892240" y="51181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拓展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11_350A"/>
          <p:cNvPicPr/>
          <p:nvPr/>
        </p:nvPicPr>
        <p:blipFill>
          <a:blip r:embed="rId5"/>
          <a:stretch/>
        </p:blipFill>
        <p:spPr>
          <a:xfrm>
            <a:off x="4802040" y="1295280"/>
            <a:ext cx="39420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28600" y="1149480"/>
            <a:ext cx="876312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哄我睡       先睡了      好熟       闭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弯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眉毛   红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脸   讲故事   慈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呼吸    深沉      均匀     汗珠儿    额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汗水    乏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赶回"/>
          <p:cNvPicPr/>
          <p:nvPr/>
        </p:nvPicPr>
        <p:blipFill>
          <a:blip r:embed="rId1"/>
          <a:stretch/>
        </p:blipFill>
        <p:spPr>
          <a:xfrm>
            <a:off x="7596360" y="5661000"/>
            <a:ext cx="1147680" cy="8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149480"/>
            <a:ext cx="876312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哄        先        熟       闭       眉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润       慈祥     讲        吸      沉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均匀     汗       额        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赶回"/>
          <p:cNvPicPr/>
          <p:nvPr/>
        </p:nvPicPr>
        <p:blipFill>
          <a:blip r:embed="rId1"/>
          <a:stretch/>
        </p:blipFill>
        <p:spPr>
          <a:xfrm>
            <a:off x="7596360" y="5661000"/>
            <a:ext cx="1147680" cy="8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609480" y="1066680"/>
            <a:ext cx="4648320" cy="42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明亮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眼睛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弯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眉毛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红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脸上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催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歌谣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5105520" y="129528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微微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笑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181480" y="2286000"/>
            <a:ext cx="3353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细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发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沙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响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149480" y="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050840" y="543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2430360" y="4952880"/>
            <a:ext cx="43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妈妈的呼吸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那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深沉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那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均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睡梦中的妈妈是什么样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18课妈~1"/>
          <p:cNvPicPr/>
          <p:nvPr/>
        </p:nvPicPr>
        <p:blipFill>
          <a:blip r:embed="rId1"/>
          <a:stretch/>
        </p:blipFill>
        <p:spPr>
          <a:xfrm>
            <a:off x="0" y="1133640"/>
            <a:ext cx="9144000" cy="572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6099120" y="2266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712200" y="17226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真美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788160" y="29718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好慈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862680" y="41911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好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赶回"/>
          <p:cNvPicPr/>
          <p:nvPr/>
        </p:nvPicPr>
        <p:blipFill>
          <a:blip r:embed="rId2"/>
          <a:stretch/>
        </p:blipFill>
        <p:spPr>
          <a:xfrm>
            <a:off x="7596360" y="5661000"/>
            <a:ext cx="1147680" cy="8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7"/>
          <p:cNvSpPr/>
          <p:nvPr/>
        </p:nvSpPr>
        <p:spPr>
          <a:xfrm>
            <a:off x="2666880" y="3429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哪里看出睡梦中的妈妈真美丽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18妈妈睡觉1"/>
          <p:cNvPicPr/>
          <p:nvPr/>
        </p:nvPicPr>
        <p:blipFill>
          <a:blip r:embed="rId1"/>
          <a:stretch/>
        </p:blipFill>
        <p:spPr>
          <a:xfrm>
            <a:off x="533520" y="1447920"/>
            <a:ext cx="8280360" cy="5180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赶回"/>
          <p:cNvPicPr/>
          <p:nvPr/>
        </p:nvPicPr>
        <p:blipFill>
          <a:blip r:embed="rId2"/>
          <a:stretch/>
        </p:blipFill>
        <p:spPr>
          <a:xfrm>
            <a:off x="7596360" y="5661000"/>
            <a:ext cx="114768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睡梦中的妈妈真美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8妈妈睡觉1"/>
          <p:cNvPicPr/>
          <p:nvPr/>
        </p:nvPicPr>
        <p:blipFill>
          <a:blip r:embed="rId1"/>
          <a:stretch/>
        </p:blipFill>
        <p:spPr>
          <a:xfrm>
            <a:off x="5105520" y="1219320"/>
            <a:ext cx="4038480" cy="4606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赶回"/>
          <p:cNvPicPr/>
          <p:nvPr/>
        </p:nvPicPr>
        <p:blipFill>
          <a:blip r:embed="rId2"/>
          <a:stretch/>
        </p:blipFill>
        <p:spPr>
          <a:xfrm>
            <a:off x="7596360" y="5661000"/>
            <a:ext cx="1147680" cy="8748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228600" y="1295280"/>
            <a:ext cx="4648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妈妈明亮的眼睛闭上了，弯弯的眉毛也睡在妈妈红润的脸上。妈妈的嘴巴微微张开着，好像在给我唱催眠的歌谣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哪里看出睡梦中的妈妈好慈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18课妈~1"/>
          <p:cNvPicPr/>
          <p:nvPr/>
        </p:nvPicPr>
        <p:blipFill>
          <a:blip r:embed="rId1"/>
          <a:stretch/>
        </p:blipFill>
        <p:spPr>
          <a:xfrm>
            <a:off x="1219320" y="1752480"/>
            <a:ext cx="6729120" cy="429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6:45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2:47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