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39C4-66E4-45BD-B7A4-5880AD0D74E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8F5B-354D-4A6B-972D-53992E65DDE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7BE-5AE6-49C2-8F00-D363F181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ECF-AAB4-45F7-BE08-60F40E11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D60A-DAAC-4CAD-AFC0-B312B70E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C6EA-7672-433D-BB9D-C55231B3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7A9-B8BA-44A0-B22F-6DE14721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E26B-0AD2-4883-910A-EED458DC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C51-681C-4657-9EF4-37A908A5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A45-8C6B-4B73-9365-11504E88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BA5-0034-4247-A59B-293543EC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324-328E-47A7-B543-D55605C4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792-689A-476D-907B-40370F0E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55E9-61CA-4038-841B-69379E29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4C87-B334-4331-9BB1-08D90F7106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757080" y="9777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宋体"/>
              </a:rPr>
              <a:t>湘教版一年级语文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49440" y="1700280"/>
            <a:ext cx="64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迷你简少儿"/>
                <a:ea typeface="迷你简少儿"/>
              </a:rPr>
              <a:t>妈妈生日快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1798560" y="3141720"/>
            <a:ext cx="3121200" cy="246060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1063800" y="57452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71640" y="2781360"/>
            <a:ext cx="46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妈妈的生日是哪一天？你能像课文中的小朋友一样，送给妈妈一件有意义的礼物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7">
            <a:hlinkClick r:id="rId2" action="ppaction://hlinksldjump"/>
          </p:cNvPr>
          <p:cNvSpPr/>
          <p:nvPr/>
        </p:nvSpPr>
        <p:spPr>
          <a:xfrm>
            <a:off x="6012000" y="566100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>
            <a:hlinkClick r:id="" action="ppaction://hlinkshowjump?jump=nextslide"/>
          </p:cNvPr>
          <p:cNvSpPr/>
          <p:nvPr/>
        </p:nvSpPr>
        <p:spPr>
          <a:xfrm>
            <a:off x="6877080" y="5661000"/>
            <a:ext cx="574560" cy="4320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22" h="21600">
                <a:moveTo>
                  <a:pt x="0" y="0"/>
                </a:moveTo>
                <a:lnTo>
                  <a:pt x="28722" y="0"/>
                </a:lnTo>
                <a:lnTo>
                  <a:pt x="28722" y="21600"/>
                </a:lnTo>
                <a:lnTo>
                  <a:pt x="0" y="21600"/>
                </a:lnTo>
                <a:close/>
              </a:path>
              <a:path fill="lightenLess" w="28722" h="21600">
                <a:moveTo>
                  <a:pt x="0" y="0"/>
                </a:moveTo>
                <a:lnTo>
                  <a:pt x="28722" y="0"/>
                </a:lnTo>
                <a:lnTo>
                  <a:pt x="27322" y="1400"/>
                </a:lnTo>
                <a:lnTo>
                  <a:pt x="1400" y="1400"/>
                </a:lnTo>
                <a:close/>
              </a:path>
              <a:path fill="darken" w="28722" h="21600">
                <a:moveTo>
                  <a:pt x="28722" y="0"/>
                </a:moveTo>
                <a:lnTo>
                  <a:pt x="28722" y="21600"/>
                </a:lnTo>
                <a:lnTo>
                  <a:pt x="27322" y="20200"/>
                </a:lnTo>
                <a:lnTo>
                  <a:pt x="27322" y="1400"/>
                </a:lnTo>
                <a:close/>
              </a:path>
              <a:path fill="darkenLess" w="28722" h="21600">
                <a:moveTo>
                  <a:pt x="28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22" y="20200"/>
                </a:lnTo>
                <a:close/>
              </a:path>
              <a:path fill="lighten" w="28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22" h="21600">
                <a:moveTo>
                  <a:pt x="7355" y="3794"/>
                </a:moveTo>
                <a:lnTo>
                  <a:pt x="21368" y="10800"/>
                </a:lnTo>
                <a:lnTo>
                  <a:pt x="735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484360" y="2349360"/>
            <a:ext cx="33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2195640" y="2205000"/>
            <a:ext cx="460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礼物送给妈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1476360" y="1341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想一想，填一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>
            <a:off x="2916360" y="3068640"/>
            <a:ext cx="3311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2340000" y="364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3132000" y="364500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622764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6227640" y="33321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"/>
          <p:cNvSpPr/>
          <p:nvPr/>
        </p:nvSpPr>
        <p:spPr>
          <a:xfrm>
            <a:off x="1041480" y="5124600"/>
            <a:ext cx="75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19C1-9E5D-4D7A-90E9-4C6332FCE8C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6920" y="1267920"/>
            <a:ext cx="32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2781000"/>
            <a:ext cx="5194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认识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懂得孩子的成长离不开妈妈的辛勤培养，激发热爱、尊敬妈妈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8"/>
          <p:cNvSpPr/>
          <p:nvPr/>
        </p:nvSpPr>
        <p:spPr>
          <a:xfrm>
            <a:off x="1835280" y="1700280"/>
            <a:ext cx="604980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今     礼     主      意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纸     晚     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979640" y="2492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1619280" y="836640"/>
            <a:ext cx="12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</a:rPr>
              <a:t>j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132000" y="836640"/>
            <a:ext cx="7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</a:rPr>
              <a:t>l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4427640" y="7650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</a:rPr>
              <a:t>zh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012000" y="83664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692360" y="3068640"/>
            <a:ext cx="107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</a:rPr>
              <a:t>zh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2987640" y="3027240"/>
            <a:ext cx="15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</a:rPr>
              <a:t>wǎ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4048200" y="544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4500720" y="302724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黑体"/>
              </a:rPr>
              <a:t>m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8"/>
          <p:cNvSpPr/>
          <p:nvPr/>
        </p:nvSpPr>
        <p:spPr>
          <a:xfrm>
            <a:off x="1619280" y="1916280"/>
            <a:ext cx="5726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今天      礼物     主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雪白      晚饭     摸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000" y="1988640"/>
            <a:ext cx="5554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热爱自己的妈妈吗？（爱）我们的成长离不开妈妈的辛勤培养，那我们用什么方式来表达对妈妈的爱呢？在妈妈生日的时候你为妈妈做些什么事情或送什么礼物给妈妈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5819760" cy="6564240"/>
          </a:xfrm>
          <a:prstGeom prst="rect">
            <a:avLst/>
          </a:prstGeom>
          <a:ln w="0">
            <a:noFill/>
          </a:ln>
        </p:spPr>
      </p:pic>
      <p:sp>
        <p:nvSpPr>
          <p:cNvPr id="68" name="WordArt 4"/>
          <p:cNvSpPr txBox="1"/>
          <p:nvPr/>
        </p:nvSpPr>
        <p:spPr>
          <a:xfrm rot="5400000">
            <a:off x="220320" y="3200400"/>
            <a:ext cx="21016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课文赏析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5905440" cy="3914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1692360" y="4005360"/>
            <a:ext cx="5897520" cy="31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动脑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26560" y="1341000"/>
            <a:ext cx="735516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我为什么要画一幅妈妈给小树浇水的图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我当时心里是怎样想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828720" y="3103560"/>
            <a:ext cx="7415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在学习、生活各方面无微不至地关心、爱护着我们，就像培育小树苗一样辛勤地培养着我们。我们应该怎样报答妈妈对我们的爱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理解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9640" y="278136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妈妈说的“我的小树”指的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体会为什么妈妈说：“我的小树长大了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23:52:29Z</dcterms:modified>
  <cp:revision>1</cp:revision>
  <dc:subject/>
  <dc:title>幻灯片 1</dc:title>
</cp:coreProperties>
</file>