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C59C-9EA7-45AE-9ABD-2A92573CFB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9AF-9A26-4FF4-8B65-291478F9ED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3ED-7944-419A-94F6-FEBC91D0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5A6-D254-42B9-8817-107EC2B6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037-DFB7-49BB-B6BC-FADB438C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EF0-77C2-4259-84A8-11894716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07A1-8483-499C-A0DB-A441150D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5FF5-AD24-424B-AE35-99355D5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5368-B74B-478F-9AF5-7251E692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DDD8-8FFA-4A05-97DC-9C071B1B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2618-A688-4AC9-B4BE-1A35A55D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0DDA-8AC5-4397-8276-77E1ABF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0AA4-DC33-49DE-A4F9-CDEB6DE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962-5292-404D-A4E6-E149F09D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786F-E6BA-4ECC-A712-5425A11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F9A2-BAF0-4F4C-A829-50DAFEEC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AEA3-8D4B-4781-AF96-45F59FFB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A066-91BE-4EEF-90C9-B932B1DC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097D-DA8A-43C8-9C4E-48F9F982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5F4-003C-484E-8264-5A40527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2F7-39BD-4ACA-A654-9E8033F5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87A-A37D-4630-B9C1-9F353257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2C6-50B7-4E47-9909-1AD5DBE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4FA-EEA6-4440-BE2F-92284DB8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3AC-7854-4735-845B-87B81940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270-A242-49C2-BD4E-3053D9E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004F-FF52-49A3-8BBA-B3A9E05C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D6CD-D839-4E64-8706-BA437200F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WordArt 5"/>
          <p:cNvSpPr txBox="1"/>
          <p:nvPr/>
        </p:nvSpPr>
        <p:spPr>
          <a:xfrm>
            <a:off x="533520" y="685800"/>
            <a:ext cx="561636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dddddd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毛遂自荐</a:t>
            </a:r>
            <a:endParaRPr b="1" lang="en-US" sz="9600" spc="1" strike="noStrike">
              <a:ln w="12600">
                <a:solidFill>
                  <a:srgbClr val="dddddd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512" name="矩形 8" descr=""/>
          <p:cNvPicPr/>
          <p:nvPr/>
        </p:nvPicPr>
        <p:blipFill>
          <a:blip r:embed="rId2"/>
          <a:stretch/>
        </p:blipFill>
        <p:spPr>
          <a:xfrm>
            <a:off x="1865160" y="586728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0" y="9828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毛遂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等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了楚国，与十九个人谈论商量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十九个人都折服了。平原君与楚国谈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盟约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利害关系，从太阳出来就阐述这些理，到太阳当空时还没有决定，十九个人对毛遂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生上去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毛遂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手握剑柄跨越台阶而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对平原君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就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两句话就可以决定。今天，太阳出来就谈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日到中天还不能决断，</a:t>
            </a:r>
            <a:r>
              <a:rPr b="1" lang="en-US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(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这是</a:t>
            </a:r>
            <a:r>
              <a:rPr b="1" lang="en-US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)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为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楚王对平原君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个人是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干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平原君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赵胜的门客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楚王怒斥道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为什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下去？我是在同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侯说话，你算干什么的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0" y="763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毛遂手握剑柄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上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说道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大王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你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敢斥责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毛遂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的原因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，是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倚仗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楚国人多势众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现在，十步之内，大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能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依赖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楚国人多势众了，大王的性命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控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毛遂的手里。我的君侯在眼前，</a:t>
            </a:r>
            <a:r>
              <a:rPr b="1" lang="en-US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(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你</a:t>
            </a:r>
            <a:r>
              <a:rPr b="1" lang="en-US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)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斥责</a:t>
            </a:r>
            <a:r>
              <a:rPr b="1" lang="en-US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(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我</a:t>
            </a:r>
            <a:r>
              <a:rPr b="1" lang="en-US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)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是为什么？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况且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，毛遂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听说汤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凭借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七十里的地方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称王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天下，文王凭借百里的土地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使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诸侯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称臣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难道是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由于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他们的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士卒众多吗？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实在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是由于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他们</a:t>
            </a:r>
            <a:r>
              <a:rPr b="1" lang="en-US" sz="4000" spc="-1" strike="noStrike">
                <a:solidFill>
                  <a:srgbClr val="e4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能够善于掌握形式而奋力发扬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自己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的威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604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今天，楚国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土地方圆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五千里，持戟的士卒上百万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这是霸王的资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呀！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楚国的强大，天下不能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抵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白起，不过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小的无知小子罢了，率领几万部众，发兵来和楚国交战，一战就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拿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鄢、郢，二战就烧掉夷陵，三战就侮辱大王的祖先。这是百代的仇恨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赵国都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感到羞辱的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然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王却不知道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羞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件事是为了楚国，并不是为了赵国呀。我的君主在眼前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斥责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干什么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0" y="0"/>
            <a:ext cx="9144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楚王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，是！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的确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生说的那样，我一定会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竭尽全国的力量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订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盟约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遂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盟约决定了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楚王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是，毛遂对楚王左右的人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鸡、狗和马的血来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毛遂捧着铜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跪着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献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楚王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王应当歃血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签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盟约，其次是我的君侯，再次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毛遂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毛遂在宫殿上签定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盟约。毛遂左手拿着铜盘和血，而用右手招唤那十九个人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生们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在堂下一起歃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先生们碌碌无为，（可也算完成任务）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这就是所说的依赖别人的力量来完成自己的任务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WordArt 2"/>
          <p:cNvSpPr txBox="1"/>
          <p:nvPr/>
        </p:nvSpPr>
        <p:spPr>
          <a:xfrm>
            <a:off x="1981080" y="2286000"/>
            <a:ext cx="5029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当堂检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4724280" y="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第二自然段重点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0" y="152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毛遂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至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毛遂按剑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历阶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吾乃与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言，汝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何为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王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之所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叱遂者，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楚国之众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王之命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遂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今楚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地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五千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此百世之怨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赵之所羞，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王弗知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公等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录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所谓因人成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者也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5867280" y="6278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重点句子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0" y="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王之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所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叱遂者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楚国之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众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遂闻，汤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七十里之地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下，文王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百里之壤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诸侯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士卒众多哉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诚能据其势而奋其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此百世之怨而赵之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所羞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弗知</a:t>
            </a:r>
            <a:r>
              <a:rPr b="1" lang="zh-CN" sz="4000" spc="-1" strike="noStrike">
                <a:solidFill>
                  <a:srgbClr val="e40000"/>
                </a:solidFill>
                <a:latin typeface="黑体"/>
                <a:ea typeface="黑体"/>
              </a:rPr>
              <a:t>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诚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先生之言，谨奉社稷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公等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录录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所谓因人成事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>
            <a:off x="533520" y="457200"/>
            <a:ext cx="5790960" cy="20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第三段翻译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1066680" y="3276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依据翻译，抄记文中的难点重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原君签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盟约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之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归来，回到赵国，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赵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敢再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鉴选人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了。赵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鉴选人才，多的千人，少的百人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自认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没有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遗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下的人才；今天却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毛先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身上出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失误了。毛先生一到楚国，就让赵国（的地位）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九鼎和大吕还要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尊贵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毛先生凭借三寸长的舌头，竟比百万大军的威力还要强大。赵胜</a:t>
            </a:r>
            <a:r>
              <a:rPr b="1" lang="en-US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(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我</a:t>
            </a:r>
            <a:r>
              <a:rPr b="1" lang="en-US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)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不敢再鉴选人才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于是把毛遂作为上等宾客对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2"/>
          <p:cNvSpPr txBox="1"/>
          <p:nvPr/>
        </p:nvSpPr>
        <p:spPr>
          <a:xfrm>
            <a:off x="1981080" y="2286000"/>
            <a:ext cx="5029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当堂检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FR608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3"/>
          <p:cNvSpPr/>
          <p:nvPr/>
        </p:nvSpPr>
        <p:spPr>
          <a:xfrm>
            <a:off x="250920" y="765000"/>
            <a:ext cx="8893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疏通文意，掌握重要的文言词语及句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品读文本，把握人物性格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故事中不同人物的不同侧面挖掘做人的智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1522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第三自然段重点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0" y="1219320"/>
            <a:ext cx="89154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平原君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已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定从而归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胜不敢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复相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自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为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失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天下之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毛先生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寸之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遂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为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上客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457200" y="152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重点句子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0" y="129528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自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为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失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天下之士，今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乃于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毛先生而失之也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使赵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重于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九鼎大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毛先生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以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三寸之舌，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强于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百万之师。胜不敢</a:t>
            </a:r>
            <a:r>
              <a:rPr b="1" lang="zh-CN" sz="48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复相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士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4"/>
          <p:cNvSpPr txBox="1"/>
          <p:nvPr/>
        </p:nvSpPr>
        <p:spPr>
          <a:xfrm>
            <a:off x="5715000" y="5638680"/>
            <a:ext cx="329580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文本探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毛遂自荐给你的人生启迪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0" y="53352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、一个人要勇于把握机遇，又要有善于表现才能的智慧，才能实现个人价值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、作为一个管理者，要善于使用、选拔人才，使人才能有机会展示自己才华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、人要自信，而自信来源于扎实的知识积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304920" y="228600"/>
            <a:ext cx="8686800" cy="63194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倘若才华得不到承认 </a:t>
            </a:r>
            <a:br>
              <a:rPr sz="4400"/>
            </a:b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倘若才华得不到承认    与其诅咒　不如坚忍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坚忍中积蓄力量      默默耕耘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诅咒　无济于事     只能让原来的光芒黯淡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变得黯淡的光芒中沦丧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更有大树的精神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飘来的是云    飘去的也是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既然今天    没人识得星星一颗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么明日    何妨做皓月一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52280" y="304920"/>
            <a:ext cx="8991720" cy="61261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假如你不够快乐 </a:t>
            </a:r>
            <a:br>
              <a:rPr sz="44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假如你不够快乐       也不要把眉头深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本来短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　还要栽培苦涩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尘封的门窗      让阳光雨露洒遍每个角落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走向生命的原野       让风儿熨平前额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博大可以稀释忧愁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深色能够覆盖浅色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2"/>
          <p:cNvSpPr txBox="1"/>
          <p:nvPr/>
        </p:nvSpPr>
        <p:spPr>
          <a:xfrm>
            <a:off x="1258920" y="260280"/>
            <a:ext cx="6615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思故我在</a:t>
            </a:r>
            <a:endParaRPr b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0" y="2286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试从学过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故事中不同人物的不同侧面挖掘他们做人的智慧，结合你自身和你身边人的现状，谈谈你得到的启示。起个标题，写一段心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"/>
          <p:cNvSpPr/>
          <p:nvPr/>
        </p:nvSpPr>
        <p:spPr>
          <a:xfrm>
            <a:off x="631800" y="6045120"/>
            <a:ext cx="55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2"/>
          <p:cNvSpPr txBox="1"/>
          <p:nvPr/>
        </p:nvSpPr>
        <p:spPr>
          <a:xfrm>
            <a:off x="304920" y="609480"/>
            <a:ext cx="411480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招聘导演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-92160" y="2057400"/>
            <a:ext cx="923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男女不限，只要对此具有浓厚兴趣和为班级献身的精神即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学过的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任选内容，进行演绎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编剧、演员自定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一定的创意更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间暂定下周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ED65-1451-4B43-B133-894DEA3E03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6"/>
          <p:cNvSpPr/>
          <p:nvPr/>
        </p:nvSpPr>
        <p:spPr>
          <a:xfrm>
            <a:off x="4876920" y="35812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WordArt 4"/>
          <p:cNvSpPr txBox="1"/>
          <p:nvPr/>
        </p:nvSpPr>
        <p:spPr>
          <a:xfrm>
            <a:off x="533520" y="457200"/>
            <a:ext cx="5790960" cy="20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第一段翻译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066680" y="3276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依据翻译，抄记文中的难点重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兵围困邯郸的时候，赵国派遣平原君请求救兵，和楚国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签订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合纵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的盟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平原君约定和门下</a:t>
            </a:r>
            <a:r>
              <a:rPr b="1" lang="zh-CN" sz="3200" spc="-1" strike="noStrike">
                <a:solidFill>
                  <a:srgbClr val="0066cc"/>
                </a:solidFill>
                <a:latin typeface="黑体"/>
                <a:ea typeface="黑体"/>
              </a:rPr>
              <a:t>既有勇力又文武兼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食客二十人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一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平原君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假如用和平方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够取得成功就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太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；假如和平方法不能取得成功，那么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在华屋之下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歃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方式，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也一定要确定 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‘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合纵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Arial"/>
                <a:ea typeface="黑体"/>
              </a:rPr>
              <a:t>’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盟约再返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随从人员不到外边去寻找，从门下的食客中选取就够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原君找到十九个人，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剩下的人没有可再挑选的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没办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补满二十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额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门下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有</a:t>
            </a:r>
            <a:r>
              <a:rPr b="1" lang="en-US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(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一个叫</a:t>
            </a:r>
            <a:r>
              <a:rPr b="1" lang="en-US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)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毛遂的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走上前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向平原君自我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推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听说您将要到楚国去签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盟约，约定与门下食客二十人一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而且不到外边去寻找。现在还少一个人，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希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您就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凑足人数出发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0" y="-152280"/>
            <a:ext cx="9144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原君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生来到我门下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到现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几年了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遂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现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年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原君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贤能的士人活在世上，就好比锥子放在口袋中，它的锥尖立即就会显现出来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在，处在我的门下已经三年了，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左右的人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没有称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也没有听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样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赞语，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这是因为您没有什么才能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先生不能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胜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先生请留下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遂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我就算是今天请求放在口袋里吧。如果我早就被放在口袋中，就会整个锋芒都会脱露出来，不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只是</a:t>
            </a:r>
            <a:r>
              <a:rPr b="1" lang="zh-CN" sz="3600" spc="-1" strike="noStrike">
                <a:solidFill>
                  <a:srgbClr val="e40000"/>
                </a:solidFill>
                <a:latin typeface="黑体"/>
                <a:ea typeface="黑体"/>
              </a:rPr>
              <a:t>露出来一点锋尖就罢了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原君</a:t>
            </a:r>
            <a:r>
              <a:rPr b="1" lang="zh-CN" sz="32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终于同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毛遂一道前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楚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那十九个人互相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使眼色示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嘲笑他，却都没有笑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2"/>
          <p:cNvSpPr txBox="1"/>
          <p:nvPr/>
        </p:nvSpPr>
        <p:spPr>
          <a:xfrm>
            <a:off x="1981080" y="2286000"/>
            <a:ext cx="5029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当堂检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0" y="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第一自然段重点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0" y="72396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能取胜，则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无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满二十人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门下有毛遂者，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自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平原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即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遂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备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行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先生处胜之门下几年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于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先生不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先生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平原君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毛遂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偕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十九人相与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目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笑之而未废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457200" y="302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"/>
              </a:rPr>
              <a:t>重点句子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0" y="7621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能取胜，则歃血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于华屋之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必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得定从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夫贤士之处世也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譬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锥之处囊中，其末立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胜未有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所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先生无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所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也。先生不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先生留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臣乃今日请处囊中耳。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遂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蚤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得处囊中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颖脱而出，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非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末</a:t>
            </a:r>
            <a:r>
              <a:rPr b="1" lang="zh-CN" sz="4000" spc="-1" strike="noStrike" u="sng">
                <a:solidFill>
                  <a:srgbClr val="e40000"/>
                </a:solidFill>
                <a:uFillTx/>
                <a:latin typeface="黑体"/>
                <a:ea typeface="黑体"/>
              </a:rPr>
              <a:t>见而已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533520" y="457200"/>
            <a:ext cx="5790960" cy="20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第二段翻译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1066680" y="3276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依据翻译，抄记文中的难点重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44:12Z</dcterms:modified>
  <cp:revision>1</cp:revision>
  <dc:subject/>
  <dc:title>幻灯片 1</dc:title>
</cp:coreProperties>
</file>