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2ED2-31E3-45B3-B83D-39399DFD111E}" type="slidenum">
              <a:rPr b="0" lang="zh-CN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F402-0709-4D3F-BDDF-670A4C45F9CA}" type="slidenum">
              <a:rPr b="0" lang="zh-CN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A3E-9091-4F06-8EB7-2A55EB11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8DF-3BF7-4C4B-BF4A-083F1633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F87-3A85-4E59-8129-A81E2770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AF2-FC7A-498E-8BE9-F86A21B1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A839-6FA0-44AA-BEB7-2372FB34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843D-48AE-48D1-AE52-13C590DB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C87B-1138-43A1-B78C-49B00EE4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7390-100F-409F-9867-6421ADFD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02C5-E8E2-4EF4-9F24-A600AEE9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9E2F-6EA9-4924-9E2A-150871BC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8607-A8FA-42A4-AF7A-856D005F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015-E3DD-44FA-AFE4-9A0A1938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7240-B5AC-46F7-93CB-9B697373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CA26-389E-4FE9-91C5-1CCDFAF5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D7BC-F62D-4F4B-A2A8-CF10C883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671B-88F1-4E95-B0FE-49259D30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CF2-20E7-43AE-B9FF-DD5460F8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B7F84-6BC2-4AED-B267-A782A4C8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68B9-781C-4097-AE13-404D3F89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9E38-E6F6-4753-A748-6976DDE2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86B9-66A4-4316-8C90-366975E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1CD4-8461-40D6-A2C8-3B3C5DE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FDE-2039-4985-A9AA-B072F099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2502-72D7-4EE7-A30A-BF2AA128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6252-7CCC-4E4F-B142-B149F66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C6351-02A6-40CF-A2FC-B2D7ADE3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D026-2B4D-4448-8028-DBA349F0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D7F8-5564-4A61-944A-D73BFCE9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9274-C332-4D0B-85B2-AAC5A7DD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87E9-135A-403B-84CA-171D4FBE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F91A2-B772-4EFB-B31D-B07C2599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0120-4FFF-4F28-AC5A-B402FED8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A91A-CF3A-4F94-A30C-86AD36C1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635-CC13-4322-A998-349FCEC4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3F1D-BC59-4E9C-97AD-AD000D18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1F70-92F6-4D59-A595-3FA344AC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8742C-42D4-4F2F-A0CB-6BEA4E4D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E4B9-8683-44A9-AD51-B057DF12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03953-3BC5-4381-B069-7E176361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9CF1-1047-469C-A7E6-91A6F089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57F68-8CD8-46C3-8103-C9A3374E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F729-E92F-422B-AC42-09C55FE3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C13E-8B90-4A3B-9BF9-817A1F8B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A5C23-2317-46B3-83EB-6C5DDAC9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53E-1D3D-4885-99A0-35A265FC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0EBE-A3A8-462E-9968-ED01DB44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F9495-D2ED-49A8-98FB-2D467006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99313-E3BC-480B-91F5-E0232E20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93E8C-F348-4DF3-9735-1BAC2BAB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24D62-7C7C-452F-BAE9-49E050F8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F544-A72A-4186-97BD-BAE978AD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D9D00-65EC-4FAD-93D0-BFE9E3DF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1310C-86B9-43B0-B20B-22E0D59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469F5-B59E-4C03-B308-42FE242C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D7CE7-2C12-403D-8F82-9D9C509E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828-67B1-423A-B10B-9B0ADE0C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B3198-972F-44F5-9F23-B0480F6C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39BD9-2885-4CBB-AE94-3D01F49F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8E0F7-208B-44CA-AE47-75AC3FD5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29E06-A3C4-4494-A1B8-720707D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D2D67-CFFA-456B-AC66-104D2C15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8B158-4438-4849-A62F-1FF7B200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2D99-A4E3-4FED-93B2-EF8A7210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64CE7-6E7C-45BA-ADC7-B6449C1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3A11A-97BA-4BDC-A9F0-91C1193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C8AB4-B08D-4E72-82CE-0069F0FA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EF9-48DF-41E2-B943-88DCBCCC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8A3D9-0774-4C1F-BBA0-AFDF244A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4DFC-FB99-457C-9E9C-E70D7BF3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3BF26-2074-4D77-A28C-D541B1D1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A7D95-34D2-41FE-A82B-F8346331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FC74-83B4-4B5D-AB68-ECA51467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95A85-0621-4693-9738-82037ED2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13F0C-9706-4034-B931-5E071B7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596C4-44F3-4D34-BBEA-BD23CC2A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D2999-A700-4E6C-BD67-3F5AAF63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356C0-C9A0-4CAD-9832-1F332D69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3B1-FB05-4642-AEA2-9A1952CB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F5225-F031-4B2A-9EAA-07E42E1B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9DCEE-8EF5-48D5-B49F-D4FF4DD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7982D-2E87-4844-B3AA-08026EE4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B80E-257A-4CE6-B49D-01B83487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2C7CB-496A-4E9F-82E5-A03FCBB4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0B0C9-029F-47EC-869B-846D47D7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0D226-128F-44EB-8111-39AEC2D2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22EA5-16E1-48D1-B882-7238F5AD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308FB-0E57-46E0-98C1-BC709C7A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76632-6C22-435D-87D8-37C96531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7C7-8046-4969-948E-7F65FB2F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43FA4-F9C6-4515-B462-D7BCC577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7F917-710D-4A48-BB97-5D11AADC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1665-AE19-4FDE-9ED4-29ABB947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F87C1-47C8-42E2-BBAB-8F74D519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982A9-8D45-47C7-A5DB-8888097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EC3B8-8936-477F-B176-A5E139A8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9C78E-8A3A-46D5-A048-4D382C31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58D6-F51B-4777-BFFB-6B9365C6DB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6E78-6DC9-4C79-BD5D-6FD260A578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0621-543E-483D-818E-776FC612BB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6766-68F6-4A6F-BF1E-F3A1C58800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EF5F-CFD6-46A9-8E61-D16A477280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20F2-6BFA-42AC-9EB6-80257EC650CA}" type="slidenum">
              <a:rPr b="0" lang="en-US" sz="14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3673-4704-4966-9790-1367126FD849}" type="slidenum">
              <a:rPr b="0" lang="en-US" sz="14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EA98-85D4-4AC6-8953-B6C5F3000CC2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4"/>
          <p:cNvSpPr txBox="1"/>
          <p:nvPr/>
        </p:nvSpPr>
        <p:spPr>
          <a:xfrm>
            <a:off x="1967040" y="1341360"/>
            <a:ext cx="511308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中宋"/>
              </a:rPr>
              <a:t>鸟的天堂</a:t>
            </a:r>
            <a:endParaRPr b="1" lang="en-US" sz="48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336" name="矩形 4"/>
          <p:cNvSpPr/>
          <p:nvPr/>
        </p:nvSpPr>
        <p:spPr>
          <a:xfrm>
            <a:off x="1981800" y="59500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2556000" y="30844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826920" y="476280"/>
            <a:ext cx="7632720" cy="46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灿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光彩鲜明耀眼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陆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表示前后相继，时断时续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白茫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形容一望无边的白。这里形容河水宽广，白色一片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规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原指事物之间内在的本质联系，这里指有一定节奏、节拍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展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明显地表现出来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留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舍不得离开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茂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形容植物生长得多而茁壮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不可计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没有办法计算，形容数量很多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：指东西的一头向下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-1836720" y="27082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卧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躺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缝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裂开或自然露出的狭长的空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似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好像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颤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短促而频繁的振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停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仿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像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静寂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寂静意思相同。（没有声音 ；很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应接不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形容人或事情很多，接待、应付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过来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空间。文 中指鸟太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，看不 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完全确实，实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252360" y="25560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提问：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．请同学默读课文，思考：巴金爷爷几次经过鸟的天堂？看到的景象有什么不同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11280" y="2637000"/>
            <a:ext cx="756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答：（</a:t>
            </a:r>
            <a:r>
              <a:rPr b="0" lang="en-US" sz="3200" spc="-1" strike="noStrike">
                <a:solidFill>
                  <a:srgbClr val="0066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）作者两次经过鸟的天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黑体"/>
              </a:rPr>
              <a:t>         </a:t>
            </a:r>
            <a:r>
              <a:rPr b="0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第一次看到的是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大榕树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黑体"/>
              </a:rPr>
              <a:t>         </a:t>
            </a:r>
            <a:r>
              <a:rPr b="0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第二次看到了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许多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468360" y="1630440"/>
            <a:ext cx="518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468360" y="351000"/>
            <a:ext cx="80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通过对课文的分段，归纳一下课文的主要内容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857160" y="2492280"/>
            <a:ext cx="76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答：课文记叙了作者和他的朋友两次经过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鸟的天堂时所见到的不同的景象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468360" y="1630440"/>
            <a:ext cx="518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647640" y="476280"/>
            <a:ext cx="80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阅读第一部分，思考下列问题：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647640" y="1341360"/>
            <a:ext cx="768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黑体"/>
              </a:rPr>
              <a:t>、“我们”是在什么时候出去游玩的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0066ff"/>
                </a:solidFill>
                <a:latin typeface="黑体"/>
              </a:rPr>
              <a:t>、“三支桨有规律地在水里划，那声音就像一支乐曲”这个句子如何理解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647640" y="378936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黑体"/>
              </a:rPr>
              <a:t>这是一个比喻句，把木桨有规律地在水中划发出的声音比喻成乐曲，非常贴切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830160" y="1701720"/>
            <a:ext cx="748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抄写我们今天学的生字及词语并用自己喜欢的方式复习一下！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请同学们回家后将本篇课文多读几遍，将作者两次经过“鸟的天堂”时对其景象描写的重点语句画出来，体会作者的思想感情。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2987640" y="1628640"/>
            <a:ext cx="309708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3798720" y="1627560"/>
            <a:ext cx="163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cc"/>
                </a:solidFill>
                <a:latin typeface="Arial"/>
                <a:ea typeface="隶书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1390680" y="168120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黑体"/>
                <a:ea typeface="隶书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99" name="群鸟鸣 短信铃声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124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"/>
          <p:cNvSpPr/>
          <p:nvPr/>
        </p:nvSpPr>
        <p:spPr>
          <a:xfrm>
            <a:off x="755640" y="2421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巴金爷爷两次去鸟的天堂看到的景象有什么不同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971640" y="38178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　　第一次看到的是大榕树，第二次看到的是许多鸟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课文，思考下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4000" y="2062080"/>
            <a:ext cx="73436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课文中主要描写了大榕树的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974040" y="3933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大，茂盛，美。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152280" y="228600"/>
            <a:ext cx="2743200" cy="749160"/>
            <a:chOff x="152280" y="228600"/>
            <a:chExt cx="2743200" cy="749160"/>
          </a:xfrm>
        </p:grpSpPr>
        <p:pic>
          <p:nvPicPr>
            <p:cNvPr id="406" name="矩形 11" descr=""/>
            <p:cNvPicPr/>
            <p:nvPr/>
          </p:nvPicPr>
          <p:blipFill>
            <a:blip r:embed="rId1"/>
            <a:stretch/>
          </p:blipFill>
          <p:spPr>
            <a:xfrm>
              <a:off x="152280" y="248760"/>
              <a:ext cx="2743200" cy="7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Box 10"/>
            <p:cNvSpPr/>
            <p:nvPr/>
          </p:nvSpPr>
          <p:spPr>
            <a:xfrm>
              <a:off x="361800" y="228600"/>
              <a:ext cx="213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4000" spc="-1" strike="noStrike">
                  <a:solidFill>
                    <a:srgbClr val="ff33cc"/>
                  </a:solidFill>
                  <a:latin typeface="黑体"/>
                </a:rPr>
                <a:t>重点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赏析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408" name="Text Box 5"/>
          <p:cNvSpPr/>
          <p:nvPr/>
        </p:nvSpPr>
        <p:spPr>
          <a:xfrm>
            <a:off x="457200" y="10666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个朋友说那里只有一株榕树，另一个朋友说是两株。　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828720" y="2925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这里的争议有什么作用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533520" y="35812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我们”对榕树的株数有了争议，而这种争议恰好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楷体_GB2312"/>
              </a:rPr>
              <a:t>从侧面衬托出榕树的茂盛与强大的生命力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79280" y="1197000"/>
            <a:ext cx="58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你知道鸟的天堂在哪吗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611280" y="2276640"/>
            <a:ext cx="70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这棵大榕树在广东省新会县的天马河上，已有五百多年的历史了，每年都长出许多气根，从树枝上倒挂下来，钻进土里，过些日子又长出新的枝干来。这样不断生长，它已长成了榕树林，占地达</a:t>
            </a:r>
            <a:r>
              <a:rPr b="1" lang="en-US" sz="2800" spc="-1" strike="noStrike">
                <a:solidFill>
                  <a:srgbClr val="0099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  <a:ea typeface="宋体"/>
              </a:rPr>
              <a:t>亩。被当地人称为“神树”。“天堂中的乐园”。又因为上面栖息着许多鸟，被人们称为“鸟的天堂”。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9" name="文本框 1"/>
          <p:cNvSpPr/>
          <p:nvPr/>
        </p:nvSpPr>
        <p:spPr>
          <a:xfrm>
            <a:off x="179280" y="5851440"/>
            <a:ext cx="83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模板尽在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"/>
          <p:cNvSpPr/>
          <p:nvPr/>
        </p:nvSpPr>
        <p:spPr>
          <a:xfrm>
            <a:off x="755640" y="1125360"/>
            <a:ext cx="7418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我有机会看清它的真面目，真是一株大树，枝干的数目不可计数。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枝上又生根，有许多根直垂到地上，伸进泥土里。一部分树枝垂到水面，从远处看，就像一棵大树卧在水面上。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895320" y="3395520"/>
            <a:ext cx="74152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　　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</a:rPr>
              <a:t>那么多的绿叶，一簇堆在另一簇的上面，不留一点缝隙。那翠绿的颜色，明亮地照耀着我们的眼睛，似乎每一片树叶上都有一个新的生命在颤动。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331280" y="119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：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330200" y="35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茂盛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900000" y="2637000"/>
            <a:ext cx="3095640" cy="144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6" name="Line 7"/>
          <p:cNvSpPr/>
          <p:nvPr/>
        </p:nvSpPr>
        <p:spPr>
          <a:xfrm>
            <a:off x="6445080" y="2205000"/>
            <a:ext cx="648000" cy="1800"/>
          </a:xfrm>
          <a:prstGeom prst="line">
            <a:avLst/>
          </a:prstGeom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7236360" y="2565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垂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5796360" y="299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卧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4788360" y="407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堆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hatu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920" y="0"/>
            <a:ext cx="439272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e4SwLK7k1r3k"/>
          <p:cNvPicPr/>
          <p:nvPr/>
        </p:nvPicPr>
        <p:blipFill>
          <a:blip r:embed="rId3"/>
          <a:stretch/>
        </p:blipFill>
        <p:spPr>
          <a:xfrm>
            <a:off x="4500720" y="44280"/>
            <a:ext cx="46083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3"/>
          <p:cNvSpPr/>
          <p:nvPr/>
        </p:nvSpPr>
        <p:spPr>
          <a:xfrm>
            <a:off x="252360" y="333360"/>
            <a:ext cx="74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从画线部分能体会到什么？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3" name="AutoShape 4">
            <a:hlinkClick r:id="rId1" action="ppaction://hlinksldjump"/>
          </p:cNvPr>
          <p:cNvSpPr/>
          <p:nvPr/>
        </p:nvSpPr>
        <p:spPr>
          <a:xfrm>
            <a:off x="8610480" y="6248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95280" y="1341360"/>
            <a:ext cx="8424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华文楷体"/>
              </a:rPr>
              <a:t>☆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那么多的绿叶，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一簇堆在另一簇上面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不留一点缝隙。那翠绿的颜色，明亮地照耀着我们的眼睛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似乎每一片绿叶上都有一个新的生命在颤动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252360" y="4076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　　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簇堆在另一簇上面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”感受到大榕树枝叶茂盛，给鸟儿创造了良好的、自由自在的生活环境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3"/>
          <p:cNvSpPr/>
          <p:nvPr/>
        </p:nvSpPr>
        <p:spPr>
          <a:xfrm>
            <a:off x="685800" y="1600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似乎每一片绿叶上都有一个新的生命在颤动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”颤动并不是真的在动，而是榕树叶子颜色绿的发亮。</a:t>
            </a:r>
            <a:r>
              <a:rPr b="0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作者把大榕树写活了，写动了，从绿色中感受到有一种生命力在涌动，赞美榕树充满活力的蓬勃生机。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7" name="AutoShape 5">
            <a:hlinkClick r:id="rId1" action="ppaction://hlinksldjump"/>
          </p:cNvPr>
          <p:cNvSpPr/>
          <p:nvPr/>
        </p:nvSpPr>
        <p:spPr>
          <a:xfrm>
            <a:off x="8610480" y="6248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-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思考下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5280" y="3357360"/>
            <a:ext cx="8229600" cy="9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找出最能体现鸟多的句子和欢快的句子， 画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466800" y="1441440"/>
            <a:ext cx="12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宋体"/>
                <a:ea typeface="宋体"/>
              </a:rPr>
              <a:t>1. </a:t>
            </a:r>
            <a:r>
              <a:rPr b="1" lang="zh-CN" sz="3600" spc="-1" strike="noStrike">
                <a:solidFill>
                  <a:srgbClr val="9900cc"/>
                </a:solidFill>
                <a:latin typeface="宋体"/>
                <a:ea typeface="宋体"/>
              </a:rPr>
              <a:t>这一部分写出了鸟的天堂什么特点？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1892520" y="2205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数量多，欢快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1476360" y="4365720"/>
            <a:ext cx="60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到处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…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到处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有的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有的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有的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……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等句子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PPT2310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3"/>
          <p:cNvSpPr/>
          <p:nvPr/>
        </p:nvSpPr>
        <p:spPr>
          <a:xfrm>
            <a:off x="900000" y="1701720"/>
            <a:ext cx="4680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示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 action="ppaction://hlinksldjump"/>
              </a:rPr>
              <a:t>鸟的动态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的句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900000" y="263700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多</a:t>
            </a:r>
            <a:r>
              <a:rPr b="1" lang="en-US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起初周围是静寂的。后来忽然起了一声鸟叫。我们把手一拍，便看见一只大鸟飞了起来。接着又看见第二只，第三只。我们继续拍掌，树上就变得热闹了，到处都是鸟声，到处都是鸟影。大的，水的，花的，黑的，有的站在树枝上叫，有的飞起来，有的在扑翅膀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矩形 1"/>
          <p:cNvSpPr/>
          <p:nvPr/>
        </p:nvSpPr>
        <p:spPr>
          <a:xfrm>
            <a:off x="755640" y="206064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欢快</a:t>
            </a:r>
            <a:r>
              <a:rPr b="1" lang="en-US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我注意地看着，眼睛应接不暇，看清楚了这只，又错过了那只，看见了那只，另一只又起来了。一只画眉鸟飞了出来，被我们的掌声一吓，又飞进了叶丛，站在一根小枝上兴奋地叫着，那歌声真好听。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矩形 1"/>
          <p:cNvSpPr/>
          <p:nvPr/>
        </p:nvSpPr>
        <p:spPr>
          <a:xfrm>
            <a:off x="457200" y="1208160"/>
            <a:ext cx="80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我注意地看着，眼睛应接不暇，看清楚了这只，又错过了那只，看见了那只，另一只又起来了。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45720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理解下面的句子：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0" name="矩形 6"/>
          <p:cNvSpPr/>
          <p:nvPr/>
        </p:nvSpPr>
        <p:spPr>
          <a:xfrm>
            <a:off x="468360" y="2479680"/>
            <a:ext cx="80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昨天是我的眼睛骗了我，那“鸟的天堂”的确是鸟的天堂啊！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1" name="矩形 4"/>
          <p:cNvSpPr/>
          <p:nvPr/>
        </p:nvSpPr>
        <p:spPr>
          <a:xfrm>
            <a:off x="612720" y="3573360"/>
            <a:ext cx="78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　　第一个加引号的“鸟的天堂”是指那茂盛的大榕树，是鸟儿理想的栖身之地，是鸟的乐园，人们把它叫做“鸟的天堂” 。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第二个鸟的天堂是指这的确是鸟儿生活的美好环境，表达了作者对“鸟的天堂” 的深情赞美。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1042920" y="765000"/>
            <a:ext cx="831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比较：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作者笔下的大榕树是一种怎样的感觉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3" name="WordArt 6"/>
          <p:cNvSpPr txBox="1"/>
          <p:nvPr/>
        </p:nvSpPr>
        <p:spPr>
          <a:xfrm>
            <a:off x="925560" y="2924280"/>
            <a:ext cx="8034120" cy="6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静态描写：对静止不动的事物的描写。</a:t>
            </a:r>
            <a:endParaRPr b="0" lang="en-US" sz="2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1908000" y="20574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宁静、悠远、美丽、幽雅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925560" y="378936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作者笔下的鸟是一种怎样的感觉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46" name="矩形 3" descr=""/>
          <p:cNvPicPr/>
          <p:nvPr/>
        </p:nvPicPr>
        <p:blipFill>
          <a:blip r:embed="rId2"/>
          <a:stretch/>
        </p:blipFill>
        <p:spPr>
          <a:xfrm>
            <a:off x="890640" y="5587920"/>
            <a:ext cx="8229600" cy="1090800"/>
          </a:xfrm>
          <a:prstGeom prst="rect">
            <a:avLst/>
          </a:prstGeom>
          <a:ln w="0">
            <a:noFill/>
          </a:ln>
        </p:spPr>
      </p:pic>
      <p:sp>
        <p:nvSpPr>
          <p:cNvPr id="447" name="矩形 10"/>
          <p:cNvSpPr/>
          <p:nvPr/>
        </p:nvSpPr>
        <p:spPr>
          <a:xfrm>
            <a:off x="2539080" y="450864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多  欢快   壮观 </a:t>
            </a:r>
            <a:endParaRPr b="0" lang="en-US" sz="4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hatu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80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ppt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3"/>
          <p:cNvSpPr/>
          <p:nvPr/>
        </p:nvSpPr>
        <p:spPr>
          <a:xfrm>
            <a:off x="0" y="3284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鸟的天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0" name="AutoShape 4"/>
          <p:cNvSpPr/>
          <p:nvPr/>
        </p:nvSpPr>
        <p:spPr>
          <a:xfrm>
            <a:off x="2124000" y="1989000"/>
            <a:ext cx="719280" cy="3240360"/>
          </a:xfrm>
          <a:custGeom>
            <a:avLst/>
            <a:gdLst>
              <a:gd name="textAreaLeft" fmla="*/ 459720 w 719280"/>
              <a:gd name="textAreaRight" fmla="*/ 719640 w 71928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2876400" y="43513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鸟：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6443640" y="1844640"/>
            <a:ext cx="576360" cy="3529080"/>
          </a:xfrm>
          <a:custGeom>
            <a:avLst/>
            <a:gdLst>
              <a:gd name="textAreaLeft" fmla="*/ 0 w 576360"/>
              <a:gd name="textAreaRight" fmla="*/ 208080 w 57636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7020000" y="3213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大自然美的赞美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2843280" y="193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树：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5" name="矩形 1"/>
          <p:cNvSpPr/>
          <p:nvPr/>
        </p:nvSpPr>
        <p:spPr>
          <a:xfrm>
            <a:off x="3727440" y="26827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（静态描写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6" name="矩形 2"/>
          <p:cNvSpPr/>
          <p:nvPr/>
        </p:nvSpPr>
        <p:spPr>
          <a:xfrm>
            <a:off x="3974400" y="1935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大 茂盛  奇特美丽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7" name="矩形 3"/>
          <p:cNvSpPr/>
          <p:nvPr/>
        </p:nvSpPr>
        <p:spPr>
          <a:xfrm>
            <a:off x="3885840" y="4365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多  欢快   壮观 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8" name="矩形 4"/>
          <p:cNvSpPr/>
          <p:nvPr/>
        </p:nvSpPr>
        <p:spPr>
          <a:xfrm>
            <a:off x="3938400" y="48927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（动态描写）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888840" y="476280"/>
            <a:ext cx="231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总结全文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4"/>
          <p:cNvSpPr/>
          <p:nvPr/>
        </p:nvSpPr>
        <p:spPr>
          <a:xfrm>
            <a:off x="144360" y="836640"/>
            <a:ext cx="874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为什么大榕树能成为鸟的天堂？联系上下文找出原因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539640" y="2708280"/>
            <a:ext cx="77774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大榕树周围环境安宁，景色幽静；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大榕树枝繁叶茂，便于鸟儿栖息；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农民不许人去捉它们，鸟儿受到保护。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"/>
          <p:cNvSpPr/>
          <p:nvPr/>
        </p:nvSpPr>
        <p:spPr>
          <a:xfrm>
            <a:off x="617400" y="1052640"/>
            <a:ext cx="781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宋体"/>
              </a:rPr>
              <a:t>这篇课文表达了作者什么样的思想感情？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049400" y="19162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对大自然的热爱赞美之情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1258920" y="692280"/>
            <a:ext cx="7669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朗读全文，背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自然段内容。     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用“陆续”和“应接不暇”造句。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完成练习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鸟的天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预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火烧云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2"/>
          <p:cNvSpPr txBox="1"/>
          <p:nvPr/>
        </p:nvSpPr>
        <p:spPr>
          <a:xfrm>
            <a:off x="826920" y="249228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微软雅黑"/>
              </a:rPr>
              <a:t>保护大自然！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CA04-6A78-42AA-9A01-EB87BEFC24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5"/>
          <p:cNvSpPr/>
          <p:nvPr/>
        </p:nvSpPr>
        <p:spPr>
          <a:xfrm>
            <a:off x="4140360" y="404640"/>
            <a:ext cx="47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金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原名李尧棠，现代文学家、出版家、翻译家。四川成都人。 主要代表作是长篇小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激流三部曲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2913120" y="4910760"/>
            <a:ext cx="58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作者到广东新会访友时，路过“鸟的天堂”后写下来的。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43" name="Picture 7" descr="无标题"/>
          <p:cNvPicPr/>
          <p:nvPr/>
        </p:nvPicPr>
        <p:blipFill>
          <a:blip r:embed="rId2"/>
          <a:stretch/>
        </p:blipFill>
        <p:spPr>
          <a:xfrm>
            <a:off x="1116000" y="620640"/>
            <a:ext cx="2857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612720" y="2781360"/>
            <a:ext cx="820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桨　纠　逼　潮　</a:t>
            </a:r>
            <a:endParaRPr b="0" lang="en-US" sz="6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132000" y="2205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ji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ū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4572000" y="2205000"/>
            <a:ext cx="10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ī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1116000" y="4726080"/>
            <a:ext cx="684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5860080" y="220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ch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9" name="Text Box 17"/>
          <p:cNvSpPr/>
          <p:nvPr/>
        </p:nvSpPr>
        <p:spPr>
          <a:xfrm>
            <a:off x="1044720" y="4581360"/>
            <a:ext cx="727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禁　暇　抛 </a:t>
            </a:r>
            <a:endParaRPr b="0" lang="en-US" sz="6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1160640" y="2205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jiǎng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3000600" y="407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xi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4420440" y="40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ā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1416600" y="4076640"/>
            <a:ext cx="91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j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</a:rPr>
              <a:t>ī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灿（    ）   烂（    ）  竿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茫（    ）   桨（    ）  规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律（    ）   支（    ）  株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缝（    ）   隙（    ）  耀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梢（    ）   寂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                                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971640" y="198900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5003640" y="198900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384200" y="1720800"/>
            <a:ext cx="25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hǔ  (     )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1172520" y="26557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hù  (     )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5258520" y="1647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jīn   (     )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5508720" y="256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jìn   (     )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2" name="Text Box 17"/>
          <p:cNvSpPr/>
          <p:nvPr/>
        </p:nvSpPr>
        <p:spPr>
          <a:xfrm>
            <a:off x="623520" y="424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4707360" y="418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兴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4" name="AutoShape 20"/>
          <p:cNvSpPr/>
          <p:nvPr/>
        </p:nvSpPr>
        <p:spPr>
          <a:xfrm>
            <a:off x="1042920" y="4076640"/>
            <a:ext cx="216000" cy="108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5" name="AutoShape 22"/>
          <p:cNvSpPr/>
          <p:nvPr/>
        </p:nvSpPr>
        <p:spPr>
          <a:xfrm>
            <a:off x="5076720" y="4005360"/>
            <a:ext cx="287280" cy="1079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1154880" y="37368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yìng  (     )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064160" y="48164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yīng   (     )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5169600" y="3736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xīng   (     )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5169600" y="47451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xìng   (     )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近义词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渐渐（       ）    颤动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茂盛（       ）    不可计数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接不暇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072160" y="184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逐渐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5240880" y="184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抖动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207216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茂密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6267240" y="3141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数不胜数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027240" y="450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目不暇接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反义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明（      ）              寂静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茂盛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必会生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684360" y="3716280"/>
            <a:ext cx="77040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灿烂   白茫茫     规律    缝隙   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寂静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接不暇   照耀    颤动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奋       不可计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数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999440" y="119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黑暗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6391800" y="119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喧闹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003400" y="1903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稀少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04:39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3:48Z</dcterms:modified>
  <cp:revision>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