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E6CB-4189-4CE9-A5CA-045217F43B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4C05-4A38-408E-94C3-7A11604C1B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4A6-EFDA-492D-8171-28A95A4F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683-CB9F-45A3-8B94-094DD0B0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0A1-8A4C-4C27-A8B0-5017BA9C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6FA-3005-4FAE-867E-D4FEAEF0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CA70-B4BA-4B0B-BCE7-BDFEDBCA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624B-2B2D-418E-9D69-7DA7DC75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1BF0-7D94-469D-A3B8-F5894FB8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711D-854E-445E-9CBF-6F1F14C9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0037-E887-4CDE-B239-F947FECF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A43C-EB14-4CEA-A126-EADF114D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375C-8050-4568-B85E-CBE886D6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6C6-5EB0-4401-A514-827DF0BF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44B2-9F46-4654-96C3-D59388D7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42DB-B873-4C02-B041-D99AEAE7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34AB-50AC-4CE0-BBF9-501CCA5E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B4F8-FCA2-426C-8568-7DF6E4AE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2918-CF02-4F3E-A7D8-6C4CA78A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FA7-E3EE-4B3F-9CCA-63120C2F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249-A1CA-42B0-A154-299EF7BD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708-892A-4CD8-BA36-29D3975E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C90-0D9C-4A2C-ABB5-EA05A946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9BC-83DF-436C-A568-158D9142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160-C6D6-47F8-A851-F64169AC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815-5450-4E96-9219-9D566D53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5A16-2E31-405D-859F-BD163CEC60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8BF0-CDFD-4023-82A4-57E624D1ED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952640" y="1484280"/>
            <a:ext cx="5041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2060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你能行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2060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925280" y="5734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84360" y="549360"/>
            <a:ext cx="223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50920" y="1052640"/>
            <a:ext cx="867564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自理，自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理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自设计元旦晚会，写串联词，  找交           通路线，去参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信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我”在考场里与女孩的对比，和老人的谈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270080" y="5946840"/>
            <a:ext cx="52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684360" y="549360"/>
            <a:ext cx="799128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人：参加比赛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我笑笑，点点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人：  一个人来的？（怀疑的语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    对，一个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人：你看，人家一个人来参加比赛，你     呢？还要家长陪！（做出朝四周望望，赞许的点点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女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我还是第一次嘛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892880" y="57340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出我的骄傲和老人由怀疑到赞许的语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5"/>
          <p:cNvSpPr/>
          <p:nvPr/>
        </p:nvSpPr>
        <p:spPr>
          <a:xfrm>
            <a:off x="2556000" y="26719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1116000" y="1268280"/>
            <a:ext cx="5977080" cy="2808360"/>
          </a:xfrm>
          <a:prstGeom prst="cloudCallout">
            <a:avLst>
              <a:gd name="adj1" fmla="val -40625"/>
              <a:gd name="adj2" fmla="val -2908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有相信自己，自己的事情才能做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忽然觉得，应该用母亲来称呼妈妈。因为，母亲，不仅仅是妈妈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47640" y="1557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“母亲”和“妈妈”本是同义词，但是通过这件事，“我”觉得“母亲”这个词包含的内容更加宽广，更加神圣。妈妈或许是生活中的照顾者，而母亲不仅是生活中的照顾者，更是我们成长中的指路人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55640" y="4653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如果说“灯光”、“话语”是妈妈以前爱的体现，“纸条”更是妈妈对女儿的鼓励，增加女儿的自信，是更深一层爱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429080" y="32464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692280"/>
            <a:ext cx="8820000" cy="4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指导学生朗读课文中的三段对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读出不同的语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次：“我”失望和酸溜溜的语气，妈妈平淡、自然的语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次：读出“我”的开心和妈妈对我的“爱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次：读出“我”的自信和骄傲，老人的话，要读出由“怀疑”到“赞许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0" y="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指导朗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79280" y="189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心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11280" y="836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通过记述妈妈让“我”自己去参加电视台举行的小主持人比赛的事，赞扬了妈妈“你能行”的这种教育方式，告诉我们，要想学会本领，就应该到实际生活中去磨炼，哪怕是摔几个跟头，经几回失败也是有益的道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84120" y="384192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章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95280" y="4508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用插叙的写法写出了妈妈对“我”态度的转变而使“我”感到委屈，然后用对比的手法写出对妈妈的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-16668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0" y="4428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辨字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辅（        ）     憋（         ）        叨（         ）       锻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捕（       ）     蔽（         ）        叼（         ）        煅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填恰当的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）的灯光      （          ）的话语       （            ）纸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加（       ）    注意（          ）    打断（        ）     眼神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）的泪水在眼眶里晃了又晃，我强忍着不流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忆起两年前的往事，那（       ）的一幕又在眼前闪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课文，说说文中的妈妈是一个什么样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            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            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            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            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484360" y="4870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心良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732720" y="5300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484360" y="5302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教子有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413080" y="5734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善用计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659640" y="544500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484360" y="6093000"/>
            <a:ext cx="19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深爱子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50920" y="33336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900000" y="4762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关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格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50920" y="1158840"/>
            <a:ext cx="8569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信就是成功的第一秘诀。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迪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只有一个忠告给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你自己的主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拿破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人都应该有自尊心、自信心、独立性，不然就是奴才。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徐特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管我们踩什么样的高跷，没有自己的脚是不行的。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莱希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5145-E112-48E5-926B-4687B91836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68360" y="404640"/>
            <a:ext cx="2808360" cy="15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476360" y="141300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语气词，表示答应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嗯，就这么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68360" y="2276640"/>
            <a:ext cx="136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908000" y="335772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辅导   辅助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9640" y="4581360"/>
            <a:ext cx="1727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908000" y="551664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憋住    憋闷    憋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84360" y="260280"/>
            <a:ext cx="115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050920" y="12682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温馨     馨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1280" y="2492280"/>
            <a:ext cx="165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411280" y="350028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邮戳     戳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95280" y="4508640"/>
            <a:ext cx="223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à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627280" y="551664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眼眶     夺眶而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95280" y="404640"/>
            <a:ext cx="194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68360" y="1413000"/>
            <a:ext cx="36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锻炼    锻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55640" y="3357720"/>
            <a:ext cx="144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68360" y="436572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蓦地   蓦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95280" y="404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多音字辨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9640" y="1484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03280" y="1484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iáng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大  坚强  富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476360" y="2276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iǎ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强词夺理   强迫    强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476360" y="3068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à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强嘴  倔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76360" y="43657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ā 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撒网  撒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476360" y="5300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ǎ 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撒种   撒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39640" y="436572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84360" y="4762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近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55640" y="1197000"/>
            <a:ext cx="770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支撑        失望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扫兴    夸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夸大        赞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赞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慌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慌张        处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处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11280" y="3645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反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437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反对       失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愿         轻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紧张       赞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责怪       温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冷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79280" y="907920"/>
            <a:ext cx="871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妈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电视台将举行小主持人比赛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想去试试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您看 行吗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  不是说过嘛，只要不影响学习，什么事妈妈都支持，这件事你自己拿主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   报名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  什么时候初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明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  那今晚早些睡，注意喉咙。这回，别在让妈辅导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那我自己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-250920" y="260280"/>
            <a:ext cx="24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现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58920" y="595008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读出“我”酸溜溜的语气和妈妈平淡自然的语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187280" y="1125360"/>
            <a:ext cx="7705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 英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要加后鼻音。（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加上用手戳我的鼻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īng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夸张的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42920" y="5013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读出我的开心和妈妈的怜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692280"/>
            <a:ext cx="8066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原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相信：你能行！珍惜这次锻炼的机会吧！祝你成功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并不是不关心我，不爱我了，而是改变了爱的方式，让我学会</a:t>
            </a:r>
            <a:r>
              <a:rPr b="0" lang="zh-CN" sz="3200" spc="-1" strike="noStrike">
                <a:solidFill>
                  <a:srgbClr val="00ffff"/>
                </a:solidFill>
                <a:latin typeface="Arial"/>
              </a:rPr>
              <a:t>自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ffff"/>
                </a:solidFill>
                <a:latin typeface="Arial"/>
              </a:rPr>
              <a:t>自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02:48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0:23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