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89B7-05A0-421E-A0F6-68EB660198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D845-D90C-4643-9AA2-DCD6E121A5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DFDD-7CF5-4793-B015-10EEC5F7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F03-1899-4BE4-8811-1763751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975-B91E-41B9-9C32-50EDBB90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128-A798-49AB-AD0B-1FC9880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CAC-A44D-40D9-AA3C-D855826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D88-5D13-4D87-AB8D-8F59709A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FDF-52DF-4AF9-BE6B-AB6E030A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F4C-9BCB-4BDC-986F-9699555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2B7-B411-4C48-8467-044C88C1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2A4-CA94-4714-8F64-4C1CB0E2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911-47BA-42A6-9A3D-BA16AC85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9CD-BC9D-4221-A2A8-6361B45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B291-D881-4EBC-9524-DD580BB4D4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959120" y="1568520"/>
            <a:ext cx="50418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中宋"/>
              </a:rPr>
              <a:t>你能行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82376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334800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84360" y="549360"/>
            <a:ext cx="223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620640"/>
            <a:ext cx="86756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自理，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自设计元旦晚会，写串联词，  找交           通路线，去参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信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我”在考场里与女孩的对比，和老人的谈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2aae"/>
                </a:solidFill>
                <a:latin typeface="Arial"/>
              </a:rPr>
              <a:t>我忽然觉得，应该用母亲来称呼我的妈妈。因为，母亲，不仅仅是妈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57120" y="157176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（“母亲”和“妈妈”本是同义词，但是通过这件事，“我”觉得“母亲”这个词包含的内容更加宽广，更加神圣。“母亲”这个词仅体现了长辈对“我”的养育和关系，还体现着对“我”成长的的关注和教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465300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楷体_GB2312"/>
              </a:rPr>
              <a:t>如果说“灯光”、“话语”是妈妈以前爱的体现，“纸条”更是妈妈对女儿的鼓励，增加女儿的自信，是更深一层爱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4429080" y="32464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357120" y="1071720"/>
            <a:ext cx="814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朗读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到文中的三次对话，说说该以什么样的语气来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131840" y="4778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79280" y="907920"/>
            <a:ext cx="871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妈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电视台将举行小主持人比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想去试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您看 行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不是说过嘛，只要不影响学习，什么事妈妈都支持，这件事你自己拿主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 报名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什么时候初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 那今晚早些睡，注意喉咙。这回，别在让妈辅导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那我自己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214200"/>
            <a:ext cx="24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5950080"/>
            <a:ext cx="87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e1e2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e1e20"/>
                </a:solidFill>
                <a:latin typeface="Arial"/>
              </a:rPr>
              <a:t>读出“我”酸溜溜的语气和妈妈平淡自然的语气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187280" y="112536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 英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要加后鼻音。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加上用手戳我的鼻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ī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夸张的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：哈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68360" y="5229360"/>
            <a:ext cx="61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1e20"/>
                </a:solidFill>
                <a:latin typeface="Arial"/>
              </a:rPr>
              <a:t>读出我的开心和妈妈的怜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0" y="214200"/>
            <a:ext cx="24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二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42960" y="928800"/>
            <a:ext cx="799128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参加比赛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我笑笑，点点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  一个人来的？（怀疑的语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对，一个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人：你看，人家一个人来参加比赛，你 呢？还要家长陪！（做出朝四周望望，赞许的点点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女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我还是第一次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214200"/>
            <a:ext cx="24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三次对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92880" y="57340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出我的骄傲和老人由怀疑到赞许的语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357120" y="1071720"/>
            <a:ext cx="814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联系实际谈一谈自己曾经克服困难，自主完成某项任务的经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79280" y="189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心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11280" y="836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通过记述妈妈让“我”自己去参加电视台举行的小主持人比赛的事，赞扬了妈妈“你能行”的这种教育方式，告诉我们，要想学会本领，就应该到实际生活中去磨炼，哪怕是摔几个跟头，经几回失败也是有益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4200" y="3714840"/>
            <a:ext cx="288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95280" y="4292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用插叙的写法写出了妈妈对“我”态度的转变而使“我”感到委屈，然后用对比的手法写出对妈妈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480" y="-15408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-34920" y="590400"/>
            <a:ext cx="914400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辨字组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（        ）     憋（         ）        叨（         ）       锻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捕（       ）     蔽（         ）        叼（         ）        煅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填恰当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）的灯光      （          ）的话语       （            ）纸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加（       ）    注意（          ）    打断（        ）     眼神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）的泪水在眼眶里晃了又晃，我强忍着不流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忆起两年前的往事，那（       ）的一幕又在眼前闪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课文，说说文中的妈妈是一个什么样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       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妈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489040" y="53434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心良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732720" y="530064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489040" y="57754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子有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659640" y="544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433600" y="625968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深爱子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50920" y="33336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900000" y="476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关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格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0920" y="1158840"/>
            <a:ext cx="85690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信就是成功的第一秘诀。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只有一个忠告给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你自己的主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拿破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何人都应该有自尊心、自信心、独立性，不然就是奴才。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徐特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管我们踩什么样的高跷，没有自己的脚是不行的。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莱希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826920" y="1057320"/>
            <a:ext cx="750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自读课文，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文章分好段，说说每一部分写了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文中的的生字、新词，弄懂意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文中的多音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4360" y="4762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55640" y="1197000"/>
            <a:ext cx="770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支持——支撑        失望 ——扫兴    夸张——夸大        赞许——赞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慌乱——慌张        处理——处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3645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1280" y="4437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支持——反对       失望——如愿         轻松——紧张       赞许——责怪       温馨——冷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慌乱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27E-E0C1-4130-AEDB-71CEDB1BCD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468360" y="404640"/>
            <a:ext cx="280836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76360" y="1413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语气词，表示答应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嗯，就这么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68360" y="2276640"/>
            <a:ext cx="136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908000" y="335772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辅导   辅助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39640" y="4581360"/>
            <a:ext cx="172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908000" y="551664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憋住    憋闷    憋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684360" y="260280"/>
            <a:ext cx="1150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050920" y="1268280"/>
            <a:ext cx="36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温馨     馨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11280" y="2492280"/>
            <a:ext cx="165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ch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411280" y="350028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邮戳     戳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95280" y="4508640"/>
            <a:ext cx="223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627280" y="55166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眼眶     夺眶而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95280" y="404640"/>
            <a:ext cx="194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68360" y="1413000"/>
            <a:ext cx="36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锻炼    锻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3357720"/>
            <a:ext cx="144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68360" y="436572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蓦地   蓦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95280" y="404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多音字辨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39640" y="1484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403280" y="1484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qiáng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大  坚强  富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476360" y="2276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qi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强词夺理   强迫    强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476360" y="3068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jià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强嘴  倔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476360" y="43657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ā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网  撒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76360" y="530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ǎ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种   撒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39640" y="4365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857160" y="714240"/>
            <a:ext cx="757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~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~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部分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~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部分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~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2048760" y="2928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1e20"/>
                </a:solidFill>
                <a:latin typeface="Arial"/>
              </a:rPr>
              <a:t>（写回忆两年前妈妈的耐心指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"/>
          <p:cNvSpPr/>
          <p:nvPr/>
        </p:nvSpPr>
        <p:spPr>
          <a:xfrm>
            <a:off x="4808880" y="142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1e20"/>
                </a:solidFill>
                <a:latin typeface="Arial"/>
              </a:rPr>
              <a:t>（写我要参加比赛，妈妈让我自己做决定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2447640" y="4429080"/>
            <a:ext cx="46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1e20"/>
                </a:solidFill>
                <a:latin typeface="Arial"/>
              </a:rPr>
              <a:t>（写“我”参加比赛的准备以及赛场见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760120" y="5786280"/>
            <a:ext cx="48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1e20"/>
                </a:solidFill>
                <a:latin typeface="Arial"/>
              </a:rPr>
              <a:t>（写“我”发现纸条，理解妈妈的良苦用心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755640" y="108576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找出含义深刻地句子，读一读，交流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57120" y="0"/>
            <a:ext cx="8066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相信：你能行！珍惜这次锻炼的机会吧！祝你成功！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这句话你可以体会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357120" y="328608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30"/>
                </a:solidFill>
                <a:latin typeface="Arial"/>
              </a:rPr>
              <a:t>妈妈并不是不关心“我”，不爱“我”了，而是为了给“我”锻炼的机会，树立“我”的自信心，培养“我”的自理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2:48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18Z</dcterms:modified>
  <cp:revision>7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