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259-6036-4251-9828-EF13232E60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583C-3158-4CA6-A708-B1373E0086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384-2DAA-4DF7-AC21-9CD45044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74B-8639-4AB6-85AF-5A2A5770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35B-D6F1-4866-A335-5387D751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8D1-6B57-47E3-9B7F-F581A16B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B42-4C48-42EF-974B-38F66078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5AD-A6D9-4C6A-8D7C-402AA204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3E4-2030-46C8-8F78-45933F13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385-605C-408F-9F86-7354C482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076-E548-4254-B745-1A64EB72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571-26CF-4B4F-9ED6-632E93F5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1BC-CCEA-4777-A989-D4059E4E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C19E-9CAC-46B4-BFE8-819FFDFA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256E-DDEE-46B3-88F6-91776E091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652840" y="134784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00"/>
                </a:solidFill>
                <a:latin typeface="微软雅黑"/>
                <a:ea typeface="微软雅黑"/>
              </a:rPr>
              <a:t>难忘的八个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2700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177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547720" y="692280"/>
            <a:ext cx="381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华文中宋"/>
                <a:ea typeface="华文中宋"/>
              </a:rPr>
              <a:t> </a:t>
            </a:r>
            <a:r>
              <a:rPr b="0" lang="zh-CN" sz="3200" spc="-1" strike="noStrike">
                <a:solidFill>
                  <a:srgbClr val="9933ff"/>
                </a:solidFill>
                <a:latin typeface="华文中宋"/>
                <a:ea typeface="华文中宋"/>
              </a:rPr>
              <a:t>读</a:t>
            </a:r>
            <a:r>
              <a:rPr b="0" lang="en-US" sz="3200" spc="-1" strike="noStrike">
                <a:solidFill>
                  <a:srgbClr val="9933ff"/>
                </a:solidFill>
                <a:latin typeface="华文中宋"/>
                <a:ea typeface="华文中宋"/>
              </a:rPr>
              <a:t>3—5</a:t>
            </a:r>
            <a:r>
              <a:rPr b="0" lang="zh-CN" sz="3200" spc="-1" strike="noStrike">
                <a:solidFill>
                  <a:srgbClr val="9933ff"/>
                </a:solidFill>
                <a:latin typeface="华文中宋"/>
                <a:ea typeface="华文中宋"/>
              </a:rPr>
              <a:t>自然段</a:t>
            </a:r>
            <a:r>
              <a:rPr b="0" lang="en-US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找一找：在耳语测验时“我”是怎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想一想：“我”为什么要这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188"/>
          <p:cNvPicPr/>
          <p:nvPr/>
        </p:nvPicPr>
        <p:blipFill>
          <a:blip r:embed="rId1"/>
          <a:stretch/>
        </p:blipFill>
        <p:spPr>
          <a:xfrm>
            <a:off x="0" y="3252960"/>
            <a:ext cx="9144000" cy="3585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3512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816200" y="2963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247840" y="2243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849040" y="1243080"/>
            <a:ext cx="335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位胖胖的、很美、很可爱的老师轻轻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道：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“我愿你是我的女儿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阳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2758320" y="981000"/>
            <a:ext cx="399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八个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仿佛是一束温暖的阳光直射我的心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八个字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抚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我受伤的、幼小的心灵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改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对人生的看法，令我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终生难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2073240" y="5738760"/>
            <a:ext cx="53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188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41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难忘的八个字"/>
          <p:cNvPicPr/>
          <p:nvPr/>
        </p:nvPicPr>
        <p:blipFill>
          <a:blip r:embed="rId2"/>
          <a:stretch/>
        </p:blipFill>
        <p:spPr>
          <a:xfrm>
            <a:off x="0" y="11160"/>
            <a:ext cx="4356000" cy="4713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957120" y="1511280"/>
            <a:ext cx="479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伦纳德老师真是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位（            ）老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88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395280" y="404640"/>
            <a:ext cx="2952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11280" y="2060640"/>
            <a:ext cx="8136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用一段话，描写人物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外貌，注意抓住人的外貌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点来写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71DB-6B7C-452B-AD7A-ECB9917485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250920" y="3317040"/>
            <a:ext cx="85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喜欢的方式读课文，熟读生字词，想一想课文写了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835280" y="404640"/>
            <a:ext cx="4897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初读感知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158920" y="404640"/>
            <a:ext cx="6985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龄  嘲  厌  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唇  倾  斜  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验  述  烈  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鞋  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 rot="5400000">
            <a:off x="-1512720" y="3105000"/>
            <a:ext cx="511308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会读会写 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8" descr="177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929880" y="1125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801520" y="1125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嘲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81752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厌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83352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嘴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929880" y="2781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倾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801520" y="2781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测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673160" y="2708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复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789960" y="2781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兴高采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29880" y="443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2801520" y="4508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新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4673160" y="4508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稍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789960" y="4508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与众不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647720" y="2708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阳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775240" y="981000"/>
            <a:ext cx="399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八个字仿佛是一束温暖的阳光直射我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八个字抚慰了我受伤的、幼小的心灵，改变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对人生的看法，令我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终生难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1116000" y="5300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846800" y="534204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抚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慰问，安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264400" y="1432080"/>
            <a:ext cx="432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快速读课文，找出描写小女孩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读一读，并说一说你从中体会到小女孩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情是怎样的？为什么会有这样的心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177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47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49280" y="907920"/>
            <a:ext cx="637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随着年龄的增长，我发觉自己的长相越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越与众不同。我一跨进校门，同学们就开始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笑我。我心理很清楚，对别人来说我的模样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厌恶：一个小女孩，有着一副畸形难看的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唇，弯曲的鼻子，倾斜的牙齿，说起话来还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巴。我越来越敢肯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233720" y="3357720"/>
            <a:ext cx="650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家里人以外，没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喜欢我，更没人会疼爱我。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背景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2939400" y="765000"/>
            <a:ext cx="2817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小女孩，有着一副畸形难看的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嘴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曲的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鼻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倾斜的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牙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说起话来还结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95280" y="3284640"/>
            <a:ext cx="81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伦纳德老师胖胖的，很美，也很可爱。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金光闪闪的</a:t>
            </a: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头发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一双黑黑的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眯眯的</a:t>
            </a: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眼睛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2319480" y="581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181620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177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3289320" y="1413000"/>
            <a:ext cx="261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个孩子都喜欢她、敬慕她。但是，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人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06960" y="450864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敬慕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尊敬，仰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7:35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8:54Z</dcterms:modified>
  <cp:revision>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