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48C-AC1E-4C2F-A215-9C71A3A31D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0467-E08A-49AA-AE50-3E1785BA5B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1B8-FDAB-4262-A9CE-9D06039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16D-6BB4-42A4-9E54-1494FA15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94E-86A0-4173-B7DF-97A98FE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914-F523-4233-9ACB-93A6FD56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ED6-569E-4A50-A575-07DC8ED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194-4810-4144-A4F8-4C2E319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599-9F8A-4190-984D-14A8E1F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BDC-9058-4F7C-AC76-B086BB0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934-419F-4C2F-A172-3117BC6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936-423E-44C2-8EA0-5A60E96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D84-45C7-4A08-ADF5-7E48B5A8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C64-4E50-4148-96E2-3E2B293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9BDE-71EF-49F9-80A2-8F30375C24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656800" y="6858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牵牛星和织女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3048480" y="54133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5210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啊！青山碧水，绿树红花，男耕女织，一幅多么美丽的图画！再看看自己，只有影子相伴，觉得格外孤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33520" y="228600"/>
            <a:ext cx="5410080" cy="3657600"/>
          </a:xfrm>
          <a:prstGeom prst="cloudCallout">
            <a:avLst>
              <a:gd name="adj1" fmla="val -53611"/>
              <a:gd name="adj2" fmla="val 12370"/>
            </a:avLst>
          </a:prstGeom>
          <a:gradFill rotWithShape="0">
            <a:gsLst>
              <a:gs pos="0">
                <a:srgbClr val="3399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2-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自然段中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找出牛郎织女渴望过上美满幸福生活的句子，用   画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1828800" y="33526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52280" y="3733920"/>
            <a:ext cx="1981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织女</a:t>
            </a:r>
            <a:endParaRPr b="1" lang="en-US" sz="25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8458200" y="34290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329b0f718eaece378601b07a"/>
          <p:cNvPicPr/>
          <p:nvPr/>
        </p:nvPicPr>
        <p:blipFill>
          <a:blip r:embed="rId1"/>
          <a:stretch/>
        </p:blipFill>
        <p:spPr>
          <a:xfrm>
            <a:off x="152280" y="144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52280" y="5334120"/>
            <a:ext cx="871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耕女织：男的在耕田，女的在织布，形容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幸福美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04920" y="4814280"/>
            <a:ext cx="84931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这凄凉的笛声里，织女听出了牛郎的孤苦寂寞，也听出了他对幸福生活的渴望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59N1XG~JH~8207L]A0I]2[V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一家人"/>
          <p:cNvPicPr/>
          <p:nvPr/>
        </p:nvPicPr>
        <p:blipFill>
          <a:blip r:embed="rId1"/>
          <a:stretch/>
        </p:blipFill>
        <p:spPr>
          <a:xfrm>
            <a:off x="0" y="0"/>
            <a:ext cx="8915400" cy="5273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3505320" y="4649760"/>
            <a:ext cx="5410080" cy="2135160"/>
          </a:xfrm>
          <a:prstGeom prst="cloudCallout">
            <a:avLst>
              <a:gd name="adj1" fmla="val 42800"/>
              <a:gd name="adj2" fmla="val 3668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幸福的家庭面临拆散的时候，牛郎织女的心情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456840"/>
            <a:ext cx="8839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牛郎眼看心爱的妻子被抓走，又气又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981080"/>
            <a:ext cx="8229600" cy="147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牛郎和织女只能隔着天河遥遥相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痛苦分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385f034207e54b329313c6c0"/>
          <p:cNvPicPr/>
          <p:nvPr/>
        </p:nvPicPr>
        <p:blipFill>
          <a:blip r:embed="rId1"/>
          <a:stretch/>
        </p:blipFill>
        <p:spPr>
          <a:xfrm>
            <a:off x="468360" y="333360"/>
            <a:ext cx="7775640" cy="513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835280" y="57340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王母派天神抓织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王母开银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王母开银河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47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971640" y="61657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王母拔下头簪，划出一道波涛滚滚的天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隔着银河遥遥相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42f1c8526655bb771138c247"/>
          <p:cNvPicPr/>
          <p:nvPr/>
        </p:nvPicPr>
        <p:blipFill>
          <a:blip r:embed="rId1"/>
          <a:stretch/>
        </p:blipFill>
        <p:spPr>
          <a:xfrm>
            <a:off x="395280" y="115920"/>
            <a:ext cx="8137440" cy="5865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863640" y="609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牛郞和织女只能隔着天河遥遥相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33520" y="6019920"/>
            <a:ext cx="39621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牛郎星织女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鹊桥相会图"/>
          <p:cNvPicPr/>
          <p:nvPr/>
        </p:nvPicPr>
        <p:blipFill>
          <a:blip r:embed="rId1"/>
          <a:stretch/>
        </p:blipFill>
        <p:spPr>
          <a:xfrm>
            <a:off x="685800" y="76320"/>
            <a:ext cx="7696080" cy="5759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33520" y="6019920"/>
            <a:ext cx="411480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鹊桥相会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733920"/>
            <a:ext cx="8839080" cy="25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民间故事</a:t>
            </a:r>
            <a:r>
              <a:rPr b="0" lang="zh-CN" sz="4000" spc="-1" strike="noStrike">
                <a:solidFill>
                  <a:srgbClr val="0066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《白蛇传》、《孟姜女》、《天仙配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981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牵牛星和织女星》是一个民间传说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达了老百姓对幸福生活的追求和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0" y="522360"/>
            <a:ext cx="721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星空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17524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繁星闪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0" y="26668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舒舒服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0" y="365760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波涛滚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477120" y="365760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遥遥相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495680" y="17524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相对凝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400800" y="17524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影子相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09480" y="26668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青山绿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666880" y="26668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绿树红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590920" y="17524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漂漂亮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477120" y="26668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孤苦寂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9480" y="35812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相亲相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666880" y="365760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又气又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6E8-0D96-4D6F-A846-68B8DB262A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星空1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u=991203214,1045996269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2666880" y="3809880"/>
            <a:ext cx="194328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0400" y="5943600"/>
            <a:ext cx="247680" cy="179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16"/>
          <p:cNvSpPr txBox="1"/>
          <p:nvPr/>
        </p:nvSpPr>
        <p:spPr>
          <a:xfrm>
            <a:off x="304920" y="228600"/>
            <a:ext cx="3644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课文：小组</a:t>
            </a:r>
            <a:r>
              <a:rPr b="1" lang="en-US" sz="25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K</a:t>
            </a:r>
            <a:endParaRPr b="1" lang="en-US" sz="25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0" y="1752480"/>
            <a:ext cx="909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组成员间自选方式（齐读、分段读、分开读等）读课文，划记并且读准课文中的生字词。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划记课文中优美的四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文要求读准确、读流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生字26jpg"/>
          <p:cNvPicPr/>
          <p:nvPr/>
        </p:nvPicPr>
        <p:blipFill>
          <a:blip r:embed="rId2"/>
          <a:stretch/>
        </p:blipFill>
        <p:spPr>
          <a:xfrm>
            <a:off x="533520" y="1600200"/>
            <a:ext cx="83055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48320" y="419112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繁星闪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09480" y="32767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舒舒服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705720" y="281952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波涛滚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57200" y="411480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遥遥相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62120" y="762120"/>
            <a:ext cx="2971800" cy="916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572000" y="342900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青山绿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724280" y="26668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绿树红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09480" y="2590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漂漂亮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90920" y="266688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相亲相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14600" y="327672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又气又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43000" y="1447920"/>
            <a:ext cx="1219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219320" y="16002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124080" y="1600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105520" y="1600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914400" y="685800"/>
            <a:ext cx="2971800" cy="916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快速反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1.mp3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8"/>
          <p:cNvSpPr/>
          <p:nvPr/>
        </p:nvSpPr>
        <p:spPr>
          <a:xfrm>
            <a:off x="7279560" y="1676520"/>
            <a:ext cx="6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780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04920" y="4268160"/>
            <a:ext cx="86788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相传牛郎星和织女星是（牛郎和织女）变的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（织女）下凡，和（牛郎）过上了（幸福美满）的生活。后来，（王母娘娘）用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簪子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把牛郎和织女分隔在（银河）两岸。多年之后，牛郎织女一家人都变成了（星星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609480" y="228600"/>
            <a:ext cx="6705720" cy="2592360"/>
          </a:xfrm>
          <a:prstGeom prst="cloudCallout">
            <a:avLst>
              <a:gd name="adj1" fmla="val -46305"/>
              <a:gd name="adj2" fmla="val 31921"/>
            </a:avLst>
          </a:prstGeom>
          <a:gradFill rotWithShape="0">
            <a:gsLst>
              <a:gs pos="0">
                <a:srgbClr val="3399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小组讨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根据概括的内容将故事分为几个部分，在相应的自然段后划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</a:rPr>
              <a:t>/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28600" y="1487520"/>
            <a:ext cx="8678880" cy="34412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5dae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第一部分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自然段）：相传牛郎星和织女星是牛郎和织女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第二部分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自然段）：织女下凡，和牛郎过上了幸福美满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第三部分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自然段）：后来，王母娘娘用簪子把牛郎和织女分隔在银河两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第四部分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自然段）：多年之后，牛郎织女一家人都变成了星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6:41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59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