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8D31-ECB9-471A-83D0-D42F6F01A7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0554-B4E8-4E69-96FA-061B6C4B7D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CA1-80CA-4B28-A5DB-103D2901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DC6-57D3-4A30-8DF7-7402D3E1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087-9E6D-412D-B9BD-EDC48AB0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3DF-44FC-44CF-A73A-3F890E19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BEE05-4BF6-4B0F-A5D0-86DFA06A21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B2FA4-83CD-4E7C-81E7-E5AFACE8C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A1FBD-6675-4F95-A297-9CF7523236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C5819-D52C-46C8-9014-ADDFC0E87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8A453-677A-4678-877B-2C638C475F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10553-3338-4284-AE23-61D9E07972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536E4-BBD0-4943-A955-08D853102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F49-59FA-4530-940F-EBAE7520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FE922-4FB2-4746-8A4E-1DBF3BEB6C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84275-9228-4D5B-B1E8-AF6C8BC4AD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E82F6-0B56-4D78-8B41-47FD10937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1465F-481D-4434-906E-94DFBE80C0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B0D1D-77D7-4B81-AE69-92340426A7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605-192D-4EE3-9AE6-9A4493DC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3D5-3D11-43BD-B905-A2ACA73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4EB-1A2F-4D38-9938-BFBC1D1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D79-AAA0-4E70-AA10-7FCA035E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820-9AA5-4DB3-88C9-8BBC939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2F0-8179-44A8-BCB9-690AC66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9C7-0C6C-48CA-A04A-1AF88292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4C30-4B3E-4836-954B-07865C2C4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44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4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r>
              <a:rPr b="1" i="1" lang="zh-CN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专注教育，服务教师</a:t>
            </a: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5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C11E-7FB3-48AF-BB03-6BD69183695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219400" y="2349360"/>
            <a:ext cx="4535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穷人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1740960" y="5373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187280" y="1413000"/>
            <a:ext cx="67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826920" y="765000"/>
            <a:ext cx="777744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孩子们没有鞋穿，不论冬夏都光着脚跑来跑去；吃的是黑面包，菜只有鱼。                                                                                               她自己从早到晚不停地干活，还只能勉强填饱肚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扫得干干净净，炉子里的火还没有熄，餐具在隔板上闪闪发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屋子里没有生炉子，又潮湿又阴冷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她的心跳得很厉害，自己也不知道为什么要这样做，但是她觉得非这么做不可。．她忐忑不安地想：“他会说什么呢？这是闹着玩儿的吗？自己的五个孩子已经够他受的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他来了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，还没来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什么把他们抱过来呀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会揍我的！那也活该，我自作自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嗯，揍我一顿也好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8"/>
          <p:cNvSpPr txBox="1"/>
          <p:nvPr/>
        </p:nvSpPr>
        <p:spPr>
          <a:xfrm>
            <a:off x="684360" y="476280"/>
            <a:ext cx="20192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读提示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900000" y="21938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默读课文，根据事情发展顺序将课文划分为几个部分，并归纳每个部分的主要内容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187280" y="112536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第一部分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-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自然段）：是事情的发生，讲渔夫的妻子桑娜在海风呼啸的夜晚，焦急地等待着丈夫出海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　　第二部分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3-1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自然段）：是事情的经过部分，讲桑娜出门去探望生病的邻居西蒙，发现她已经死去，就抱回了两个遗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　　第三部分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2-27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自然段）：是事情的结果，讲渔夫出海归来，听说西蒙死了，主动提出把西蒙的两个孩子抱回来抚养，夫妻的想法不谋而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6"/>
          <p:cNvSpPr txBox="1"/>
          <p:nvPr/>
        </p:nvSpPr>
        <p:spPr>
          <a:xfrm>
            <a:off x="1403280" y="901800"/>
            <a:ext cx="2247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品读感悟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403280" y="2205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课文通篇反映了桑娜与西蒙两家的贫穷生活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吃的差、住的差、劳动条件差、还有疾病，这是沙俄时期渔民生活的真实写照。就是在这样贫穷的情况下，桑娜与渔夫却做出了令人难以相信的举动：在自己已经有五个孩子的情况下，主动收养西蒙的两个孤儿。作者歌颂了穷人的高尚品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1049400" y="5835600"/>
            <a:ext cx="57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2124000" y="1916280"/>
            <a:ext cx="624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r05"/>
          <p:cNvPicPr/>
          <p:nvPr/>
        </p:nvPicPr>
        <p:blipFill>
          <a:blip r:embed="rId2"/>
          <a:stretch/>
        </p:blipFill>
        <p:spPr>
          <a:xfrm>
            <a:off x="179280" y="3284640"/>
            <a:ext cx="1640160" cy="273996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1332000" y="105264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练习</a:t>
            </a:r>
            <a:endParaRPr b="1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998720" y="28386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．学生续写“桑娜拉开帐子”之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．积累课文中的好词好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．阅读列夫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托尔斯泰的其他作品。例如：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战争与和平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复活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等作品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96D-F4FE-4D4E-B311-5AAB2FFC16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3447000" y="566100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俄国大作家列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托尔斯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whzlt10212"/>
          <p:cNvPicPr/>
          <p:nvPr/>
        </p:nvPicPr>
        <p:blipFill>
          <a:blip r:embed="rId2"/>
          <a:stretch/>
        </p:blipFill>
        <p:spPr>
          <a:xfrm>
            <a:off x="3419640" y="1341360"/>
            <a:ext cx="2690640" cy="35305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 rot="5400000">
            <a:off x="285480" y="1522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作者简介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68360" y="54936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夫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托尔斯泰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28-1910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俄国作家，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末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初最伟大的文学家，是世界文学史上最杰出的作家之一。他写了自传体小说三部曲：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童年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少年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青年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主要作品有长篇小说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战争与和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安娜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卡列尼娜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复活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，也创作了大量的童话，是大多数人所崇拜的对象。他的作品描写了俄国革命时的人民的顽强抗争，因此被称为“俄国十月革命的镜子”列宁曾称赞他创作了世界文学中“第一流”的作品。他的作品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颗钻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跳水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穷人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被收入人教版小学语文书。罗曼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罗兰曾在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人传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里对他进行赞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628440" y="22240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课文标题，你想到了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r05"/>
          <p:cNvPicPr/>
          <p:nvPr/>
        </p:nvPicPr>
        <p:blipFill>
          <a:blip r:embed="rId2"/>
          <a:stretch/>
        </p:blipFill>
        <p:spPr>
          <a:xfrm>
            <a:off x="1187280" y="2852640"/>
            <a:ext cx="164016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268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提示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42920" y="23385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楷体"/>
              </a:rPr>
              <a:t>桑娜的丈夫为了一家七口人的生活，竟然冒着生命危险出海打鱼，清早出去，深夜未归，桑娜自己也从早到晚的干活，还只能勉强填饱肚子。可是在这么艰难的情况下，他们还抱养了邻居家的孤儿，是什么促使他们这么做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468360" y="189000"/>
            <a:ext cx="2808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词语积累</a:t>
            </a:r>
            <a:endParaRPr b="0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76360" y="1700280"/>
            <a:ext cx="61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舒适    隔板    心惊肉跳     勉强    抱怨    倾听    掀起    忐忑不安    自作自受    魁梧    湿淋淋    撕破    倒霉    缝缝补补    严肃    忧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484360" y="1413000"/>
            <a:ext cx="601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自读课文，想一想这篇课文讲了一个什么故事？谁能用两三句话把这个故事的主要内容说一说。认读生字，互相交流识字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r05"/>
          <p:cNvPicPr/>
          <p:nvPr/>
        </p:nvPicPr>
        <p:blipFill>
          <a:blip r:embed="rId2"/>
          <a:stretch/>
        </p:blipFill>
        <p:spPr>
          <a:xfrm>
            <a:off x="395280" y="3068640"/>
            <a:ext cx="1974960" cy="3298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穷人"/>
          <p:cNvPicPr/>
          <p:nvPr/>
        </p:nvPicPr>
        <p:blipFill>
          <a:blip r:embed="rId2"/>
          <a:stretch/>
        </p:blipFill>
        <p:spPr>
          <a:xfrm>
            <a:off x="1763640" y="404640"/>
            <a:ext cx="540072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"/>
          <p:cNvSpPr/>
          <p:nvPr/>
        </p:nvSpPr>
        <p:spPr>
          <a:xfrm>
            <a:off x="3906720" y="6206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正确、流利、有感情地朗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116000" y="1557360"/>
            <a:ext cx="70866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　说说桑娜家的生活怎样？从哪些地方看　  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116000" y="2708280"/>
            <a:ext cx="7696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桑娜家的生活很艰难，课文中为什么说“这间　  渔家的小屋里却温暖而舒适”呢？她的邻居西　  蒙家又是怎样的状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116000" y="4365720"/>
            <a:ext cx="73152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　桑娜在把两个孩子抱回家的时候是怎么想　  的？从哪儿看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6:18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